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01440" y="70020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F39-99CB-4B21-BE08-37558FACE99A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Design Matri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198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01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05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09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31600" y="416736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    Design Matrix       Regression Coefficie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07200" y="4805280"/>
            <a:ext cx="272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60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232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35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39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43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147760" y="4343400"/>
            <a:ext cx="725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[1 -1      0    0]   Group diff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6800" y="5181480"/>
            <a:ext cx="73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0.5 0.5]  Mean slope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80880" y="5943600"/>
            <a:ext cx="885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X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+1   -1] Group/Age InterX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280" y="-3052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ertex-wise Analysis and Infer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5720" y="914400"/>
            <a:ext cx="2713680" cy="1739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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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=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152960" y="91440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83360" y="264960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12920" y="533520"/>
            <a:ext cx="1394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eed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9760" y="1371600"/>
            <a:ext cx="7010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 (Design Matrix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 (Contrast Matrix or Matrice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 (Data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12520" y="533520"/>
            <a:ext cx="42033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ecifying X and C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9760" y="1371600"/>
            <a:ext cx="7010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X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DEC – spread sheet, et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 and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 (ascii, clear tex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81160" y="4191120"/>
            <a:ext cx="762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284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067000" y="137160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0160" y="914400"/>
                <a:ext cx="125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2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9440" y="4038480"/>
            <a:ext cx="79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afd00"/>
                </a:solidFill>
                <a:latin typeface="Times New Roman"/>
              </a:rPr>
              <a:t>{</a:t>
            </a:r>
            <a:endParaRPr b="0" lang="en-US" sz="10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-333720" y="46504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Manual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Terminolo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6600" y="1905120"/>
            <a:ext cx="868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not specify Discrete Factors in FSG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0280" y="468648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600200"/>
            <a:ext cx="70102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LM Theory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ertex-wise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umber of Regresso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ta (y)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760" y="632448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also: recon-all -qcac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343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344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356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360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382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384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388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390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395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3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399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timation and Inference: 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y=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3080" y="173736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8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8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8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040" y="60188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13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28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434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1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smoot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10680" y="23184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9360" y="1371600"/>
            <a:ext cx="9448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(X, FSGD) and Contrasts (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 (mri_surf2surf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 (mri_glmfit-si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12760" y="5850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477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479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499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510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513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516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106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27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9680" y="974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37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1960" y="119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42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51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9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64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8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74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81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3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9-05-28T20:08:28Z</dcterms:modified>
  <cp:revision>982</cp:revision>
  <dc:subject/>
  <dc:title>Understanding Differential Responses in fMRI Through Linear Simulation</dc:title>
</cp:coreProperties>
</file>