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D47-82B7-4719-964A-F12943DE0BF6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29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29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29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0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5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38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0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0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1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3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5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46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46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46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47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47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48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48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48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01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14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26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38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566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10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12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69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4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8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97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730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732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752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5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7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7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7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09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30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54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188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04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12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26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38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42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43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54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261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265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0-01-21T20:40:32Z</dcterms:modified>
  <cp:revision>921</cp:revision>
  <dc:subject/>
  <dc:title>Understanding Differential Responses in fMRI Through Linear Simulation</dc:title>
</cp:coreProperties>
</file>