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65F23C-D1C9-4438-80CA-4F37F137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A3E875-5E8F-4E7D-B6F4-B5C327B4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7B18BF-9096-49AD-8D0F-67601B03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63FB7F-0F04-4B7F-854B-8A2A60D4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7EFEBE-5A27-4D54-95F5-B6C294985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9F96BF-D14B-4BCD-AB49-8290C980F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DC95A7-1A20-46F9-9D59-118A64C69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648-03C5-458E-A7EF-53DB09E7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17B-A668-4C05-AEF1-6AEB60F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6BF-45B1-4596-8A62-3F703855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E2E-58E7-4DFE-B0AD-A931B3E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A244C-C4A6-48D3-BA6A-1672011228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BC82-4FCB-4C30-B51E-ADCBA424C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7CC7A-9EE6-4A52-AA88-CA7485C38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1425-BC55-4F75-8EAA-E24984867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7451E-FEB2-4C85-8B05-6CFA259F0C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11F4-D90A-4BA4-90CE-800C60B0A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C046D-9279-436B-B452-8211F796D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018-0F8E-4948-A7D4-BDBF262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5333-B669-432C-B068-30A9E7815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40A3-9091-4DF9-97A2-D1B8CC7F08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3186-0954-47F6-A1F3-6B9E48F37C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E4C28-FEFA-4DF7-9419-4E296A0005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34D2-E7EA-48F3-B7C5-42630F7F6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0BF-4657-40B9-B71B-CB9C6720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527-48B7-4E51-8CBE-832D401B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6A8-982C-4757-A7B0-37B3567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DD0-EC49-4F6B-ABEF-DB8A8AE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D71-5224-4AC7-AA16-958BBFA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920-A8CA-4485-A7CA-4E9ED2A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0EA-CD15-4DEA-BAB8-10E0D64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17CD-2281-4CB2-AD8A-02FAF543983E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6A7-F4E1-4F08-8FDB-555A8BEF3F96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–subject bert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bold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it-fsl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reg register.da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subjec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contr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Initialize with FSL-FLI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C767-8827-45D5-8C29-53B12BADE7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kregister2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reg register.dat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surf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isplay white 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535BB-8D3F-483A-A984-FA7D30023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4777-CDBE-4FC9-9EB8-E59A85EB5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E7F4-FB73-45E8-9619-831D1883C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E5340-E589-4088-8587-B284A5EE3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466-C147-497F-9DE2-CFD49C37D0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B21-904D-49C6-B226-F90D734D76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7F900-E285-49D7-B943-5215DF4F0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AB2A7-B383-41AD-ACC5-3CC31F3438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523880"/>
            <a:ext cx="79250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1BF-54D1-4238-B0AF-FA6E89FF9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5AFA-F0B6-46CD-A432-A48EDC49C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71560"/>
            <a:ext cx="8915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–aparc+ase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sig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2 –fmax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sig.nii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ignificance map in native functional space. could have been z, t, or F map as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register.dat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thresh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lower threshold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max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aturation threshold.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aparc+aseg – display aparc+aseg.mgz. Can load this from the interface too</a:t>
            </a:r>
            <a:r>
              <a:rPr b="0" lang="en-US" sz="2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D2CAC-4C81-4320-92D9-4E5700416A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67080" y="762120"/>
            <a:ext cx="3916080" cy="3352680"/>
            <a:chOff x="4267080" y="762120"/>
            <a:chExt cx="391608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5276" t="10173" r="5018" b="15256"/>
            <a:stretch/>
          </p:blipFill>
          <p:spPr>
            <a:xfrm>
              <a:off x="4267080" y="762120"/>
              <a:ext cx="38862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V="1">
              <a:off x="6705360" y="152388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9440" y="12193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5400" y="1219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152388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3809880"/>
            <a:ext cx="2895480" cy="2362320"/>
            <a:chOff x="533520" y="3809880"/>
            <a:chExt cx="2895480" cy="2362320"/>
          </a:xfrm>
        </p:grpSpPr>
        <p:sp>
          <p:nvSpPr>
            <p:cNvPr id="277" name=""/>
            <p:cNvSpPr/>
            <p:nvPr/>
          </p:nvSpPr>
          <p:spPr>
            <a:xfrm>
              <a:off x="533520" y="3809880"/>
              <a:ext cx="2514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White/G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Half 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541008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rojection 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--projfrac 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rcRect l="10530" t="39430" r="2629" b="19871"/>
          <a:stretch/>
        </p:blipFill>
        <p:spPr>
          <a:xfrm>
            <a:off x="3733920" y="4191120"/>
            <a:ext cx="5029200" cy="2438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1318" t="20352" r="2629" b="16056"/>
          <a:stretch/>
        </p:blipFill>
        <p:spPr>
          <a:xfrm>
            <a:off x="304920" y="990720"/>
            <a:ext cx="3429000" cy="23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V="1">
            <a:off x="6151680" y="2361960"/>
            <a:ext cx="457200" cy="2819160"/>
          </a:xfrm>
          <a:prstGeom prst="line">
            <a:avLst/>
          </a:prstGeom>
          <a:ln w="38160">
            <a:solidFill>
              <a:srgbClr val="f10d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1262" t="21674" r="1262" b="19841"/>
          <a:stretch/>
        </p:blipFill>
        <p:spPr>
          <a:xfrm>
            <a:off x="4190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rcRect l="1262" t="21674" r="1262" b="19841"/>
          <a:stretch/>
        </p:blipFill>
        <p:spPr>
          <a:xfrm>
            <a:off x="33908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1262" t="21674" r="1262" b="19841"/>
          <a:stretch/>
        </p:blipFill>
        <p:spPr>
          <a:xfrm>
            <a:off x="632628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rcRect l="1262" t="21674" r="1262" b="19841"/>
          <a:stretch/>
        </p:blipFill>
        <p:spPr>
          <a:xfrm>
            <a:off x="4190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1262" t="21674" r="1262" b="19841"/>
          <a:stretch/>
        </p:blipFill>
        <p:spPr>
          <a:xfrm>
            <a:off x="33908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1262" t="21674" r="1262" b="19841"/>
          <a:stretch/>
        </p:blipFill>
        <p:spPr>
          <a:xfrm>
            <a:off x="632448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rcRect l="1262" t="21674" r="1262" b="19841"/>
          <a:stretch/>
        </p:blipFill>
        <p:spPr>
          <a:xfrm>
            <a:off x="419040" y="5084640"/>
            <a:ext cx="2594160" cy="1609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rcRect l="1262" t="21674" r="1262" b="19841"/>
          <a:stretch/>
        </p:blipFill>
        <p:spPr>
          <a:xfrm>
            <a:off x="3392640" y="50846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rcRect l="1262" t="21674" r="1262" b="19841"/>
          <a:stretch/>
        </p:blipFill>
        <p:spPr>
          <a:xfrm>
            <a:off x="6326280" y="5084640"/>
            <a:ext cx="259236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80880" y="59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204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5904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0240" y="59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 (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6360" y="466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0 (p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40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99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9160" y="-3816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: Projection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31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3341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ksurfer subject lh inflated -aparc   –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00" y="121932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64A69-5160-4D38-B14E-CE44B8E071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317-7270-4321-A1B8-AF0CF67EA9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Full Anatomical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371600" y="942840"/>
            <a:ext cx="5846760" cy="3171600"/>
            <a:chOff x="1371600" y="942840"/>
            <a:chExt cx="5846760" cy="317160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1371600" y="942840"/>
              <a:ext cx="3003480" cy="31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4214880" y="942840"/>
              <a:ext cx="3003480" cy="31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"/>
          <p:cNvSpPr/>
          <p:nvPr/>
        </p:nvSpPr>
        <p:spPr>
          <a:xfrm>
            <a:off x="1447920" y="42670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average functional HRF amplitudes from all voxels inside of post-central gyrus (red) regardless of whether a voxel is significant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68AA6-B91A-4D9D-917F-D34F1EFA48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371600"/>
            <a:ext cx="56386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mov ces.nii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ces.anat.m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6440" y="4343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6200" y="1395360"/>
            <a:ext cx="5375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RF map in function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Nearest neighbor interp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pecify anatomical output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file in anatomic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BF4FA-25CC-4C0A-9CC1-7EABF24593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2952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657C9-1F03-47C7-A62C-9ED0241E4D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verage HRF within a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unctionally Activ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area inside of an Anatomical ROI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371600" y="1046160"/>
            <a:ext cx="5846760" cy="3171600"/>
            <a:chOff x="1371600" y="1046160"/>
            <a:chExt cx="5846760" cy="317160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1371600" y="1046160"/>
              <a:ext cx="3003480" cy="31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4214880" y="1046160"/>
              <a:ext cx="3003480" cy="31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380880" y="53341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regardless of sign (yellow or blue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for positive activation (yellow only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for negative activation (blu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average functional HRF amplitudes from voxels inside of post-central gyrus (red) for voxels tha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FB7D8-4715-4CEC-BE66-BCDB10D8F5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6440" y="434196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3716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mov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nii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anat.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95BA0-427B-45C6-9D12-380736DCDE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295280"/>
            <a:ext cx="8763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344340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C5BDD-CF9C-470F-AD85-591A7794A6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371600"/>
            <a:ext cx="830592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s_preproc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hemi l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lh.fsaverage.ces.mg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1/ces.nii subject1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2/ces.nii subject2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3/ces.nii subject3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s_fwhm --i lh.fsaverage.ces.mgh --fwhm 10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lh.fsaverage.ces.sm10.mgh --corte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glmfit --surf fsaverage lh –cortex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y lh.fsaverage.ces.sm10.mgh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9E16A-BE45-4198-BA28-A00A248966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-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 D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104A-6A3E-43BC-8FEF-01A9FBB8DC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430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428BC-6C85-4F28-A009-C75BC60325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580-FA5C-472F-B876-BEB84E1CAE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6E7-5995-41DF-AB3E-77D5DC515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524E8-8CE4-424F-8370-B786F60B1E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245F0-75E0-46A9-8CF3-7016BA8264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69612-9D8C-45E2-9884-7BEF330EEC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3B607-D7B8-4072-8C86-BDE656DA40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greve</cp:lastModifiedBy>
  <dcterms:modified xsi:type="dcterms:W3CDTF">2011-03-28T13:51:05Z</dcterms:modified>
  <cp:revision>871</cp:revision>
  <dc:subject/>
  <dc:title>Multimodal Integration in FreeSurfer</dc:title>
</cp:coreProperties>
</file>