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852F-DB8A-42CA-B00C-D9441524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EFB-BDEB-4DB6-BE3A-87FACCA1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C13-5B5D-4C2D-BB22-390723DDA4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894-AB59-4CA5-A07D-6FC524B2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0F63-1393-4C80-9CFC-ED52DAF121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F90-901A-4238-B4BF-54156BF9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1ED6-EE37-4AC8-858E-D5EB8698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2CDF-934A-4C67-B87F-CD428A312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808-AC95-4CC1-8EC4-9A52B498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31D-7DCA-4892-A80A-0C03092C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9C4-8EB7-4CCC-BB36-39A4DA37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553-619B-4249-B57C-3866EDE6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8E0-642A-4AFD-AC32-A5088D9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3AB-E8A9-4086-A949-965D7B81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43B-BD6D-4EE9-89E6-64C0ECF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780-F1EF-4C12-9EC1-EC6326F0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064-2938-4964-82A0-FA288FC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6D9-A11B-4DA9-8B56-90AC056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1C4-0048-4643-B605-38225CC0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63B-7475-48AD-8FAB-10DC8E2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C97F-3A18-4F8B-80A7-8993C3E4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590920" cy="4172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 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09320" y="373392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80720" y="320040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62320" y="4648320"/>
            <a:ext cx="3045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76520" y="2590920"/>
            <a:ext cx="38088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600200"/>
            <a:ext cx="0" cy="502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2828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Parcellation vs. Segment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6002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subcortical)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600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cortical) parc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4602240" cy="4602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6520" y="2133720"/>
            <a:ext cx="121896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419720"/>
            <a:ext cx="121932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57800" y="3581280"/>
            <a:ext cx="91440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05520" y="4191120"/>
            <a:ext cx="914400" cy="838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reeSurfer Ques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arch for terms and answer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all your questions in the Glossary, FAQ, 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eSurfer Mailing List Archiv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gistration 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Goal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o find a common coordinate system for the input data s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different MRI images of the same individual (longitudinal scans, diffusion vs functional scans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MRI images of different individual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0" y="3505320"/>
            <a:ext cx="3479760" cy="3209760"/>
            <a:chOff x="0" y="3505320"/>
            <a:chExt cx="3479760" cy="3209760"/>
          </a:xfrm>
        </p:grpSpPr>
        <p:pic>
          <p:nvPicPr>
            <p:cNvPr id="151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0" y="3505320"/>
              <a:ext cx="3479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10"/>
            <p:cNvSpPr/>
            <p:nvPr/>
          </p:nvSpPr>
          <p:spPr>
            <a:xfrm>
              <a:off x="1080" y="6337440"/>
              <a:ext cx="1299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336280" y="914400"/>
            <a:ext cx="2741040" cy="2666880"/>
            <a:chOff x="5336280" y="914400"/>
            <a:chExt cx="2741040" cy="2666880"/>
          </a:xfrm>
        </p:grpSpPr>
        <p:pic>
          <p:nvPicPr>
            <p:cNvPr id="154" name="Picture 5" descr="subject-coronal-norm.png"/>
            <p:cNvPicPr/>
            <p:nvPr/>
          </p:nvPicPr>
          <p:blipFill>
            <a:blip r:embed="rId2"/>
            <a:srcRect l="33513" t="25667" r="37827" b="13226"/>
            <a:stretch/>
          </p:blipFill>
          <p:spPr>
            <a:xfrm>
              <a:off x="5715000" y="914400"/>
              <a:ext cx="23623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20"/>
            <p:cNvSpPr/>
            <p:nvPr/>
          </p:nvSpPr>
          <p:spPr>
            <a:xfrm>
              <a:off x="5336280" y="318780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04920" y="762120"/>
            <a:ext cx="6102360" cy="5952960"/>
            <a:chOff x="304920" y="762120"/>
            <a:chExt cx="6102360" cy="5952960"/>
          </a:xfrm>
        </p:grpSpPr>
        <p:grpSp>
          <p:nvGrpSpPr>
            <p:cNvPr id="157" name="Group 14"/>
            <p:cNvGrpSpPr/>
            <p:nvPr/>
          </p:nvGrpSpPr>
          <p:grpSpPr>
            <a:xfrm>
              <a:off x="3144960" y="3505320"/>
              <a:ext cx="3262320" cy="3209760"/>
              <a:chOff x="3144960" y="3505320"/>
              <a:chExt cx="3262320" cy="3209760"/>
            </a:xfrm>
          </p:grpSpPr>
          <p:pic>
            <p:nvPicPr>
              <p:cNvPr id="158" name="Picture 12" descr="subject-flirt9dof-coronal-norm.png"/>
              <p:cNvPicPr/>
              <p:nvPr/>
            </p:nvPicPr>
            <p:blipFill>
              <a:blip r:embed="rId3"/>
              <a:srcRect l="31514" t="13226" r="28888" b="13226"/>
              <a:stretch/>
            </p:blipFill>
            <p:spPr>
              <a:xfrm>
                <a:off x="3144960" y="3505320"/>
                <a:ext cx="3262320" cy="32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Box 13"/>
              <p:cNvSpPr/>
              <p:nvPr/>
            </p:nvSpPr>
            <p:spPr>
              <a:xfrm>
                <a:off x="3158640" y="6324840"/>
                <a:ext cx="1299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lirt 9 D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Content Placeholder 4" descr="target-coronal-norm.png"/>
            <p:cNvPicPr/>
            <p:nvPr/>
          </p:nvPicPr>
          <p:blipFill>
            <a:blip r:embed="rId4"/>
            <a:srcRect l="28888" t="22187" r="33152" b="13226"/>
            <a:stretch/>
          </p:blipFill>
          <p:spPr>
            <a:xfrm>
              <a:off x="304920" y="762120"/>
              <a:ext cx="3124080" cy="28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26"/>
            <p:cNvSpPr/>
            <p:nvPr/>
          </p:nvSpPr>
          <p:spPr>
            <a:xfrm>
              <a:off x="306720" y="31147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, un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3" name="Group 17"/>
          <p:cNvGrpSpPr/>
          <p:nvPr/>
        </p:nvGrpSpPr>
        <p:grpSpPr>
          <a:xfrm>
            <a:off x="6072120" y="3505320"/>
            <a:ext cx="3095640" cy="3208320"/>
            <a:chOff x="6072120" y="3505320"/>
            <a:chExt cx="3095640" cy="3208320"/>
          </a:xfrm>
        </p:grpSpPr>
        <p:pic>
          <p:nvPicPr>
            <p:cNvPr id="164" name="Picture 15" descr="subject-flirt12dof-coronal-norm.png"/>
            <p:cNvPicPr/>
            <p:nvPr/>
          </p:nvPicPr>
          <p:blipFill>
            <a:blip r:embed="rId5"/>
            <a:srcRect l="33264" t="13226" r="28888" b="13226"/>
            <a:stretch/>
          </p:blipFill>
          <p:spPr>
            <a:xfrm>
              <a:off x="6072120" y="3505320"/>
              <a:ext cx="3095640" cy="31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16"/>
            <p:cNvSpPr/>
            <p:nvPr/>
          </p:nvSpPr>
          <p:spPr>
            <a:xfrm>
              <a:off x="7708680" y="634536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2971800" y="1984320"/>
            <a:ext cx="3479760" cy="3210120"/>
            <a:chOff x="2971800" y="1984320"/>
            <a:chExt cx="3479760" cy="3210120"/>
          </a:xfrm>
        </p:grpSpPr>
        <p:pic>
          <p:nvPicPr>
            <p:cNvPr id="169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10"/>
            <p:cNvSpPr/>
            <p:nvPr/>
          </p:nvSpPr>
          <p:spPr>
            <a:xfrm>
              <a:off x="2978640" y="48160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2"/>
          <p:cNvGrpSpPr/>
          <p:nvPr/>
        </p:nvGrpSpPr>
        <p:grpSpPr>
          <a:xfrm>
            <a:off x="2978640" y="1984320"/>
            <a:ext cx="3485520" cy="3210120"/>
            <a:chOff x="2978640" y="1984320"/>
            <a:chExt cx="3485520" cy="3210120"/>
          </a:xfrm>
        </p:grpSpPr>
        <p:pic>
          <p:nvPicPr>
            <p:cNvPr id="172" name="Picture 12" descr="subject-flirt9dof-coronal-norm.png"/>
            <p:cNvPicPr/>
            <p:nvPr/>
          </p:nvPicPr>
          <p:blipFill>
            <a:blip r:embed="rId2"/>
            <a:srcRect l="28888" t="13226" r="28888" b="13226"/>
            <a:stretch/>
          </p:blipFill>
          <p:spPr>
            <a:xfrm>
              <a:off x="2983680" y="1984320"/>
              <a:ext cx="348048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13"/>
            <p:cNvSpPr/>
            <p:nvPr/>
          </p:nvSpPr>
          <p:spPr>
            <a:xfrm>
              <a:off x="2978640" y="480420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4"/>
          <p:cNvGrpSpPr/>
          <p:nvPr/>
        </p:nvGrpSpPr>
        <p:grpSpPr>
          <a:xfrm>
            <a:off x="2971800" y="1984320"/>
            <a:ext cx="3454560" cy="3187440"/>
            <a:chOff x="2971800" y="1984320"/>
            <a:chExt cx="3454560" cy="3187440"/>
          </a:xfrm>
        </p:grpSpPr>
        <p:pic>
          <p:nvPicPr>
            <p:cNvPr id="175" name="Picture 15" descr="subject-flirt12dof-coronal-norm.png"/>
            <p:cNvPicPr/>
            <p:nvPr/>
          </p:nvPicPr>
          <p:blipFill>
            <a:blip r:embed="rId3"/>
            <a:srcRect l="28888" t="13226" r="28888" b="13226"/>
            <a:stretch/>
          </p:blipFill>
          <p:spPr>
            <a:xfrm>
              <a:off x="2971800" y="1984320"/>
              <a:ext cx="3454560" cy="31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16"/>
            <p:cNvSpPr/>
            <p:nvPr/>
          </p:nvSpPr>
          <p:spPr>
            <a:xfrm>
              <a:off x="2981520" y="480348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7"/>
          <p:cNvGrpSpPr/>
          <p:nvPr/>
        </p:nvGrpSpPr>
        <p:grpSpPr>
          <a:xfrm>
            <a:off x="2932920" y="1984320"/>
            <a:ext cx="3518640" cy="3210120"/>
            <a:chOff x="2932920" y="1984320"/>
            <a:chExt cx="3518640" cy="3210120"/>
          </a:xfrm>
        </p:grpSpPr>
        <p:pic>
          <p:nvPicPr>
            <p:cNvPr id="178" name="Picture 5" descr="subject-coronal-norm.png"/>
            <p:cNvPicPr/>
            <p:nvPr/>
          </p:nvPicPr>
          <p:blipFill>
            <a:blip r:embed="rId4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20"/>
            <p:cNvSpPr/>
            <p:nvPr/>
          </p:nvSpPr>
          <p:spPr>
            <a:xfrm>
              <a:off x="2932920" y="48009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3"/>
          <p:cNvGrpSpPr/>
          <p:nvPr/>
        </p:nvGrpSpPr>
        <p:grpSpPr>
          <a:xfrm>
            <a:off x="2971800" y="1984320"/>
            <a:ext cx="3475080" cy="3205080"/>
            <a:chOff x="2971800" y="1984320"/>
            <a:chExt cx="3475080" cy="3205080"/>
          </a:xfrm>
        </p:grpSpPr>
        <p:pic>
          <p:nvPicPr>
            <p:cNvPr id="181" name="Content Placeholder 4" descr="target-coronal-norm.png"/>
            <p:cNvPicPr/>
            <p:nvPr/>
          </p:nvPicPr>
          <p:blipFill>
            <a:blip r:embed="rId5"/>
            <a:srcRect l="28888" t="13226" r="28888" b="13226"/>
            <a:stretch/>
          </p:blipFill>
          <p:spPr>
            <a:xfrm>
              <a:off x="2971800" y="1984320"/>
              <a:ext cx="347508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26"/>
            <p:cNvSpPr/>
            <p:nvPr/>
          </p:nvSpPr>
          <p:spPr>
            <a:xfrm>
              <a:off x="2973600" y="47275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6" name="Picture 12" descr="target-axial-norm.png"/>
            <p:cNvPicPr/>
            <p:nvPr/>
          </p:nvPicPr>
          <p:blipFill>
            <a:blip r:embed="rId1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16"/>
            <p:cNvSpPr/>
            <p:nvPr/>
          </p:nvSpPr>
          <p:spPr>
            <a:xfrm>
              <a:off x="3205080" y="60991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9" name="Picture 11" descr="subject-axial-norm.png"/>
            <p:cNvPicPr/>
            <p:nvPr/>
          </p:nvPicPr>
          <p:blipFill>
            <a:blip r:embed="rId2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18"/>
            <p:cNvSpPr/>
            <p:nvPr/>
          </p:nvSpPr>
          <p:spPr>
            <a:xfrm>
              <a:off x="2977920" y="609912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2" name="Picture 20" descr="subject-flirt6dof-axial-norm.png"/>
            <p:cNvPicPr/>
            <p:nvPr/>
          </p:nvPicPr>
          <p:blipFill>
            <a:blip r:embed="rId3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21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5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5" name="Picture 23" descr="subject-flirt9dof-axial-norm.png"/>
            <p:cNvPicPr/>
            <p:nvPr/>
          </p:nvPicPr>
          <p:blipFill>
            <a:blip r:embed="rId4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24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8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8" name="Picture 26" descr="subject-flirt12dof-axial-norm.png"/>
            <p:cNvPicPr/>
            <p:nvPr/>
          </p:nvPicPr>
          <p:blipFill>
            <a:blip r:embed="rId5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Box 27"/>
            <p:cNvSpPr/>
            <p:nvPr/>
          </p:nvSpPr>
          <p:spPr>
            <a:xfrm>
              <a:off x="3582360" y="612468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3" name="Picture 8" descr="target-sagittal-norm.png"/>
            <p:cNvPicPr/>
            <p:nvPr/>
          </p:nvPicPr>
          <p:blipFill>
            <a:blip r:embed="rId1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10"/>
            <p:cNvSpPr/>
            <p:nvPr/>
          </p:nvSpPr>
          <p:spPr>
            <a:xfrm>
              <a:off x="3116520" y="54892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3"/>
          <p:cNvGrpSpPr/>
          <p:nvPr/>
        </p:nvGrpSpPr>
        <p:grpSpPr>
          <a:xfrm>
            <a:off x="2971800" y="1984320"/>
            <a:ext cx="4741920" cy="3961440"/>
            <a:chOff x="2971800" y="1984320"/>
            <a:chExt cx="4741920" cy="3961440"/>
          </a:xfrm>
        </p:grpSpPr>
        <p:pic>
          <p:nvPicPr>
            <p:cNvPr id="206" name="Picture 7" descr="subject-sagittal-norm.png"/>
            <p:cNvPicPr/>
            <p:nvPr/>
          </p:nvPicPr>
          <p:blipFill>
            <a:blip r:embed="rId2"/>
            <a:srcRect l="21009" t="8266" r="27139" b="9920"/>
            <a:stretch/>
          </p:blipFill>
          <p:spPr>
            <a:xfrm>
              <a:off x="2971800" y="1984320"/>
              <a:ext cx="4741920" cy="39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12"/>
            <p:cNvSpPr/>
            <p:nvPr/>
          </p:nvSpPr>
          <p:spPr>
            <a:xfrm>
              <a:off x="3088440" y="55774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9" name="Picture 14" descr="subject-flirt6dof-sagittal-norm.png"/>
            <p:cNvPicPr/>
            <p:nvPr/>
          </p:nvPicPr>
          <p:blipFill>
            <a:blip r:embed="rId3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5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9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12" name="Picture 17" descr="subject-flirt9dof-sagittal-norm.png"/>
            <p:cNvPicPr/>
            <p:nvPr/>
          </p:nvPicPr>
          <p:blipFill>
            <a:blip r:embed="rId4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8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2"/>
          <p:cNvGrpSpPr/>
          <p:nvPr/>
        </p:nvGrpSpPr>
        <p:grpSpPr>
          <a:xfrm>
            <a:off x="2971800" y="1984320"/>
            <a:ext cx="4741920" cy="3988080"/>
            <a:chOff x="2971800" y="1984320"/>
            <a:chExt cx="4741920" cy="3988080"/>
          </a:xfrm>
        </p:grpSpPr>
        <p:pic>
          <p:nvPicPr>
            <p:cNvPr id="215" name="Picture 20" descr="subject-flirt12dof-sagittal-norm.png"/>
            <p:cNvPicPr/>
            <p:nvPr/>
          </p:nvPicPr>
          <p:blipFill>
            <a:blip r:embed="rId5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21"/>
            <p:cNvSpPr/>
            <p:nvPr/>
          </p:nvSpPr>
          <p:spPr>
            <a:xfrm>
              <a:off x="3185640" y="560412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FreeSurfer Does…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reeSurfer creates computerized models of the brain from MRI data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3000240"/>
            <a:ext cx="2565360" cy="2565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8750" t="12505" r="17192" b="0"/>
          <a:stretch/>
        </p:blipFill>
        <p:spPr>
          <a:xfrm>
            <a:off x="1447920" y="3000240"/>
            <a:ext cx="1896840" cy="259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-weighted (MP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d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414324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&amp; parcellated conformed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mg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a-subject, mult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Content Placeholder 4" descr="target-coronal-norm-fordiff.png"/>
          <p:cNvPicPr/>
          <p:nvPr/>
        </p:nvPicPr>
        <p:blipFill>
          <a:blip r:embed="rId1"/>
          <a:srcRect l="28012" t="8266" r="28012" b="21493"/>
          <a:stretch/>
        </p:blipFill>
        <p:spPr>
          <a:xfrm>
            <a:off x="92160" y="1398600"/>
            <a:ext cx="3031920" cy="2563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target-fa-unaligned-coronal.png"/>
          <p:cNvPicPr/>
          <p:nvPr/>
        </p:nvPicPr>
        <p:blipFill>
          <a:blip r:embed="rId2"/>
          <a:srcRect l="28012" t="8266" r="28012" b="29846"/>
          <a:stretch/>
        </p:blipFill>
        <p:spPr>
          <a:xfrm>
            <a:off x="2895480" y="1398600"/>
            <a:ext cx="3032280" cy="225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target-fa-aligned-coronal.png"/>
          <p:cNvPicPr/>
          <p:nvPr/>
        </p:nvPicPr>
        <p:blipFill>
          <a:blip r:embed="rId3"/>
          <a:srcRect l="28012" t="18707" r="28012" b="21493"/>
          <a:stretch/>
        </p:blipFill>
        <p:spPr>
          <a:xfrm>
            <a:off x="2900520" y="4114800"/>
            <a:ext cx="3031920" cy="2182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target-fa-unaligned-with-struct-coronal.png"/>
          <p:cNvPicPr/>
          <p:nvPr/>
        </p:nvPicPr>
        <p:blipFill>
          <a:blip r:embed="rId4"/>
          <a:srcRect l="28012" t="8266" r="28012" b="25672"/>
          <a:stretch/>
        </p:blipFill>
        <p:spPr>
          <a:xfrm>
            <a:off x="5962680" y="1398600"/>
            <a:ext cx="3031920" cy="241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target-fa-aligned-with-struct-coronal.png"/>
          <p:cNvPicPr/>
          <p:nvPr/>
        </p:nvPicPr>
        <p:blipFill>
          <a:blip r:embed="rId5"/>
          <a:srcRect l="28012" t="20794" r="28012" b="21493"/>
          <a:stretch/>
        </p:blipFill>
        <p:spPr>
          <a:xfrm>
            <a:off x="5962680" y="4191120"/>
            <a:ext cx="3031920" cy="2106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0"/>
          <p:cNvSpPr/>
          <p:nvPr/>
        </p:nvSpPr>
        <p:spPr>
          <a:xfrm>
            <a:off x="4652640" y="365760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4727880" y="633564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Content Placeholder 4" descr="target-fa-aligned-with-struct-axial.png"/>
          <p:cNvPicPr/>
          <p:nvPr/>
        </p:nvPicPr>
        <p:blipFill>
          <a:blip r:embed="rId1"/>
          <a:srcRect l="24513" t="0" r="24513" b="1653"/>
          <a:stretch/>
        </p:blipFill>
        <p:spPr>
          <a:xfrm>
            <a:off x="594828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target-fa-aligned-axial.png"/>
          <p:cNvPicPr/>
          <p:nvPr/>
        </p:nvPicPr>
        <p:blipFill>
          <a:blip r:embed="rId2"/>
          <a:srcRect l="24513" t="0" r="24513" b="1653"/>
          <a:stretch/>
        </p:blipFill>
        <p:spPr>
          <a:xfrm>
            <a:off x="297180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target-fa-unaligned-axial.png"/>
          <p:cNvPicPr/>
          <p:nvPr/>
        </p:nvPicPr>
        <p:blipFill>
          <a:blip r:embed="rId3"/>
          <a:srcRect l="24513" t="0" r="24513" b="1653"/>
          <a:stretch/>
        </p:blipFill>
        <p:spPr>
          <a:xfrm>
            <a:off x="2967120" y="241200"/>
            <a:ext cx="3195720" cy="326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target-norm-axial-for-diff.png"/>
          <p:cNvPicPr/>
          <p:nvPr/>
        </p:nvPicPr>
        <p:blipFill>
          <a:blip r:embed="rId4"/>
          <a:srcRect l="24513" t="0" r="28012" b="10835"/>
          <a:stretch/>
        </p:blipFill>
        <p:spPr>
          <a:xfrm>
            <a:off x="-9360" y="241200"/>
            <a:ext cx="2976480" cy="2959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target-fa-unaligned-with-struct-axial.png"/>
          <p:cNvPicPr/>
          <p:nvPr/>
        </p:nvPicPr>
        <p:blipFill>
          <a:blip r:embed="rId5"/>
          <a:srcRect l="24513" t="0" r="24513" b="1653"/>
          <a:stretch/>
        </p:blipFill>
        <p:spPr>
          <a:xfrm>
            <a:off x="5943600" y="241200"/>
            <a:ext cx="3195720" cy="32641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321120" y="320040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395640" y="587844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ontent Placeholder 4" descr="target-fa-unaligned-with-struct-sagittal.png"/>
          <p:cNvPicPr/>
          <p:nvPr/>
        </p:nvPicPr>
        <p:blipFill>
          <a:blip r:embed="rId1"/>
          <a:srcRect l="21009" t="4960" r="21009" b="13226"/>
          <a:stretch/>
        </p:blipFill>
        <p:spPr>
          <a:xfrm>
            <a:off x="575136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target-fa-aligned-sagittal.png"/>
          <p:cNvPicPr/>
          <p:nvPr/>
        </p:nvPicPr>
        <p:blipFill>
          <a:blip r:embed="rId2"/>
          <a:srcRect l="21009" t="14801" r="21009" b="13226"/>
          <a:stretch/>
        </p:blipFill>
        <p:spPr>
          <a:xfrm>
            <a:off x="2441520" y="3886200"/>
            <a:ext cx="3390840" cy="2228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target-fa-unaligned-sagittal.png"/>
          <p:cNvPicPr/>
          <p:nvPr/>
        </p:nvPicPr>
        <p:blipFill>
          <a:blip r:embed="rId3"/>
          <a:srcRect l="21009" t="4960" r="21009" b="13226"/>
          <a:stretch/>
        </p:blipFill>
        <p:spPr>
          <a:xfrm>
            <a:off x="243828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target-norm-sagittal-for-diff.png"/>
          <p:cNvPicPr/>
          <p:nvPr/>
        </p:nvPicPr>
        <p:blipFill>
          <a:blip r:embed="rId4"/>
          <a:srcRect l="29763" t="4960" r="28012" b="13226"/>
          <a:stretch/>
        </p:blipFill>
        <p:spPr>
          <a:xfrm>
            <a:off x="0" y="685800"/>
            <a:ext cx="2470320" cy="253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arget-fa-aligned-with-struct-sagittal.png"/>
          <p:cNvPicPr/>
          <p:nvPr/>
        </p:nvPicPr>
        <p:blipFill>
          <a:blip r:embed="rId5"/>
          <a:srcRect l="21009" t="14801" r="21009" b="13226"/>
          <a:stretch/>
        </p:blipFill>
        <p:spPr>
          <a:xfrm>
            <a:off x="5751360" y="3886200"/>
            <a:ext cx="3392640" cy="2228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0"/>
          <p:cNvSpPr/>
          <p:nvPr/>
        </p:nvSpPr>
        <p:spPr>
          <a:xfrm>
            <a:off x="4652640" y="350532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4727880" y="618336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 non-linear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3" name="Content Placeholder 6" descr="target-coronal-norm.mgz.png"/>
          <p:cNvPicPr/>
          <p:nvPr/>
        </p:nvPicPr>
        <p:blipFill>
          <a:blip r:embed="rId1"/>
          <a:srcRect l="28888" t="13226" r="28888" b="13226"/>
          <a:stretch/>
        </p:blipFill>
        <p:spPr>
          <a:xfrm>
            <a:off x="380880" y="2592360"/>
            <a:ext cx="3881520" cy="3579840"/>
          </a:xfrm>
          <a:prstGeom prst="rect">
            <a:avLst/>
          </a:prstGeom>
          <a:ln w="0">
            <a:noFill/>
          </a:ln>
        </p:spPr>
      </p:pic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2"/>
          <p:cNvGrpSpPr/>
          <p:nvPr/>
        </p:nvGrpSpPr>
        <p:grpSpPr>
          <a:xfrm>
            <a:off x="385920" y="2590920"/>
            <a:ext cx="8351640" cy="3569040"/>
            <a:chOff x="385920" y="2590920"/>
            <a:chExt cx="8351640" cy="3569040"/>
          </a:xfrm>
        </p:grpSpPr>
        <p:sp>
          <p:nvSpPr>
            <p:cNvPr id="246" name="TextBox 9"/>
            <p:cNvSpPr/>
            <p:nvPr/>
          </p:nvSpPr>
          <p:spPr>
            <a:xfrm>
              <a:off x="385920" y="57916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1"/>
            <p:cNvGrpSpPr/>
            <p:nvPr/>
          </p:nvGrpSpPr>
          <p:grpSpPr>
            <a:xfrm>
              <a:off x="4876560" y="2590920"/>
              <a:ext cx="3861000" cy="3569040"/>
              <a:chOff x="4876560" y="2590920"/>
              <a:chExt cx="3861000" cy="3569040"/>
            </a:xfrm>
          </p:grpSpPr>
          <p:pic>
            <p:nvPicPr>
              <p:cNvPr id="248" name="Picture 8" descr="subjectCVS-coronal-norm.mgz.png"/>
              <p:cNvPicPr/>
              <p:nvPr/>
            </p:nvPicPr>
            <p:blipFill>
              <a:blip r:embed="rId2"/>
              <a:srcRect l="28888" t="13226" r="28888" b="13226"/>
              <a:stretch/>
            </p:blipFill>
            <p:spPr>
              <a:xfrm>
                <a:off x="4876560" y="2590920"/>
                <a:ext cx="3861000" cy="35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Box 10"/>
              <p:cNvSpPr/>
              <p:nvPr/>
            </p:nvSpPr>
            <p:spPr>
              <a:xfrm>
                <a:off x="4883040" y="5791680"/>
                <a:ext cx="10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VS re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0" name="Picture 7" descr="target-coronal-aseg.mgz.png"/>
          <p:cNvPicPr/>
          <p:nvPr/>
        </p:nvPicPr>
        <p:blipFill>
          <a:blip r:embed="rId3"/>
          <a:srcRect l="28888" t="13226" r="28888" b="13226"/>
          <a:stretch/>
        </p:blipFill>
        <p:spPr>
          <a:xfrm>
            <a:off x="2666880" y="1447920"/>
            <a:ext cx="3861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me registration vocabular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put datasets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xed / template / targe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ving / subjec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ransformation model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gi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ffi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nlinear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/ similarity funct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pplying the result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form, morph, resample, transfor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polation type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ri)linea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arest neighb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30" descr="cor-for-thickness"/>
          <p:cNvPicPr/>
          <p:nvPr/>
        </p:nvPicPr>
        <p:blipFill>
          <a:blip r:embed="rId1"/>
          <a:stretch/>
        </p:blipFill>
        <p:spPr>
          <a:xfrm>
            <a:off x="4267080" y="1676520"/>
            <a:ext cx="4191120" cy="48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309840" cy="373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182880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523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310200" cy="37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cor-for-thickness"/>
          <p:cNvPicPr/>
          <p:nvPr/>
        </p:nvPicPr>
        <p:blipFill>
          <a:blip r:embed="rId2"/>
          <a:stretch/>
        </p:blipFill>
        <p:spPr>
          <a:xfrm>
            <a:off x="4343400" y="1676520"/>
            <a:ext cx="4191120" cy="486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4572000" y="48002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67080" y="48765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5334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4038480" cy="2330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03848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cor-for-thickness"/>
          <p:cNvPicPr/>
          <p:nvPr/>
        </p:nvPicPr>
        <p:blipFill>
          <a:blip r:embed="rId3"/>
          <a:stretch/>
        </p:blipFill>
        <p:spPr>
          <a:xfrm>
            <a:off x="5105520" y="1752480"/>
            <a:ext cx="3732120" cy="4335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5257800" y="45716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52880" y="46479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05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6" name="Group 40"/>
          <p:cNvGrpSpPr/>
          <p:nvPr/>
        </p:nvGrpSpPr>
        <p:grpSpPr>
          <a:xfrm>
            <a:off x="4267080" y="1676520"/>
            <a:ext cx="4191120" cy="4868640"/>
            <a:chOff x="4267080" y="1676520"/>
            <a:chExt cx="4191120" cy="4868640"/>
          </a:xfrm>
        </p:grpSpPr>
        <p:pic>
          <p:nvPicPr>
            <p:cNvPr id="77" name="Picture 30" descr="cor-for-thickness"/>
            <p:cNvPicPr/>
            <p:nvPr/>
          </p:nvPicPr>
          <p:blipFill>
            <a:blip r:embed="rId1"/>
            <a:stretch/>
          </p:blipFill>
          <p:spPr>
            <a:xfrm>
              <a:off x="4267080" y="1676520"/>
              <a:ext cx="4191120" cy="48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26"/>
            <p:cNvSpPr/>
            <p:nvPr/>
          </p:nvSpPr>
          <p:spPr>
            <a:xfrm flipH="1" flipV="1">
              <a:off x="5748480" y="341280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 flipH="1" flipV="1">
              <a:off x="6172200" y="2544120"/>
              <a:ext cx="211680" cy="400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H="1" flipV="1">
              <a:off x="5889240" y="301212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 flipH="1" flipV="1">
              <a:off x="5819040" y="3212280"/>
              <a:ext cx="35280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 flipV="1">
              <a:off x="6525000" y="2410560"/>
              <a:ext cx="0" cy="46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V="1">
              <a:off x="6736680" y="2477880"/>
              <a:ext cx="352440" cy="467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>
              <a:off x="6736680" y="3212280"/>
              <a:ext cx="6350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7"/>
            <p:cNvSpPr/>
            <p:nvPr/>
          </p:nvSpPr>
          <p:spPr>
            <a:xfrm>
              <a:off x="6665760" y="3412800"/>
              <a:ext cx="49392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6595560" y="3813480"/>
              <a:ext cx="493560" cy="66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9"/>
            <p:cNvSpPr/>
            <p:nvPr/>
          </p:nvSpPr>
          <p:spPr>
            <a:xfrm flipV="1">
              <a:off x="6736680" y="2878560"/>
              <a:ext cx="63504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886200" y="1981080"/>
            <a:ext cx="22096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1676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720960" cy="373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2362320" y="2133720"/>
            <a:ext cx="914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our data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rt for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rtical surface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ws up in comm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-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35240" y="1650960"/>
            <a:ext cx="4673520" cy="467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Volumes</a:t>
            </a:r>
            <a:endParaRPr b="1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9232" t="17903" r="19232" b="3087"/>
          <a:stretch/>
        </p:blipFill>
        <p:spPr>
          <a:xfrm>
            <a:off x="685800" y="175248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1798" t="20374" r="24364" b="5557"/>
          <a:stretch/>
        </p:blipFill>
        <p:spPr>
          <a:xfrm>
            <a:off x="3865680" y="1752480"/>
            <a:ext cx="14396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7953" t="16671" r="19232" b="1855"/>
          <a:stretch/>
        </p:blipFill>
        <p:spPr>
          <a:xfrm>
            <a:off x="2286000" y="1752480"/>
            <a:ext cx="152712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24364" t="20374" r="25643" b="3087"/>
          <a:stretch/>
        </p:blipFill>
        <p:spPr>
          <a:xfrm>
            <a:off x="5353200" y="1752480"/>
            <a:ext cx="129384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24364" t="24076" r="24364" b="4318"/>
          <a:stretch/>
        </p:blipFill>
        <p:spPr>
          <a:xfrm>
            <a:off x="6724800" y="1752480"/>
            <a:ext cx="141912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146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7208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inmask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1240" y="3772080"/>
            <a:ext cx="198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ed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bcortical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4:38Z</dcterms:created>
  <dc:creator>Allison</dc:creator>
  <dc:description/>
  <dc:language>en-US</dc:language>
  <cp:lastModifiedBy>Allison</cp:lastModifiedBy>
  <dcterms:modified xsi:type="dcterms:W3CDTF">2012-03-26T04:36:05Z</dcterms:modified>
  <cp:revision>347</cp:revision>
  <dc:subject/>
  <dc:title>Unix Tutorial for FreeSurfer Users</dc:title>
</cp:coreProperties>
</file>