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jpeg" ContentType="image/jpeg"/>
  <Override PartName="/ppt/media/image3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27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5085-6476-4E41-A65A-C6F40E6E0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D4CA-4E97-4D10-8FD0-E561FD67C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ded Jaccard Coefficient (23) measures computed for Experiment 1. The last column of the cortical measures represents the overlap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d in the surface space. The vertical lines represent the standard error of the mean of the measur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7539-DA15-4AD1-8275-81896597F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I like how you have "moving" in italics. Will you cover how commands like vol2vol and flirt are usually asking for a mov, ref, template, etc.? Some of those terms are interchangeable and it can be confusing when different commands use different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FREESURFER_HOME/subjects/cvs_avg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3626-7E0A-4BC0-B38B-A4545D974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FREESURFER_HOME/subjects/cvs_avg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790E-3447-4F46-87EF-164B1C175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366E-72A5-4E2D-B4CD-39D4B9E35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45CA-9629-4E75-A34A-CCC1EA51C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probability maps were thresholded at 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equire rec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with the registration tool summary slide, will you cover the strengths and weaknesses of each or when it is most appropriate to use them?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register and cvs can only be used if you have surfaces, fsl takes into account X while robust_register takes into account Y so you would choose one over the other in such Z si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5208-B266-406D-9973-398DF7BAA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1C0E-BD03-4CEC-BD8A-818E55008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equire rec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42E1-1999-4229-A954-B308406B3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4354-AFA3-46CC-B0E8-370E6AD1F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1C09-5121-428F-A839-127009893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uce’s brain affine transformed and mapped on Doug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ne – does not provide the a good initialization; does not bring folds close enough for the basin of at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34E6-AD20-4B91-B44A-1C9033CBC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ion (red , yell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E627-D72C-46B6-BF4D-5BE3AE079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-cortical alignment using cortical correspondence as initializ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020C-1E0D-456B-AEAD-C668B033D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6C39-19D2-47BA-9C46-72DC38D94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esults obtained in Inter-Subject Experiment 2. The first column displays the template segmentation and the second, third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th columns represent the deformed segmentation volumes resulting from FLIRT (affine), HAMMER and our new combined surface- and intensity-based registration. In all the images, the surfaces shown are those of the template (pial surfaces in red and gray/white surfaces in 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BEE-7FF8-48FD-B473-191EC603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7FE-EC70-4473-A3B3-F39AE1E3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CDF-0CFA-41C9-A5BF-B881D039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EC9-69A1-4ADE-8EF8-B9EC32CB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6A8-FAA3-4556-A641-68ABDE19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590-3249-4A8D-8BF5-4C348632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1AF-A2A7-4136-87C7-84FB13F8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EE5-F829-499E-8F6C-81F8C521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611-B56F-4A06-A966-7E5C1671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568-9CBD-4D89-8DD1-98666A07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5FE8-73B2-42AA-8615-FFCC6320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BC0-CA09-4D51-A9E5-1BD01101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reeSurfer Tutorial and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3010-AAC5-4A3B-B9FB-70FDC9A9A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Registration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chniq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9" name="Group 6"/>
          <p:cNvGrpSpPr/>
          <p:nvPr/>
        </p:nvGrpSpPr>
        <p:grpSpPr>
          <a:xfrm>
            <a:off x="228600" y="5105520"/>
            <a:ext cx="4809960" cy="810720"/>
            <a:chOff x="228600" y="5105520"/>
            <a:chExt cx="4809960" cy="810720"/>
          </a:xfrm>
        </p:grpSpPr>
        <p:pic>
          <p:nvPicPr>
            <p:cNvPr id="50" name="Picture 4" descr=""/>
            <p:cNvPicPr/>
            <p:nvPr/>
          </p:nvPicPr>
          <p:blipFill>
            <a:blip r:embed="rId1"/>
            <a:stretch/>
          </p:blipFill>
          <p:spPr>
            <a:xfrm>
              <a:off x="1038240" y="510552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martinos_logo_big"/>
            <p:cNvPicPr/>
            <p:nvPr/>
          </p:nvPicPr>
          <p:blipFill>
            <a:blip r:embed="rId2"/>
            <a:stretch/>
          </p:blipFill>
          <p:spPr>
            <a:xfrm>
              <a:off x="228600" y="511488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12" descr="fssplash"/>
          <p:cNvPicPr/>
          <p:nvPr/>
        </p:nvPicPr>
        <p:blipFill>
          <a:blip r:embed="rId3"/>
          <a:stretch/>
        </p:blipFill>
        <p:spPr>
          <a:xfrm>
            <a:off x="228600" y="91440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7"/>
          <p:cNvSpPr/>
          <p:nvPr/>
        </p:nvSpPr>
        <p:spPr>
          <a:xfrm>
            <a:off x="152280" y="5486400"/>
            <a:ext cx="883944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tended Jaccard Coefficient measures: 20 cortical and 21 sub-cortical labels.</a:t>
            </a: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vertical lines represent the standard error of the mean of the measurement.</a:t>
            </a: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G.M. Postelnicu*, L . Zöllei*, B. Fischl: "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Combined Volumetric and Surface Registration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", IEEE Transactions on Medical Imaging (TMI), Vol 28 (4), April 2009, p. 508-5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buckner_rerun_generalized_jaccard"/>
          <p:cNvPicPr/>
          <p:nvPr/>
        </p:nvPicPr>
        <p:blipFill>
          <a:blip r:embed="rId1"/>
          <a:stretch/>
        </p:blipFill>
        <p:spPr>
          <a:xfrm>
            <a:off x="1154160" y="228600"/>
            <a:ext cx="6846840" cy="5135400"/>
          </a:xfrm>
          <a:prstGeom prst="rect">
            <a:avLst/>
          </a:prstGeom>
          <a:ln w="0">
            <a:noFill/>
          </a:ln>
        </p:spPr>
      </p:pic>
      <p:sp>
        <p:nvSpPr>
          <p:cNvPr id="114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ri_cvs_register --mov subji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gistering the subject to, by default, the CVS atlas spa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e sure that the  SUBJECTS_DIR fo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subji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s correctly s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ptional Arg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- template subji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: subjid for template subjec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- templatedir di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: recon directory for templ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default is SUBJECTS_DI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-outdir di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: output directory for all the resul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default is SUBJECTS_DIR/subjid/cv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many more: use --hel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ri_cvs_regis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ptional Arguments (con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--step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nly do step 1 (spherical registratio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--step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nly do step 2 (elastic registratio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--step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nly do step 3 (volumetric registratio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--noase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o not use aseg volumes in the volumetric regist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ipeline (default is 0). Setting this option could shor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gnificantly the time of registration, however, might als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ake away from the accuracy of the final resul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ri_cvs_regis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ptional Arguments (co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--noclean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o not delete temporary files (default is 0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--keepelre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o not delete elastic registration (default is 0) outcom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--clean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mpute all CVS-related morphs that might have been computed prior to the current CVS run (def = 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--cleansurfre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mpute CVS-related surface registration morphs that might have been computed prior to the current CVS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run (def = 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--cleanelre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verwrite /recompute the CVS-related elastic registration morph that might have been computed prior to the current CVS run (default is 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--cleanvolre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verwrite / recompute CVS-related volumetric morphs that might have been computed prior to the current CVS run (default is 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VS atl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8" descr="CVSatlas-coronal-cr.png"/>
          <p:cNvPicPr/>
          <p:nvPr/>
        </p:nvPicPr>
        <p:blipFill>
          <a:blip r:embed="rId1"/>
          <a:stretch/>
        </p:blipFill>
        <p:spPr>
          <a:xfrm>
            <a:off x="838080" y="1463760"/>
            <a:ext cx="3175200" cy="2727360"/>
          </a:xfrm>
          <a:prstGeom prst="rect">
            <a:avLst/>
          </a:prstGeom>
          <a:ln w="0">
            <a:noFill/>
          </a:ln>
        </p:spPr>
      </p:pic>
      <p:sp>
        <p:nvSpPr>
          <p:cNvPr id="126" name="Date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ontent Placeholder 7" descr="CVSatlas-axial-cr.png"/>
          <p:cNvPicPr/>
          <p:nvPr/>
        </p:nvPicPr>
        <p:blipFill>
          <a:blip r:embed="rId2"/>
          <a:stretch/>
        </p:blipFill>
        <p:spPr>
          <a:xfrm>
            <a:off x="2768760" y="3581280"/>
            <a:ext cx="3174840" cy="2721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VSatlas-sagittal-cr.png"/>
          <p:cNvPicPr/>
          <p:nvPr/>
        </p:nvPicPr>
        <p:blipFill>
          <a:blip r:embed="rId3"/>
          <a:stretch/>
        </p:blipFill>
        <p:spPr>
          <a:xfrm>
            <a:off x="5283360" y="1463760"/>
            <a:ext cx="31748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lated command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ri_cvs_che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hecking whether all files needed for a successful CVS registration are prese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ri_cvs_data_cop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pying the CVS-relevant recon directories over to a new loca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ri_vol2v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pplying the CVS registration morph to files corresponding to the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moving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subjec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pplying CVS mor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ri_vol2v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pplying CVS morph to aseg fil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mri_vol2vol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--targ templateid --m3z morph.m3z \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--noDefM3zPath --mov asegvol \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--o asegvol2CVS --interp nearest \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--no-save-re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pplying morph to corresponding diffusion fil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mri_vol2vol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--targ templateid --m3z morph.m3z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--noDefM3zPath --reg 2anat.register.dat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--mov diffvol --o diffvol2CV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--no-save-re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886200" y="3124080"/>
            <a:ext cx="20574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038480" y="4876920"/>
            <a:ext cx="259092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pplying CVS mor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pplyMorph: use with older style CVS morphs (.tm3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plying CVS morph to aseg fi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pplyMorph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--template templateid --transform morph.tm3d\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ol asegvol asegvol2CVS neare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plying morph to corresponding diffusion fi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pplyMorph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--template templateid –transform morph.tm3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ol diffvol2anat diffvol2CVS lin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4952880" y="3505320"/>
            <a:ext cx="9907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2590920" y="5410080"/>
            <a:ext cx="15238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257800" y="5486400"/>
            <a:ext cx="9144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2209680" y="3581280"/>
            <a:ext cx="6098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2209680" y="556272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al: fiber bundle alig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udy:  compare CVS to methods directly aligning DWI-derived scalar volu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lusion: high accuracy cross-subject registration based on structural MRI images can provide improved al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ö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lei, Stevens, Huber, Kakunoori, Fischl: “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mproved Tractography Alignment Using Combined Volumetric and Surface Registration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 NeuroImage 51 (2010), 206-2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pplication of CVS to tractograp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verage tracts after registration mapped to the template displayed with iso-surfa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2"/>
          <p:cNvGrpSpPr/>
          <p:nvPr/>
        </p:nvGrpSpPr>
        <p:grpSpPr>
          <a:xfrm>
            <a:off x="604800" y="2286000"/>
            <a:ext cx="7934400" cy="3201840"/>
            <a:chOff x="604800" y="2286000"/>
            <a:chExt cx="7934400" cy="3201840"/>
          </a:xfrm>
        </p:grpSpPr>
        <p:pic>
          <p:nvPicPr>
            <p:cNvPr id="150" name="Picture 4" descr="composite_cropped"/>
            <p:cNvPicPr/>
            <p:nvPr/>
          </p:nvPicPr>
          <p:blipFill>
            <a:blip r:embed="rId1"/>
            <a:stretch/>
          </p:blipFill>
          <p:spPr>
            <a:xfrm>
              <a:off x="604800" y="2286000"/>
              <a:ext cx="7934400" cy="27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Group 10"/>
            <p:cNvGrpSpPr/>
            <p:nvPr/>
          </p:nvGrpSpPr>
          <p:grpSpPr>
            <a:xfrm>
              <a:off x="1546200" y="5119560"/>
              <a:ext cx="5884560" cy="368280"/>
              <a:chOff x="1546200" y="5119560"/>
              <a:chExt cx="5884560" cy="368280"/>
            </a:xfrm>
          </p:grpSpPr>
          <p:sp>
            <p:nvSpPr>
              <p:cNvPr id="152" name="Text Box 7"/>
              <p:cNvSpPr/>
              <p:nvPr/>
            </p:nvSpPr>
            <p:spPr>
              <a:xfrm>
                <a:off x="1546200" y="511956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FLI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8"/>
              <p:cNvSpPr/>
              <p:nvPr/>
            </p:nvSpPr>
            <p:spPr>
              <a:xfrm>
                <a:off x="3959640" y="5119560"/>
                <a:ext cx="103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FA-FNI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9"/>
              <p:cNvSpPr/>
              <p:nvPr/>
            </p:nvSpPr>
            <p:spPr>
              <a:xfrm>
                <a:off x="6893280" y="5119560"/>
                <a:ext cx="53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V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gistration tool 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ris_regis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slregister: bet + fli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bregis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ri_robust_regis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mri_cvs_regis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mris_regist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mri_nl_alig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ean Hausdorff distance measures for three fiber bundl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5" descr="composite-mean-haus"/>
          <p:cNvPicPr/>
          <p:nvPr/>
        </p:nvPicPr>
        <p:blipFill>
          <a:blip r:embed="rId1"/>
          <a:stretch/>
        </p:blipFill>
        <p:spPr>
          <a:xfrm>
            <a:off x="184320" y="2590920"/>
            <a:ext cx="8775360" cy="219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58" name="Group 11"/>
          <p:cNvGrpSpPr/>
          <p:nvPr/>
        </p:nvGrpSpPr>
        <p:grpSpPr>
          <a:xfrm>
            <a:off x="1373760" y="4952880"/>
            <a:ext cx="6670440" cy="368280"/>
            <a:chOff x="1373760" y="4952880"/>
            <a:chExt cx="6670440" cy="368280"/>
          </a:xfrm>
        </p:grpSpPr>
        <p:sp>
          <p:nvSpPr>
            <p:cNvPr id="159" name="Text Box 8"/>
            <p:cNvSpPr/>
            <p:nvPr/>
          </p:nvSpPr>
          <p:spPr>
            <a:xfrm>
              <a:off x="1373760" y="4952880"/>
              <a:ext cx="5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4289040" y="495288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6886440" y="49528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UNCIN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unctional MRI analysis in CVS spa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4" name="Content Placeholder 4" descr="freesurfer-face-parcels.jpeg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81040" y="5943600"/>
            <a:ext cx="81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laboration with Kami Koldewyn, Joshua Julien and Nancy Kanwisher at 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mprove CVS capability to register ex-vivo to in-vivo acquis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mplemented MI-based volumetric registration (for CVS step 3) to accommodate intensity profil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Qualitative preliminary results on 4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. Zöllei, Allison Stevens, Bruce Fischl: </a:t>
            </a: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Non-linear Registration of Intra-subject Ex-vivo and In-vivo Brain Acquisitions,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uman Brain Mapping, June 20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. Zöllei, B. Fischl, </a:t>
            </a: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Automatic segmentation of ex-vivo MRI images using CVS in FreeSurfer, HBM 201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ngoing develop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05"/>
          <p:cNvGrpSpPr/>
          <p:nvPr/>
        </p:nvGrpSpPr>
        <p:grpSpPr>
          <a:xfrm>
            <a:off x="1407960" y="1434960"/>
            <a:ext cx="6324480" cy="4726800"/>
            <a:chOff x="1407960" y="1434960"/>
            <a:chExt cx="6324480" cy="4726800"/>
          </a:xfrm>
        </p:grpSpPr>
        <p:grpSp>
          <p:nvGrpSpPr>
            <p:cNvPr id="171" name="Group 66"/>
            <p:cNvGrpSpPr/>
            <p:nvPr/>
          </p:nvGrpSpPr>
          <p:grpSpPr>
            <a:xfrm>
              <a:off x="1407960" y="1434960"/>
              <a:ext cx="6324480" cy="4343400"/>
              <a:chOff x="1407960" y="1434960"/>
              <a:chExt cx="6324480" cy="4343400"/>
            </a:xfrm>
          </p:grpSpPr>
          <p:sp>
            <p:nvSpPr>
              <p:cNvPr id="172" name="Rectangle 45"/>
              <p:cNvSpPr/>
              <p:nvPr/>
            </p:nvSpPr>
            <p:spPr>
              <a:xfrm>
                <a:off x="1407960" y="1434960"/>
                <a:ext cx="6324480" cy="4343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Group 46"/>
              <p:cNvGrpSpPr/>
              <p:nvPr/>
            </p:nvGrpSpPr>
            <p:grpSpPr>
              <a:xfrm>
                <a:off x="1407960" y="1434960"/>
                <a:ext cx="6298560" cy="4311360"/>
                <a:chOff x="1407960" y="1434960"/>
                <a:chExt cx="6298560" cy="4311360"/>
              </a:xfrm>
            </p:grpSpPr>
            <p:grpSp>
              <p:nvGrpSpPr>
                <p:cNvPr id="174" name="Group 42"/>
                <p:cNvGrpSpPr/>
                <p:nvPr/>
              </p:nvGrpSpPr>
              <p:grpSpPr>
                <a:xfrm>
                  <a:off x="1436040" y="4330440"/>
                  <a:ext cx="6239880" cy="1415880"/>
                  <a:chOff x="1436040" y="4330440"/>
                  <a:chExt cx="6239880" cy="1415880"/>
                </a:xfrm>
              </p:grpSpPr>
              <p:pic>
                <p:nvPicPr>
                  <p:cNvPr id="175" name="Picture 29" descr="sag-CVS2-wSurf-cr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566240" y="4330440"/>
                    <a:ext cx="154764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6" name="Picture 34" descr="sag-target-wSurf-cr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040" y="4330440"/>
                    <a:ext cx="154764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7" name="Picture 35" descr="sag-pialmasked-target-wSurf-cr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9120" y="4330440"/>
                    <a:ext cx="154764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8" name="Picture 36" descr="sag-demons-1000-1000-tomasked-wSurf-cr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8640" y="4330440"/>
                    <a:ext cx="154728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79" name="Group 44"/>
                <p:cNvGrpSpPr/>
                <p:nvPr/>
              </p:nvGrpSpPr>
              <p:grpSpPr>
                <a:xfrm>
                  <a:off x="1407960" y="1434960"/>
                  <a:ext cx="6298560" cy="1519200"/>
                  <a:chOff x="1407960" y="1434960"/>
                  <a:chExt cx="6298560" cy="1519200"/>
                </a:xfrm>
              </p:grpSpPr>
              <p:pic>
                <p:nvPicPr>
                  <p:cNvPr id="180" name="Picture 24" descr="ax-target-wSurf-cr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7960" y="1466640"/>
                    <a:ext cx="16063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1" name="Picture 25" descr="ax-pialmasked-target-wSurf-cr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11040" y="1434960"/>
                    <a:ext cx="160596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2" name="Picture 26" descr="ax-demons-1000-1000-tomasked-wSurf-cr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00200" y="1434960"/>
                    <a:ext cx="16063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3" name="Picture 27" descr="ax-CVS2-wSurf-cr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8160" y="1434960"/>
                    <a:ext cx="16063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84" name="Group 43"/>
                <p:cNvGrpSpPr/>
                <p:nvPr/>
              </p:nvGrpSpPr>
              <p:grpSpPr>
                <a:xfrm>
                  <a:off x="1478880" y="2958840"/>
                  <a:ext cx="6155640" cy="1333440"/>
                  <a:chOff x="1478880" y="2958840"/>
                  <a:chExt cx="6155640" cy="1333440"/>
                </a:xfrm>
              </p:grpSpPr>
              <p:pic>
                <p:nvPicPr>
                  <p:cNvPr id="185" name="Picture 30" descr="cor-target-wSurf-cr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78880" y="2958840"/>
                    <a:ext cx="14634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6" name="Picture 31" descr="cor-pialmasked-target-wSurf-cr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81960" y="2958840"/>
                    <a:ext cx="14634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7" name="Picture 32" descr="cor-demons-1000-1000-tomasked-wSurf-cr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2958840"/>
                    <a:ext cx="14630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8" name="Picture 33" descr="cor-CVS2-wSurf-cr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09080" y="2958840"/>
                    <a:ext cx="14634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189" name="Text Box 47"/>
            <p:cNvSpPr/>
            <p:nvPr/>
          </p:nvSpPr>
          <p:spPr>
            <a:xfrm>
              <a:off x="1474920" y="5854680"/>
              <a:ext cx="49662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Target (in-vivo)   Masked target       2-step CVS           CVS with MI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bject 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Date Placeholder 2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gistration morph 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.dat, .lta, .xfm, .fslmat: encode rigid and affine transform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ri_vol2vo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phere.reg: encodes spherical morp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ris_resampl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.m3z, .tm3d: encode nonlinear volumetric morp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mri_vol2vol, applyMorph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 new registration solution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rface-based (2D) registration does an excellent job of aligning cortical folds, but does not apply to  non-cortical structures (e.g. basal gangli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olumetric (3D) registration applies to the entire brain but does not, in general, align folding patter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al: combined their str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0880"/>
            <a:ext cx="7772400" cy="15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aligning folds in the volume is hard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1825560" y="1523880"/>
          <a:ext cx="54943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560" y="1523880"/>
                    <a:ext cx="54943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4"/>
          <p:cNvSpPr/>
          <p:nvPr/>
        </p:nvSpPr>
        <p:spPr>
          <a:xfrm>
            <a:off x="712800" y="5987880"/>
            <a:ext cx="771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fine transform of surfaces from one subject mapped to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4"/>
          <p:cNvSpPr/>
          <p:nvPr/>
        </p:nvSpPr>
        <p:spPr>
          <a:xfrm>
            <a:off x="685800" y="990720"/>
            <a:ext cx="8305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ols-20-z"/>
          <p:cNvPicPr/>
          <p:nvPr/>
        </p:nvPicPr>
        <p:blipFill>
          <a:blip r:embed="rId1"/>
          <a:stretch/>
        </p:blipFill>
        <p:spPr>
          <a:xfrm>
            <a:off x="1509840" y="1065240"/>
            <a:ext cx="7619760" cy="565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cols-flirt25-z"/>
          <p:cNvPicPr/>
          <p:nvPr/>
        </p:nvPicPr>
        <p:blipFill>
          <a:blip r:embed="rId2"/>
          <a:stretch/>
        </p:blipFill>
        <p:spPr>
          <a:xfrm>
            <a:off x="1511280" y="1066680"/>
            <a:ext cx="7632720" cy="5666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cols-hammer25-z"/>
          <p:cNvPicPr/>
          <p:nvPr/>
        </p:nvPicPr>
        <p:blipFill>
          <a:blip r:embed="rId3"/>
          <a:stretch/>
        </p:blipFill>
        <p:spPr>
          <a:xfrm>
            <a:off x="1511280" y="1066680"/>
            <a:ext cx="7632720" cy="5666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zoom-flirt25"/>
          <p:cNvPicPr/>
          <p:nvPr/>
        </p:nvPicPr>
        <p:blipFill>
          <a:blip r:embed="rId4"/>
          <a:stretch/>
        </p:blipFill>
        <p:spPr>
          <a:xfrm>
            <a:off x="3184560" y="3352680"/>
            <a:ext cx="2571840" cy="3333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zoom-hammer25"/>
          <p:cNvPicPr/>
          <p:nvPr/>
        </p:nvPicPr>
        <p:blipFill>
          <a:blip r:embed="rId5"/>
          <a:stretch/>
        </p:blipFill>
        <p:spPr>
          <a:xfrm>
            <a:off x="3184560" y="3352680"/>
            <a:ext cx="2571840" cy="33339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6"/>
          <p:cNvSpPr/>
          <p:nvPr/>
        </p:nvSpPr>
        <p:spPr>
          <a:xfrm>
            <a:off x="4100400" y="3884760"/>
            <a:ext cx="1752840" cy="2133360"/>
          </a:xfrm>
          <a:prstGeom prst="rect">
            <a:avLst/>
          </a:prstGeom>
          <a:noFill/>
          <a:ln w="572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0" y="1143000"/>
            <a:ext cx="1447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f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Nonlin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3"/>
          <p:cNvGrpSpPr/>
          <p:nvPr/>
        </p:nvGrpSpPr>
        <p:grpSpPr>
          <a:xfrm>
            <a:off x="2905560" y="1143000"/>
            <a:ext cx="2047320" cy="1371600"/>
            <a:chOff x="2905560" y="1143000"/>
            <a:chExt cx="2047320" cy="1371600"/>
          </a:xfrm>
        </p:grpSpPr>
        <p:sp>
          <p:nvSpPr>
            <p:cNvPr id="77" name="Text Box 19"/>
            <p:cNvSpPr/>
            <p:nvPr/>
          </p:nvSpPr>
          <p:spPr>
            <a:xfrm>
              <a:off x="2905560" y="1143000"/>
              <a:ext cx="183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pial surfa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1"/>
            <p:cNvSpPr/>
            <p:nvPr/>
          </p:nvSpPr>
          <p:spPr>
            <a:xfrm>
              <a:off x="4114800" y="1676520"/>
              <a:ext cx="83808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4"/>
          <p:cNvGrpSpPr/>
          <p:nvPr/>
        </p:nvGrpSpPr>
        <p:grpSpPr>
          <a:xfrm>
            <a:off x="5941080" y="1143000"/>
            <a:ext cx="1935000" cy="1219320"/>
            <a:chOff x="5941080" y="1143000"/>
            <a:chExt cx="1935000" cy="1219320"/>
          </a:xfrm>
        </p:grpSpPr>
        <p:sp>
          <p:nvSpPr>
            <p:cNvPr id="80" name="Text Box 20"/>
            <p:cNvSpPr/>
            <p:nvPr/>
          </p:nvSpPr>
          <p:spPr>
            <a:xfrm>
              <a:off x="5941080" y="1143000"/>
              <a:ext cx="193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M surfa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2"/>
            <p:cNvSpPr/>
            <p:nvPr/>
          </p:nvSpPr>
          <p:spPr>
            <a:xfrm flipH="1">
              <a:off x="5943600" y="1676520"/>
              <a:ext cx="91440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Date Placeholder 1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mbined volumetric and surface-based registration (CVS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herical alig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stic propagation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tical registration resul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3D 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tric alignment of sub-cortical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mesh-view"/>
          <p:cNvPicPr/>
          <p:nvPr/>
        </p:nvPicPr>
        <p:blipFill>
          <a:blip r:embed="rId1"/>
          <a:stretch/>
        </p:blipFill>
        <p:spPr>
          <a:xfrm>
            <a:off x="5846760" y="3743280"/>
            <a:ext cx="1773360" cy="174312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5"/>
          <p:cNvGrpSpPr/>
          <p:nvPr/>
        </p:nvGrpSpPr>
        <p:grpSpPr>
          <a:xfrm>
            <a:off x="4952880" y="2287440"/>
            <a:ext cx="3400560" cy="1141560"/>
            <a:chOff x="4952880" y="2287440"/>
            <a:chExt cx="3400560" cy="1141560"/>
          </a:xfrm>
        </p:grpSpPr>
        <p:pic>
          <p:nvPicPr>
            <p:cNvPr id="87" name="Picture 6" descr="lh"/>
            <p:cNvPicPr/>
            <p:nvPr/>
          </p:nvPicPr>
          <p:blipFill>
            <a:blip r:embed="rId2"/>
            <a:stretch/>
          </p:blipFill>
          <p:spPr>
            <a:xfrm>
              <a:off x="4952880" y="2287440"/>
              <a:ext cx="114156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lh"/>
            <p:cNvPicPr/>
            <p:nvPr/>
          </p:nvPicPr>
          <p:blipFill>
            <a:blip r:embed="rId3"/>
            <a:stretch/>
          </p:blipFill>
          <p:spPr>
            <a:xfrm>
              <a:off x="6069600" y="2287440"/>
              <a:ext cx="114156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8" descr="lh"/>
            <p:cNvPicPr/>
            <p:nvPr/>
          </p:nvPicPr>
          <p:blipFill>
            <a:blip r:embed="rId4"/>
            <a:stretch/>
          </p:blipFill>
          <p:spPr>
            <a:xfrm>
              <a:off x="7211520" y="2287440"/>
              <a:ext cx="1141920" cy="11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Line 10"/>
          <p:cNvSpPr/>
          <p:nvPr/>
        </p:nvSpPr>
        <p:spPr>
          <a:xfrm>
            <a:off x="457200" y="2133720"/>
            <a:ext cx="8305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e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ulting morp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1219320"/>
            <a:ext cx="2057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rop2-ncols-20-y"/>
          <p:cNvPicPr/>
          <p:nvPr/>
        </p:nvPicPr>
        <p:blipFill>
          <a:blip r:embed="rId1"/>
          <a:stretch/>
        </p:blipFill>
        <p:spPr>
          <a:xfrm>
            <a:off x="3127320" y="987480"/>
            <a:ext cx="4442040" cy="577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rop2-ncols-elastic25-y"/>
          <p:cNvPicPr/>
          <p:nvPr/>
        </p:nvPicPr>
        <p:blipFill>
          <a:blip r:embed="rId2"/>
          <a:stretch/>
        </p:blipFill>
        <p:spPr>
          <a:xfrm>
            <a:off x="3127320" y="987480"/>
            <a:ext cx="4442040" cy="5775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rop2-ncols-elastic+i25-y"/>
          <p:cNvPicPr/>
          <p:nvPr/>
        </p:nvPicPr>
        <p:blipFill>
          <a:blip r:embed="rId3"/>
          <a:stretch/>
        </p:blipFill>
        <p:spPr>
          <a:xfrm>
            <a:off x="3127320" y="987480"/>
            <a:ext cx="4442040" cy="5775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rop2-ncols-20-y"/>
          <p:cNvPicPr/>
          <p:nvPr/>
        </p:nvPicPr>
        <p:blipFill>
          <a:blip r:embed="rId4"/>
          <a:stretch/>
        </p:blipFill>
        <p:spPr>
          <a:xfrm>
            <a:off x="3127320" y="987480"/>
            <a:ext cx="4442040" cy="5775120"/>
          </a:xfrm>
          <a:prstGeom prst="rect">
            <a:avLst/>
          </a:prstGeom>
          <a:ln w="0">
            <a:noFill/>
          </a:ln>
        </p:spPr>
      </p:pic>
      <p:sp>
        <p:nvSpPr>
          <p:cNvPr id="9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4"/>
          <p:cNvGrpSpPr/>
          <p:nvPr/>
        </p:nvGrpSpPr>
        <p:grpSpPr>
          <a:xfrm>
            <a:off x="457200" y="57240"/>
            <a:ext cx="3308400" cy="3450600"/>
            <a:chOff x="457200" y="57240"/>
            <a:chExt cx="3308400" cy="3450600"/>
          </a:xfrm>
        </p:grpSpPr>
        <p:pic>
          <p:nvPicPr>
            <p:cNvPr id="100" name="Picture 14" descr="cropped_ibsr-tmi-seg-atlas-y"/>
            <p:cNvPicPr/>
            <p:nvPr/>
          </p:nvPicPr>
          <p:blipFill>
            <a:blip r:embed="rId1"/>
            <a:stretch/>
          </p:blipFill>
          <p:spPr>
            <a:xfrm>
              <a:off x="457200" y="57240"/>
              <a:ext cx="330840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6"/>
            <p:cNvSpPr/>
            <p:nvPr/>
          </p:nvSpPr>
          <p:spPr>
            <a:xfrm>
              <a:off x="560160" y="3048120"/>
              <a:ext cx="13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empl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1"/>
          <p:cNvGrpSpPr/>
          <p:nvPr/>
        </p:nvGrpSpPr>
        <p:grpSpPr>
          <a:xfrm>
            <a:off x="457200" y="3562200"/>
            <a:ext cx="3308400" cy="3371760"/>
            <a:chOff x="457200" y="3562200"/>
            <a:chExt cx="3308400" cy="3371760"/>
          </a:xfrm>
        </p:grpSpPr>
        <p:pic>
          <p:nvPicPr>
            <p:cNvPr id="103" name="Picture 11" descr="cropped_ibsr-tmi-seg-flirt-y"/>
            <p:cNvPicPr/>
            <p:nvPr/>
          </p:nvPicPr>
          <p:blipFill>
            <a:blip r:embed="rId2"/>
            <a:stretch/>
          </p:blipFill>
          <p:spPr>
            <a:xfrm>
              <a:off x="457200" y="3562200"/>
              <a:ext cx="330840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7"/>
            <p:cNvSpPr/>
            <p:nvPr/>
          </p:nvSpPr>
          <p:spPr>
            <a:xfrm>
              <a:off x="535320" y="645768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FLI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5"/>
          <p:cNvGrpSpPr/>
          <p:nvPr/>
        </p:nvGrpSpPr>
        <p:grpSpPr>
          <a:xfrm>
            <a:off x="5334120" y="76320"/>
            <a:ext cx="3308400" cy="3431520"/>
            <a:chOff x="5334120" y="76320"/>
            <a:chExt cx="3308400" cy="3431520"/>
          </a:xfrm>
        </p:grpSpPr>
        <p:pic>
          <p:nvPicPr>
            <p:cNvPr id="106" name="Picture 5" descr="cropped_ibsr-tmi-seg-hammer-y"/>
            <p:cNvPicPr/>
            <p:nvPr/>
          </p:nvPicPr>
          <p:blipFill>
            <a:blip r:embed="rId3"/>
            <a:stretch/>
          </p:blipFill>
          <p:spPr>
            <a:xfrm>
              <a:off x="5334120" y="76320"/>
              <a:ext cx="330840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8"/>
            <p:cNvSpPr/>
            <p:nvPr/>
          </p:nvSpPr>
          <p:spPr>
            <a:xfrm>
              <a:off x="5395680" y="3048120"/>
              <a:ext cx="13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HAM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5334120" y="3562200"/>
            <a:ext cx="3308400" cy="3371760"/>
            <a:chOff x="5334120" y="3562200"/>
            <a:chExt cx="3308400" cy="3371760"/>
          </a:xfrm>
        </p:grpSpPr>
        <p:pic>
          <p:nvPicPr>
            <p:cNvPr id="109" name="Picture 8" descr="cropped_ibsr-tmi-seg-r17i-y"/>
            <p:cNvPicPr/>
            <p:nvPr/>
          </p:nvPicPr>
          <p:blipFill>
            <a:blip r:embed="rId4"/>
            <a:stretch/>
          </p:blipFill>
          <p:spPr>
            <a:xfrm>
              <a:off x="5334120" y="3562200"/>
              <a:ext cx="330840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9"/>
            <p:cNvSpPr/>
            <p:nvPr/>
          </p:nvSpPr>
          <p:spPr>
            <a:xfrm>
              <a:off x="5391720" y="645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CV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Date Placeholder 1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4:19:26Z</dcterms:created>
  <dc:creator>LZ</dc:creator>
  <dc:description/>
  <dc:language>en-US</dc:language>
  <cp:lastModifiedBy>Allison</cp:lastModifiedBy>
  <dcterms:modified xsi:type="dcterms:W3CDTF">2012-03-26T03:54:08Z</dcterms:modified>
  <cp:revision>92</cp:revision>
  <dc:subject/>
  <dc:title>Registration</dc:title>
</cp:coreProperties>
</file>