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288588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0001160" y="658332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7705-6680-4B17-A414-A977B3F1004D}" type="slidenum"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1120" y="2130120"/>
            <a:ext cx="874404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1.jpeg"/><Relationship Id="rId4" Type="http://schemas.openxmlformats.org/officeDocument/2006/relationships/image" Target="../media/image10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9086760" cy="207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Analysis: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ntersubject Registration and Smoothing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857680" y="5486400"/>
            <a:ext cx="4809960" cy="810720"/>
            <a:chOff x="2857680" y="5486400"/>
            <a:chExt cx="4809960" cy="810720"/>
          </a:xfrm>
        </p:grpSpPr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3667320" y="5486400"/>
              <a:ext cx="400032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2857680" y="5495760"/>
              <a:ext cx="749160" cy="80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772080" y="1847880"/>
            <a:ext cx="27399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4728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Intersubject Registration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9880" y="6269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1680" y="1752480"/>
            <a:ext cx="9448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Gray Matter-to-Gray Matter (it’s all gray matter!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Gyrus-to-Gyrus and Sulcus-to-Sulcus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ome minor folding patterns won’t line up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ully automated, no landmarking neede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tlas registration is probabilistic, most variable regions get less weight.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one automatically in recon-all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33440" y="304560"/>
            <a:ext cx="694368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patial Smoothing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9920" y="1752480"/>
            <a:ext cx="9249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Why should you smooth?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ight Improve CN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mprove intersubject registration (functional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How much smoothing?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Blob-siz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ypically 10-20 mm FWHM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urface smoothing more forgiving than volume-base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23600" y="-1828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Volume-based Smoothing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9880" y="6269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600880" y="114300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moothing is averaging of nearby voxel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4525920" cy="555444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1090440" y="1198440"/>
            <a:ext cx="2896920" cy="3299040"/>
            <a:chOff x="1090440" y="1198440"/>
            <a:chExt cx="2896920" cy="3299040"/>
          </a:xfrm>
        </p:grpSpPr>
        <p:grpSp>
          <p:nvGrpSpPr>
            <p:cNvPr id="195" name=""/>
            <p:cNvGrpSpPr/>
            <p:nvPr/>
          </p:nvGrpSpPr>
          <p:grpSpPr>
            <a:xfrm>
              <a:off x="1090440" y="1600200"/>
              <a:ext cx="2896920" cy="2897280"/>
              <a:chOff x="1090440" y="1600200"/>
              <a:chExt cx="2896920" cy="2897280"/>
            </a:xfrm>
          </p:grpSpPr>
          <p:sp>
            <p:nvSpPr>
              <p:cNvPr id="196" name=""/>
              <p:cNvSpPr/>
              <p:nvPr/>
            </p:nvSpPr>
            <p:spPr>
              <a:xfrm>
                <a:off x="1814040" y="2324160"/>
                <a:ext cx="1447200" cy="144792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2347200" y="2857680"/>
                <a:ext cx="380880" cy="380880"/>
                <a:chOff x="2347200" y="2857680"/>
                <a:chExt cx="380880" cy="3808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347200" y="3048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V="1">
                  <a:off x="2537640" y="2857680"/>
                  <a:ext cx="0" cy="3808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>
                <a:off x="1090440" y="1600200"/>
                <a:ext cx="2896920" cy="289728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1927440" y="1981080"/>
              <a:ext cx="156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7mm FWHM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21880" y="1198440"/>
              <a:ext cx="168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14mm FWHM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23600" y="-1828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Volume-based Smoothing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9880" y="6269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24560" y="152388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5 mm apart in 3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25 mm apart on surface!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Kernel much large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veraging with other tissue types (WM, CSF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veraging with other functional area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4525920" cy="5554440"/>
          </a:xfrm>
          <a:prstGeom prst="rect">
            <a:avLst/>
          </a:prstGeom>
          <a:ln w="0">
            <a:noFill/>
          </a:ln>
        </p:spPr>
      </p:pic>
      <p:grpSp>
        <p:nvGrpSpPr>
          <p:cNvPr id="207" name=""/>
          <p:cNvGrpSpPr/>
          <p:nvPr/>
        </p:nvGrpSpPr>
        <p:grpSpPr>
          <a:xfrm>
            <a:off x="2308320" y="2857680"/>
            <a:ext cx="380880" cy="380880"/>
            <a:chOff x="2308320" y="2857680"/>
            <a:chExt cx="380880" cy="380880"/>
          </a:xfrm>
        </p:grpSpPr>
        <p:sp>
          <p:nvSpPr>
            <p:cNvPr id="208" name=""/>
            <p:cNvSpPr/>
            <p:nvPr/>
          </p:nvSpPr>
          <p:spPr>
            <a:xfrm>
              <a:off x="2308320" y="3048120"/>
              <a:ext cx="38088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2498760" y="2857680"/>
              <a:ext cx="0" cy="3808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050840" y="1600200"/>
            <a:ext cx="2897280" cy="28972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562040" y="2514600"/>
            <a:ext cx="380880" cy="380880"/>
            <a:chOff x="1562040" y="2514600"/>
            <a:chExt cx="380880" cy="380880"/>
          </a:xfrm>
        </p:grpSpPr>
        <p:sp>
          <p:nvSpPr>
            <p:cNvPr id="212" name=""/>
            <p:cNvSpPr/>
            <p:nvPr/>
          </p:nvSpPr>
          <p:spPr>
            <a:xfrm>
              <a:off x="1562040" y="2705040"/>
              <a:ext cx="38088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1752480" y="2514600"/>
              <a:ext cx="0" cy="3808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939960" y="2743200"/>
            <a:ext cx="1536480" cy="2019240"/>
          </a:xfrm>
          <a:custGeom>
            <a:avLst/>
            <a:gdLst/>
            <a:ahLst/>
            <a:rect l="l" t="t" r="r" b="b"/>
            <a:pathLst>
              <a:path w="968" h="1272">
                <a:moveTo>
                  <a:pt x="488" y="0"/>
                </a:moveTo>
                <a:cubicBezTo>
                  <a:pt x="488" y="164"/>
                  <a:pt x="488" y="328"/>
                  <a:pt x="440" y="432"/>
                </a:cubicBezTo>
                <a:cubicBezTo>
                  <a:pt x="392" y="536"/>
                  <a:pt x="272" y="536"/>
                  <a:pt x="200" y="624"/>
                </a:cubicBezTo>
                <a:cubicBezTo>
                  <a:pt x="128" y="712"/>
                  <a:pt x="16" y="856"/>
                  <a:pt x="8" y="960"/>
                </a:cubicBezTo>
                <a:cubicBezTo>
                  <a:pt x="0" y="1064"/>
                  <a:pt x="64" y="1224"/>
                  <a:pt x="152" y="1248"/>
                </a:cubicBezTo>
                <a:cubicBezTo>
                  <a:pt x="240" y="1272"/>
                  <a:pt x="448" y="1184"/>
                  <a:pt x="536" y="1104"/>
                </a:cubicBezTo>
                <a:cubicBezTo>
                  <a:pt x="624" y="1024"/>
                  <a:pt x="632" y="872"/>
                  <a:pt x="680" y="768"/>
                </a:cubicBezTo>
                <a:cubicBezTo>
                  <a:pt x="728" y="664"/>
                  <a:pt x="776" y="576"/>
                  <a:pt x="824" y="480"/>
                </a:cubicBezTo>
                <a:cubicBezTo>
                  <a:pt x="872" y="384"/>
                  <a:pt x="920" y="288"/>
                  <a:pt x="968" y="192"/>
                </a:cubicBezTo>
              </a:path>
            </a:pathLst>
          </a:custGeom>
          <a:noFill/>
          <a:ln w="57240">
            <a:solidFill>
              <a:srgbClr val="04e3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98560" y="1206360"/>
            <a:ext cx="16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4mm FWHM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23600" y="-1828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Smoothing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14480" y="3770280"/>
            <a:ext cx="4597200" cy="3017520"/>
            <a:chOff x="114480" y="3770280"/>
            <a:chExt cx="4597200" cy="3017520"/>
          </a:xfrm>
        </p:grpSpPr>
        <p:pic>
          <p:nvPicPr>
            <p:cNvPr id="218" name="" descr=""/>
            <p:cNvPicPr/>
            <p:nvPr/>
          </p:nvPicPr>
          <p:blipFill>
            <a:blip r:embed="rId1"/>
            <a:stretch/>
          </p:blipFill>
          <p:spPr>
            <a:xfrm>
              <a:off x="1079640" y="3770280"/>
              <a:ext cx="2507040" cy="24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248760" y="5820120"/>
              <a:ext cx="170928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superior temporal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99880" y="6267960"/>
              <a:ext cx="18360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64440" y="5833800"/>
              <a:ext cx="91224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calcarin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81720" y="3932280"/>
              <a:ext cx="73224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central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5720" y="5299920"/>
              <a:ext cx="76896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sylvian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2357640" y="4161960"/>
              <a:ext cx="517680" cy="346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3354840" y="5604120"/>
              <a:ext cx="373680" cy="356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1830240" y="5332320"/>
              <a:ext cx="603720" cy="590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948600" y="5070600"/>
              <a:ext cx="958680" cy="393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4480" y="4680360"/>
              <a:ext cx="115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anteri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444480" y="5130000"/>
              <a:ext cx="126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posteri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6286680" y="3886200"/>
            <a:ext cx="2438280" cy="22654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41640" y="3200400"/>
            <a:ext cx="45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heet: 2D Coordinate System (X,Y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46080" y="3200400"/>
            <a:ext cx="46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phere: 2D Coordinate System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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486080" y="4343400"/>
            <a:ext cx="533160" cy="533520"/>
            <a:chOff x="1486080" y="4343400"/>
            <a:chExt cx="533160" cy="533520"/>
          </a:xfrm>
        </p:grpSpPr>
        <p:sp>
          <p:nvSpPr>
            <p:cNvPr id="234" name=""/>
            <p:cNvSpPr/>
            <p:nvPr/>
          </p:nvSpPr>
          <p:spPr>
            <a:xfrm>
              <a:off x="1619280" y="4476600"/>
              <a:ext cx="266400" cy="266760"/>
            </a:xfrm>
            <a:prstGeom prst="ellipse">
              <a:avLst/>
            </a:prstGeom>
            <a:noFill/>
            <a:ln w="38160">
              <a:solidFill>
                <a:srgbClr val="1004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1717200" y="4574880"/>
              <a:ext cx="69840" cy="69840"/>
              <a:chOff x="1717200" y="4574880"/>
              <a:chExt cx="69840" cy="69840"/>
            </a:xfrm>
          </p:grpSpPr>
          <p:sp>
            <p:nvSpPr>
              <p:cNvPr id="236" name=""/>
              <p:cNvSpPr/>
              <p:nvPr/>
            </p:nvSpPr>
            <p:spPr>
              <a:xfrm>
                <a:off x="1717200" y="4609800"/>
                <a:ext cx="69840" cy="0"/>
              </a:xfrm>
              <a:prstGeom prst="line">
                <a:avLst/>
              </a:prstGeom>
              <a:ln w="57240">
                <a:solidFill>
                  <a:srgbClr val="04e3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752120" y="4574880"/>
                <a:ext cx="0" cy="69840"/>
              </a:xfrm>
              <a:prstGeom prst="line">
                <a:avLst/>
              </a:prstGeom>
              <a:ln w="57240">
                <a:solidFill>
                  <a:srgbClr val="1004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486080" y="4343400"/>
              <a:ext cx="533160" cy="533520"/>
            </a:xfrm>
            <a:prstGeom prst="ellipse">
              <a:avLst/>
            </a:prstGeom>
            <a:noFill/>
            <a:ln w="38160">
              <a:solidFill>
                <a:srgbClr val="1004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124760" y="4800600"/>
            <a:ext cx="533520" cy="533520"/>
            <a:chOff x="7124760" y="4800600"/>
            <a:chExt cx="533520" cy="533520"/>
          </a:xfrm>
        </p:grpSpPr>
        <p:sp>
          <p:nvSpPr>
            <p:cNvPr id="240" name=""/>
            <p:cNvSpPr/>
            <p:nvPr/>
          </p:nvSpPr>
          <p:spPr>
            <a:xfrm>
              <a:off x="7257960" y="4933800"/>
              <a:ext cx="266400" cy="266760"/>
            </a:xfrm>
            <a:prstGeom prst="ellipse">
              <a:avLst/>
            </a:prstGeom>
            <a:noFill/>
            <a:ln w="38160">
              <a:solidFill>
                <a:srgbClr val="1004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7356240" y="5032080"/>
              <a:ext cx="70200" cy="69840"/>
              <a:chOff x="7356240" y="5032080"/>
              <a:chExt cx="70200" cy="69840"/>
            </a:xfrm>
          </p:grpSpPr>
          <p:sp>
            <p:nvSpPr>
              <p:cNvPr id="242" name=""/>
              <p:cNvSpPr/>
              <p:nvPr/>
            </p:nvSpPr>
            <p:spPr>
              <a:xfrm>
                <a:off x="7356240" y="5067000"/>
                <a:ext cx="70200" cy="0"/>
              </a:xfrm>
              <a:prstGeom prst="line">
                <a:avLst/>
              </a:prstGeom>
              <a:ln w="57240">
                <a:solidFill>
                  <a:srgbClr val="04e3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7391160" y="5032080"/>
                <a:ext cx="0" cy="69840"/>
              </a:xfrm>
              <a:prstGeom prst="line">
                <a:avLst/>
              </a:prstGeom>
              <a:ln w="57240">
                <a:solidFill>
                  <a:srgbClr val="1004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7124760" y="4800600"/>
              <a:ext cx="533520" cy="533520"/>
            </a:xfrm>
            <a:prstGeom prst="ellipse">
              <a:avLst/>
            </a:prstGeom>
            <a:noFill/>
            <a:ln w="38160">
              <a:solidFill>
                <a:srgbClr val="1004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-266760" y="99072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moothing is averaging of nearby </a:t>
            </a:r>
            <a:r>
              <a:rPr b="0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vertic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4535640" y="837720"/>
            <a:ext cx="5486040" cy="2210040"/>
            <a:chOff x="4535640" y="837720"/>
            <a:chExt cx="5486040" cy="2210040"/>
          </a:xfrm>
        </p:grpSpPr>
        <p:grpSp>
          <p:nvGrpSpPr>
            <p:cNvPr id="247" name=""/>
            <p:cNvGrpSpPr/>
            <p:nvPr/>
          </p:nvGrpSpPr>
          <p:grpSpPr>
            <a:xfrm>
              <a:off x="4535640" y="1020960"/>
              <a:ext cx="2615760" cy="1644480"/>
              <a:chOff x="4535640" y="1020960"/>
              <a:chExt cx="2615760" cy="1644480"/>
            </a:xfrm>
          </p:grpSpPr>
          <p:pic>
            <p:nvPicPr>
              <p:cNvPr id="24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535640" y="1020960"/>
                <a:ext cx="2615760" cy="164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"/>
              <p:cNvSpPr/>
              <p:nvPr/>
            </p:nvSpPr>
            <p:spPr>
              <a:xfrm>
                <a:off x="6715080" y="2096640"/>
                <a:ext cx="373680" cy="379800"/>
              </a:xfrm>
              <a:prstGeom prst="rect">
                <a:avLst/>
              </a:prstGeom>
              <a:noFill/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pic>
          <p:nvPicPr>
            <p:cNvPr id="250" name="" descr=""/>
            <p:cNvPicPr/>
            <p:nvPr/>
          </p:nvPicPr>
          <p:blipFill>
            <a:blip r:embed="rId4"/>
            <a:stretch/>
          </p:blipFill>
          <p:spPr>
            <a:xfrm>
              <a:off x="7626240" y="838080"/>
              <a:ext cx="2395440" cy="2209680"/>
            </a:xfrm>
            <a:prstGeom prst="rect">
              <a:avLst/>
            </a:prstGeom>
            <a:ln w="28440">
              <a:solidFill>
                <a:srgbClr val="cba033"/>
              </a:solidFill>
              <a:miter/>
            </a:ln>
          </p:spPr>
        </p:pic>
        <p:sp>
          <p:nvSpPr>
            <p:cNvPr id="251" name=""/>
            <p:cNvSpPr/>
            <p:nvPr/>
          </p:nvSpPr>
          <p:spPr>
            <a:xfrm flipV="1">
              <a:off x="7096320" y="837720"/>
              <a:ext cx="529560" cy="1279080"/>
            </a:xfrm>
            <a:prstGeom prst="line">
              <a:avLst/>
            </a:prstGeom>
            <a:ln w="28440">
              <a:solidFill>
                <a:srgbClr val="cba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96320" y="2482560"/>
              <a:ext cx="529560" cy="547920"/>
            </a:xfrm>
            <a:prstGeom prst="line">
              <a:avLst/>
            </a:prstGeom>
            <a:ln w="28440">
              <a:solidFill>
                <a:srgbClr val="cba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680" y="2282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Surface-based Clustering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28880" y="1294920"/>
            <a:ext cx="815328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453240" indent="-45324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 cluster is a group of connected (neighboring) vertices above threshol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3240" indent="-45324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Neighborhood is 2D, not 3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3240" indent="-45324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uster has a size (area in mm</a:t>
            </a:r>
            <a:r>
              <a:rPr b="0" lang="en-US" sz="28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3240" indent="-45324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duced search space (corrections for multiple comparisons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255" name="" descr="groupana.lat.clusters.gif"/>
          <p:cNvPicPr/>
          <p:nvPr/>
        </p:nvPicPr>
        <p:blipFill>
          <a:blip r:embed="rId1"/>
          <a:stretch/>
        </p:blipFill>
        <p:spPr>
          <a:xfrm>
            <a:off x="4457880" y="4191120"/>
            <a:ext cx="328896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56920" y="0"/>
            <a:ext cx="71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85560" y="990720"/>
            <a:ext cx="762948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Why Surface-based Analysis?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unction has surface-based organiz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ter-subject registration: anatomy, not intens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mooth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ustering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Like 3D, but 2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8986" t="6171" r="4119" b="11536"/>
          <a:stretch/>
        </p:blipFill>
        <p:spPr>
          <a:xfrm>
            <a:off x="1371600" y="4648320"/>
            <a:ext cx="3257640" cy="19969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4714920" y="4724280"/>
            <a:ext cx="3429000" cy="19209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2100240" y="426708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Use FreeSurf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90720" y="4299120"/>
            <a:ext cx="14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Be Happ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923280" y="457200"/>
            <a:ext cx="1707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86080" y="1295280"/>
            <a:ext cx="7010280" cy="44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otivation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ordinate System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3D (Volumetric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2D (Surface-based)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tersubject registration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olume-base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urface-base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urface-based smoothing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urface-based clustering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1480" y="180720"/>
            <a:ext cx="880920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Is a Model of the Cortical Surface Useful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39560" y="1822320"/>
            <a:ext cx="9436320" cy="77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2514600"/>
                <a:tab algn="l" pos="3718080"/>
                <a:tab algn="l" pos="5576760"/>
                <a:tab algn="l" pos="7435800"/>
                <a:tab algn="l" pos="92948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functional organization of cortex is largely 2-dimensional! Eg, functional mapping of primary visual area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74760" y="2863800"/>
            <a:ext cx="9354960" cy="27226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43080" y="6248520"/>
            <a:ext cx="54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 (Sereno et al, 1995, Science).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295960" y="1905120"/>
            <a:ext cx="2870280" cy="2977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00280" y="76320"/>
            <a:ext cx="874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-based Group Analysis (Thicknes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91" name="" descr="scatter_plot.jpg"/>
          <p:cNvPicPr/>
          <p:nvPr/>
        </p:nvPicPr>
        <p:blipFill>
          <a:blip r:embed="rId2"/>
          <a:stretch/>
        </p:blipFill>
        <p:spPr>
          <a:xfrm>
            <a:off x="952560" y="1523880"/>
            <a:ext cx="36478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11560" y="304920"/>
            <a:ext cx="793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ordinate Systems: 3D (Volumetric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5360" y="1523880"/>
            <a:ext cx="670572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3D Coordinate System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XYZ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AS (Right-Anterior-Superior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RS (Column-Row-Slice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rigin (XYZ=0, eg, AC)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 Intensity at each XYZ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753160" y="1071720"/>
            <a:ext cx="4265280" cy="4491000"/>
            <a:chOff x="5753160" y="1071720"/>
            <a:chExt cx="4265280" cy="4491000"/>
          </a:xfrm>
        </p:grpSpPr>
        <p:pic>
          <p:nvPicPr>
            <p:cNvPr id="95" name="" descr=""/>
            <p:cNvPicPr/>
            <p:nvPr/>
          </p:nvPicPr>
          <p:blipFill>
            <a:blip r:embed="rId1"/>
            <a:srcRect l="22305" t="14601" r="26077" b="17284"/>
            <a:stretch/>
          </p:blipFill>
          <p:spPr>
            <a:xfrm>
              <a:off x="6324480" y="1981080"/>
              <a:ext cx="2941920" cy="358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" name=""/>
            <p:cNvGrpSpPr/>
            <p:nvPr/>
          </p:nvGrpSpPr>
          <p:grpSpPr>
            <a:xfrm>
              <a:off x="5753160" y="1295280"/>
              <a:ext cx="4014360" cy="3885840"/>
              <a:chOff x="5753160" y="1295280"/>
              <a:chExt cx="4014360" cy="3885840"/>
            </a:xfrm>
          </p:grpSpPr>
          <p:sp>
            <p:nvSpPr>
              <p:cNvPr id="97" name=""/>
              <p:cNvSpPr/>
              <p:nvPr/>
            </p:nvSpPr>
            <p:spPr>
              <a:xfrm>
                <a:off x="7810200" y="1295280"/>
                <a:ext cx="0" cy="3885840"/>
              </a:xfrm>
              <a:prstGeom prst="line">
                <a:avLst/>
              </a:prstGeom>
              <a:ln w="38160">
                <a:solidFill>
                  <a:srgbClr val="04e3fa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753160" y="3252240"/>
                <a:ext cx="4014360" cy="0"/>
              </a:xfrm>
              <a:prstGeom prst="line">
                <a:avLst/>
              </a:prstGeom>
              <a:ln w="38160">
                <a:solidFill>
                  <a:srgbClr val="04e3fa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6396120" y="1865880"/>
                <a:ext cx="2928960" cy="2744640"/>
              </a:xfrm>
              <a:prstGeom prst="line">
                <a:avLst/>
              </a:prstGeom>
              <a:ln w="38160">
                <a:solidFill>
                  <a:srgbClr val="04e3fa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9532800" y="2490840"/>
              <a:ext cx="485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4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82480" y="4267080"/>
              <a:ext cx="452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endParaRPr b="0" lang="en-US" sz="4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907400" y="1071720"/>
              <a:ext cx="485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4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3600" y="-1828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Coordinate Systems: 2D (Surface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82520" y="1544760"/>
            <a:ext cx="4597200" cy="3017520"/>
            <a:chOff x="182520" y="1544760"/>
            <a:chExt cx="4597200" cy="301752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1147680" y="1544760"/>
              <a:ext cx="2507040" cy="24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16800" y="3594600"/>
              <a:ext cx="170964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superior temporal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7920" y="4042440"/>
              <a:ext cx="18360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33200" y="3608280"/>
              <a:ext cx="91224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calcarin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49760" y="1706760"/>
              <a:ext cx="73224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central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3760" y="3074400"/>
              <a:ext cx="76896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sylvian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425680" y="1936440"/>
              <a:ext cx="517680" cy="346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3423240" y="3378600"/>
              <a:ext cx="373680" cy="356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1898640" y="3106800"/>
              <a:ext cx="604080" cy="590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1016640" y="2845080"/>
              <a:ext cx="958680" cy="393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2520" y="2454840"/>
              <a:ext cx="11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anteri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12520" y="2904480"/>
              <a:ext cx="1267200" cy="45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posteri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876240" y="4794120"/>
            <a:ext cx="8975880" cy="1905120"/>
            <a:chOff x="876240" y="4794120"/>
            <a:chExt cx="8975880" cy="1905120"/>
          </a:xfrm>
        </p:grpSpPr>
        <p:grpSp>
          <p:nvGrpSpPr>
            <p:cNvPr id="118" name=""/>
            <p:cNvGrpSpPr/>
            <p:nvPr/>
          </p:nvGrpSpPr>
          <p:grpSpPr>
            <a:xfrm>
              <a:off x="876240" y="4890960"/>
              <a:ext cx="2743200" cy="1582560"/>
              <a:chOff x="876240" y="4890960"/>
              <a:chExt cx="2743200" cy="1582560"/>
            </a:xfrm>
          </p:grpSpPr>
          <p:pic>
            <p:nvPicPr>
              <p:cNvPr id="11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76240" y="4890960"/>
                <a:ext cx="2743200" cy="158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992160" y="5991120"/>
                <a:ext cx="63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66"/>
                    </a:solidFill>
                    <a:latin typeface="Times New Roman"/>
                  </a:rPr>
                  <a:t>pial</a:t>
                </a:r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4194720" y="4794120"/>
              <a:ext cx="3201480" cy="1905120"/>
              <a:chOff x="4194720" y="4794120"/>
              <a:chExt cx="3201480" cy="1905120"/>
            </a:xfrm>
          </p:grpSpPr>
          <p:pic>
            <p:nvPicPr>
              <p:cNvPr id="12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272120" y="4794120"/>
                <a:ext cx="3124080" cy="190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>
                <a:off x="4194720" y="6051600"/>
                <a:ext cx="111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66"/>
                    </a:solidFill>
                    <a:latin typeface="Times New Roman"/>
                  </a:rPr>
                  <a:t>inflated</a:t>
                </a:r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8164440" y="5168880"/>
              <a:ext cx="16876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Curvature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buClr>
                  <a:srgbClr val="fd1414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SULCUS (+)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buClr>
                  <a:srgbClr val="00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GYRUS (-)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09680" y="838080"/>
            <a:ext cx="45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heet: 2D Coordinate System (X,Y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29440" y="853920"/>
            <a:ext cx="45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phere: 2D Coordinate System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Latitude and Longitude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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ontinuous, no cu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alue at each point (eg, thicknes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787320" y="1355760"/>
            <a:ext cx="3047760" cy="3048120"/>
            <a:chOff x="787320" y="1355760"/>
            <a:chExt cx="3047760" cy="3048120"/>
          </a:xfrm>
        </p:grpSpPr>
        <p:sp>
          <p:nvSpPr>
            <p:cNvPr id="128" name=""/>
            <p:cNvSpPr/>
            <p:nvPr/>
          </p:nvSpPr>
          <p:spPr>
            <a:xfrm>
              <a:off x="2349360" y="1355760"/>
              <a:ext cx="0" cy="304812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7320" y="2891160"/>
              <a:ext cx="3047760" cy="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650760" y="2381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21960" y="1057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6372360" y="2405160"/>
            <a:ext cx="2438280" cy="2743200"/>
            <a:chOff x="6372360" y="2405160"/>
            <a:chExt cx="2438280" cy="2743200"/>
          </a:xfrm>
        </p:grpSpPr>
        <p:sp>
          <p:nvSpPr>
            <p:cNvPr id="133" name=""/>
            <p:cNvSpPr/>
            <p:nvPr/>
          </p:nvSpPr>
          <p:spPr>
            <a:xfrm>
              <a:off x="7591320" y="4295880"/>
              <a:ext cx="0" cy="852480"/>
            </a:xfrm>
            <a:prstGeom prst="line">
              <a:avLst/>
            </a:prstGeom>
            <a:ln w="38160">
              <a:solidFill>
                <a:srgbClr val="1004f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4"/>
            <a:srcRect l="0" t="2105" r="0" b="0"/>
            <a:stretch/>
          </p:blipFill>
          <p:spPr>
            <a:xfrm>
              <a:off x="6372360" y="2604960"/>
              <a:ext cx="2438280" cy="221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6524640" y="3548160"/>
              <a:ext cx="2133000" cy="380880"/>
            </a:xfrm>
            <a:prstGeom prst="ellipse">
              <a:avLst/>
            </a:prstGeom>
            <a:noFill/>
            <a:ln w="38160">
              <a:solidFill>
                <a:srgbClr val="1004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91320" y="2405160"/>
              <a:ext cx="0" cy="1052280"/>
            </a:xfrm>
            <a:prstGeom prst="line">
              <a:avLst/>
            </a:prstGeom>
            <a:ln w="38160">
              <a:solidFill>
                <a:srgbClr val="1004f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5"/>
            <a:srcRect l="0" t="6316" r="0" b="48421"/>
            <a:stretch/>
          </p:blipFill>
          <p:spPr>
            <a:xfrm>
              <a:off x="6372360" y="2698560"/>
              <a:ext cx="2438280" cy="10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8200800" y="3298680"/>
              <a:ext cx="101160" cy="540000"/>
            </a:xfrm>
            <a:custGeom>
              <a:avLst/>
              <a:gdLst/>
              <a:ahLst/>
              <a:rect l="l" t="t" r="r" b="b"/>
              <a:pathLst>
                <a:path w="352" h="720">
                  <a:moveTo>
                    <a:pt x="0" y="0"/>
                  </a:moveTo>
                  <a:cubicBezTo>
                    <a:pt x="52" y="28"/>
                    <a:pt x="104" y="56"/>
                    <a:pt x="144" y="96"/>
                  </a:cubicBezTo>
                  <a:cubicBezTo>
                    <a:pt x="184" y="136"/>
                    <a:pt x="208" y="160"/>
                    <a:pt x="240" y="240"/>
                  </a:cubicBezTo>
                  <a:cubicBezTo>
                    <a:pt x="272" y="320"/>
                    <a:pt x="320" y="496"/>
                    <a:pt x="336" y="576"/>
                  </a:cubicBezTo>
                  <a:cubicBezTo>
                    <a:pt x="352" y="656"/>
                    <a:pt x="344" y="688"/>
                    <a:pt x="336" y="72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67640" y="3832200"/>
              <a:ext cx="609120" cy="88920"/>
            </a:xfrm>
            <a:custGeom>
              <a:avLst/>
              <a:gdLst/>
              <a:ahLst/>
              <a:rect l="l" t="t" r="r" b="b"/>
              <a:pathLst>
                <a:path w="384" h="56">
                  <a:moveTo>
                    <a:pt x="0" y="48"/>
                  </a:moveTo>
                  <a:cubicBezTo>
                    <a:pt x="88" y="52"/>
                    <a:pt x="176" y="56"/>
                    <a:pt x="240" y="48"/>
                  </a:cubicBezTo>
                  <a:cubicBezTo>
                    <a:pt x="304" y="40"/>
                    <a:pt x="344" y="20"/>
                    <a:pt x="384" y="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129520" y="3203640"/>
              <a:ext cx="7560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7439040" y="3651120"/>
              <a:ext cx="456840" cy="530280"/>
              <a:chOff x="7439040" y="3651120"/>
              <a:chExt cx="456840" cy="530280"/>
            </a:xfrm>
          </p:grpSpPr>
          <p:sp>
            <p:nvSpPr>
              <p:cNvPr id="142" name=""/>
              <p:cNvSpPr/>
              <p:nvPr/>
            </p:nvSpPr>
            <p:spPr>
              <a:xfrm>
                <a:off x="7673040" y="3651120"/>
                <a:ext cx="0" cy="530280"/>
              </a:xfrm>
              <a:prstGeom prst="line">
                <a:avLst/>
              </a:prstGeom>
              <a:ln w="38160">
                <a:solidFill>
                  <a:srgbClr val="04e3fa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439040" y="3918240"/>
                <a:ext cx="456840" cy="0"/>
              </a:xfrm>
              <a:prstGeom prst="line">
                <a:avLst/>
              </a:prstGeom>
              <a:ln w="38160">
                <a:solidFill>
                  <a:srgbClr val="04e3fa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7897680" y="383220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73880" y="329868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33440" y="304560"/>
            <a:ext cx="694368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ntersubject Registration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470320" y="304920"/>
            <a:ext cx="61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lumetric Intersubject Registration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000680" y="1143000"/>
            <a:ext cx="6174360" cy="3657600"/>
            <a:chOff x="4000680" y="1143000"/>
            <a:chExt cx="6174360" cy="365760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rcRect l="22305" t="14601" r="26077" b="17284"/>
            <a:stretch/>
          </p:blipFill>
          <p:spPr>
            <a:xfrm>
              <a:off x="4000680" y="1218960"/>
              <a:ext cx="2941200" cy="358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0" name=""/>
            <p:cNvGrpSpPr/>
            <p:nvPr/>
          </p:nvGrpSpPr>
          <p:grpSpPr>
            <a:xfrm>
              <a:off x="7073640" y="1143000"/>
              <a:ext cx="3101400" cy="3627000"/>
              <a:chOff x="7073640" y="1143000"/>
              <a:chExt cx="3101400" cy="3627000"/>
            </a:xfrm>
          </p:grpSpPr>
          <p:pic>
            <p:nvPicPr>
              <p:cNvPr id="151" name="" descr=""/>
              <p:cNvPicPr/>
              <p:nvPr/>
            </p:nvPicPr>
            <p:blipFill>
              <a:blip r:embed="rId2"/>
              <a:srcRect l="22026" t="14601" r="24109" b="17284"/>
              <a:stretch/>
            </p:blipFill>
            <p:spPr>
              <a:xfrm>
                <a:off x="7105320" y="1143000"/>
                <a:ext cx="3069720" cy="356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7073640" y="1652040"/>
                <a:ext cx="1078920" cy="89064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289280" y="3879360"/>
                <a:ext cx="1078920" cy="89064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" name=""/>
          <p:cNvSpPr/>
          <p:nvPr/>
        </p:nvSpPr>
        <p:spPr>
          <a:xfrm>
            <a:off x="266760" y="1066680"/>
            <a:ext cx="6705720" cy="52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ffine/Linear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ranslat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otat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tretch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hea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12 DOF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atch Intensity, Voxel-by-Voxe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roblem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an use nonlinear volumetric (cf CVS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924360" y="1219320"/>
            <a:ext cx="3048120" cy="3047760"/>
            <a:chOff x="3924360" y="1219320"/>
            <a:chExt cx="3048120" cy="3047760"/>
          </a:xfrm>
        </p:grpSpPr>
        <p:sp>
          <p:nvSpPr>
            <p:cNvPr id="156" name=""/>
            <p:cNvSpPr/>
            <p:nvPr/>
          </p:nvSpPr>
          <p:spPr>
            <a:xfrm>
              <a:off x="5486400" y="1219320"/>
              <a:ext cx="0" cy="304776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24360" y="2754360"/>
              <a:ext cx="3048120" cy="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4412520" y="1701360"/>
              <a:ext cx="2224080" cy="208368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048440" y="1066680"/>
            <a:ext cx="3048120" cy="3047760"/>
            <a:chOff x="7048440" y="1066680"/>
            <a:chExt cx="3048120" cy="3047760"/>
          </a:xfrm>
        </p:grpSpPr>
        <p:sp>
          <p:nvSpPr>
            <p:cNvPr id="160" name=""/>
            <p:cNvSpPr/>
            <p:nvPr/>
          </p:nvSpPr>
          <p:spPr>
            <a:xfrm>
              <a:off x="8610480" y="1066680"/>
              <a:ext cx="0" cy="304776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48440" y="2601720"/>
              <a:ext cx="3048120" cy="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536600" y="1548720"/>
              <a:ext cx="2224080" cy="208368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23600" y="-1828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Intersubject Registration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9880" y="6269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152960" y="838080"/>
            <a:ext cx="3047760" cy="3504960"/>
            <a:chOff x="4152960" y="838080"/>
            <a:chExt cx="3047760" cy="3504960"/>
          </a:xfrm>
        </p:grpSpPr>
        <p:grpSp>
          <p:nvGrpSpPr>
            <p:cNvPr id="166" name=""/>
            <p:cNvGrpSpPr/>
            <p:nvPr/>
          </p:nvGrpSpPr>
          <p:grpSpPr>
            <a:xfrm>
              <a:off x="4152960" y="1295280"/>
              <a:ext cx="3047760" cy="3047760"/>
              <a:chOff x="4152960" y="1295280"/>
              <a:chExt cx="3047760" cy="3047760"/>
            </a:xfrm>
          </p:grpSpPr>
          <p:pic>
            <p:nvPicPr>
              <p:cNvPr id="16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513320" y="1483920"/>
                <a:ext cx="2506680" cy="2449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8" name=""/>
              <p:cNvGrpSpPr/>
              <p:nvPr/>
            </p:nvGrpSpPr>
            <p:grpSpPr>
              <a:xfrm>
                <a:off x="4152960" y="1295280"/>
                <a:ext cx="3047760" cy="3047760"/>
                <a:chOff x="4152960" y="1295280"/>
                <a:chExt cx="3047760" cy="30477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5715000" y="1295280"/>
                  <a:ext cx="0" cy="3047760"/>
                </a:xfrm>
                <a:prstGeom prst="line">
                  <a:avLst/>
                </a:prstGeom>
                <a:ln w="38160">
                  <a:solidFill>
                    <a:srgbClr val="04e3fa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152960" y="2830320"/>
                  <a:ext cx="3047760" cy="0"/>
                </a:xfrm>
                <a:prstGeom prst="line">
                  <a:avLst/>
                </a:prstGeom>
                <a:ln w="38160">
                  <a:solidFill>
                    <a:srgbClr val="04e3fa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1" name=""/>
            <p:cNvSpPr/>
            <p:nvPr/>
          </p:nvSpPr>
          <p:spPr>
            <a:xfrm>
              <a:off x="5219280" y="838080"/>
              <a:ext cx="113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Subject 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560" y="685800"/>
            <a:ext cx="3933360" cy="3414240"/>
            <a:chOff x="160560" y="685800"/>
            <a:chExt cx="3933360" cy="3414240"/>
          </a:xfrm>
        </p:grpSpPr>
        <p:grpSp>
          <p:nvGrpSpPr>
            <p:cNvPr id="173" name=""/>
            <p:cNvGrpSpPr/>
            <p:nvPr/>
          </p:nvGrpSpPr>
          <p:grpSpPr>
            <a:xfrm>
              <a:off x="160560" y="1310040"/>
              <a:ext cx="3933360" cy="2790000"/>
              <a:chOff x="160560" y="1310040"/>
              <a:chExt cx="3933360" cy="2790000"/>
            </a:xfrm>
          </p:grpSpPr>
          <p:pic>
            <p:nvPicPr>
              <p:cNvPr id="17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200" y="1405440"/>
                <a:ext cx="3491280" cy="2419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5" name=""/>
              <p:cNvGrpSpPr/>
              <p:nvPr/>
            </p:nvGrpSpPr>
            <p:grpSpPr>
              <a:xfrm>
                <a:off x="160560" y="1310040"/>
                <a:ext cx="3933360" cy="2790000"/>
                <a:chOff x="160560" y="1310040"/>
                <a:chExt cx="3933360" cy="27900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1604880" y="1310040"/>
                  <a:ext cx="1134000" cy="2790000"/>
                </a:xfrm>
                <a:prstGeom prst="line">
                  <a:avLst/>
                </a:prstGeom>
                <a:ln w="38160">
                  <a:solidFill>
                    <a:srgbClr val="04e3fa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V="1">
                  <a:off x="160560" y="1935720"/>
                  <a:ext cx="3933360" cy="1598760"/>
                </a:xfrm>
                <a:prstGeom prst="line">
                  <a:avLst/>
                </a:prstGeom>
                <a:ln w="38160">
                  <a:solidFill>
                    <a:srgbClr val="04e3fa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8" name=""/>
            <p:cNvSpPr/>
            <p:nvPr/>
          </p:nvSpPr>
          <p:spPr>
            <a:xfrm>
              <a:off x="1828440" y="685800"/>
              <a:ext cx="113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Subject 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627120" y="4572000"/>
            <a:ext cx="891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ranslate,  Rotate,  Stretch,  Shear (12 DO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atch Curvature, Vertex-by-Verte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Nonlinear Stretching (“Morphing”) allowed (area regularization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ctually done on spher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pherical Morph”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50480" y="1905120"/>
            <a:ext cx="2818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urvature “Intensity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SULCUS (+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GYRUS (-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odes folding patter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757760" y="5769000"/>
            <a:ext cx="4800600" cy="1089000"/>
            <a:chOff x="4757760" y="5769000"/>
            <a:chExt cx="4800600" cy="1089000"/>
          </a:xfrm>
        </p:grpSpPr>
        <p:pic>
          <p:nvPicPr>
            <p:cNvPr id="182" name="" descr=""/>
            <p:cNvPicPr/>
            <p:nvPr/>
          </p:nvPicPr>
          <p:blipFill>
            <a:blip r:embed="rId3"/>
            <a:stretch/>
          </p:blipFill>
          <p:spPr>
            <a:xfrm>
              <a:off x="8415360" y="5796000"/>
              <a:ext cx="1143000" cy="10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4"/>
            <a:stretch/>
          </p:blipFill>
          <p:spPr>
            <a:xfrm>
              <a:off x="6510240" y="5769000"/>
              <a:ext cx="1785960" cy="10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5"/>
            <a:stretch/>
          </p:blipFill>
          <p:spPr>
            <a:xfrm>
              <a:off x="4757760" y="5846760"/>
              <a:ext cx="1752480" cy="1011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3T23:11:17Z</dcterms:created>
  <dc:creator>marc burock</dc:creator>
  <dc:description/>
  <cp:keywords/>
  <dc:language>en-US</dc:language>
  <cp:lastModifiedBy>Allison</cp:lastModifiedBy>
  <dcterms:modified xsi:type="dcterms:W3CDTF">2010-09-28T01:47:41Z</dcterms:modified>
  <cp:revision>960</cp:revision>
  <dc:subject/>
  <dc:title>Understanding Differential Responses in fMRI Through Linear Simulation</dc:title>
</cp:coreProperties>
</file>