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E27-D814-4F19-9F9E-238F91EA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BC1-861B-4078-9FFD-B4D7A83C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E67-115C-439D-8869-AA891604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8C2-D937-4CDF-B246-EB15E35A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A57-76C9-4219-900C-E37C5E5F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124-75EE-49BC-9AAF-336C5D2B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8DC-6030-4E15-B3D2-85B0AE4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0B9-3538-43E3-9549-784662A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4240" y="90360"/>
            <a:ext cx="60786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A50-52B8-4D74-8B08-E7C6B3E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EF3-92F7-45C3-B4E7-4CECCBB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4D6-3027-44F0-8F76-244A5F8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215-F04B-4480-99BA-FFF33C0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96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date/time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05/04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29920" y="6400800"/>
            <a:ext cx="4496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footer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1020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F27A-C3C9-4EF3-A954-F3BC31207E7D}" type="slidenum">
              <a:rPr b="0" lang="en-US" sz="1200" spc="-1" strike="noStrike">
                <a:solidFill>
                  <a:srgbClr val="99ff99"/>
                </a:solidFill>
                <a:latin typeface="Georgia"/>
              </a:rPr>
              <a:t>&lt;number&gt;</a:t>
            </a:fld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762120"/>
            <a:ext cx="380880" cy="574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458200" y="762120"/>
            <a:ext cx="371520" cy="5740200"/>
          </a:xfrm>
          <a:custGeom>
            <a:avLst/>
            <a:gdLst>
              <a:gd name="textAreaLeft" fmla="*/ 109080 w 371520"/>
              <a:gd name="textAreaRight" fmla="*/ 371880 w 37152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000" y="2086920"/>
            <a:ext cx="6227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960" y="-760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428004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stasia Yendiki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MS/MGH/MIT Athinoula A. Martinos Center for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iomedical Imag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403" t="0" r="0" b="0"/>
          <a:stretch/>
        </p:blipFill>
        <p:spPr>
          <a:xfrm>
            <a:off x="876240" y="4984920"/>
            <a:ext cx="784440" cy="7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D45-B92B-49D0-AEA7-3B1A964A4E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1283" t="0" r="13136" b="0"/>
          <a:stretch/>
        </p:blipFill>
        <p:spPr>
          <a:xfrm>
            <a:off x="4869000" y="2209680"/>
            <a:ext cx="311436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416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1292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75040" y="5396040"/>
            <a:ext cx="3276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Red: L-R, Green: A-P, Blue: I-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78E-FA4A-4D7F-8CFD-F7D15D2BD4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65360" y="90360"/>
            <a:ext cx="4183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600200" cy="187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1600200" cy="187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19720" y="15080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diffusivity (MD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of the 3 eigen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7180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ractional anisotropy (FA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ariance of the 3 eigenvalues, normalized so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A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447920" y="3733920"/>
            <a:ext cx="1309680" cy="838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676160" y="4371840"/>
            <a:ext cx="1081080" cy="733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739880" y="1447920"/>
            <a:ext cx="83808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739880" y="2409840"/>
            <a:ext cx="838080" cy="33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6960" y="13701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6960" y="2055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8880" y="3681360"/>
            <a:ext cx="185724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0040" y="4341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2346480"/>
            <a:ext cx="350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5073480"/>
            <a:ext cx="54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8040" y="5286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53068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508720"/>
            <a:ext cx="5105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69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69800" y="554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25960" y="5511960"/>
            <a:ext cx="203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C5E-A488-4F30-A1A8-85AFFC292B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98360" y="90360"/>
            <a:ext cx="5313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re 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xial diffusivity: Greatest of the 3 eigenvalu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adial diffusivity: Average of 2 lesser eigenvalues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er-voxel coherence: Average angle b/w the major eigenvector at some voxel and the major eigenvector at the voxels around i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67652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81952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D19-187A-410D-9322-C58CBF471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8440" y="90360"/>
            <a:ext cx="3854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Beyond the tensor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 angular resolution diffusion imaging (HARDI): More complex models to capture more complex microarchitectur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ixture of tensors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2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er-rank tensor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Frank’02, Özarslan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all-and-stick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Behrens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rientation distribution function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4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 spectrum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Wedeen’05]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tensor is an imperfect model: What if more than one major diffusion direction in the same vox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828800"/>
            <a:ext cx="12063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11960" y="2044800"/>
            <a:ext cx="685800" cy="10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99000" y="2070000"/>
            <a:ext cx="762120" cy="100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7280" y="195588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345" t="13525" r="26091" b="6762"/>
          <a:stretch/>
        </p:blipFill>
        <p:spPr>
          <a:xfrm>
            <a:off x="2666880" y="1828800"/>
            <a:ext cx="2438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027-6062-48AF-A27B-21232424B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90760" y="4111560"/>
            <a:ext cx="609480" cy="609840"/>
          </a:xfrm>
          <a:prstGeom prst="ellipse">
            <a:avLst/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12520" y="90360"/>
            <a:ext cx="4087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dels of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24080" y="1066680"/>
          <a:ext cx="5562360" cy="525780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Diffusion spectrum (DS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ull distribution of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distribution function (Q-bal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o magnitude info, only ori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all-and-stic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and magnitude for up to N anisotropic compart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ensor (DT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le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rot="16200000">
            <a:off x="13078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5094800"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3874400">
            <a:off x="129528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75800">
            <a:off x="129528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767200">
            <a:off x="129492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9832800">
            <a:off x="701280" y="3023280"/>
            <a:ext cx="2179800" cy="169920"/>
          </a:xfrm>
          <a:prstGeom prst="leftRightArrow">
            <a:avLst>
              <a:gd name="adj1" fmla="val 50000"/>
              <a:gd name="adj2" fmla="val 255380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8824200">
            <a:off x="1308240" y="30441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7725600">
            <a:off x="129564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6505200">
            <a:off x="1041120" y="305748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3381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5094800">
            <a:off x="1245240" y="1700640"/>
            <a:ext cx="1066680" cy="172800"/>
          </a:xfrm>
          <a:prstGeom prst="leftRightArrow">
            <a:avLst>
              <a:gd name="adj1" fmla="val 50000"/>
              <a:gd name="adj2" fmla="val 122886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874400">
            <a:off x="1325520" y="171396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2775800">
            <a:off x="132552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03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1767200">
            <a:off x="132516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520" y="17146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9832800">
            <a:off x="685080" y="1716840"/>
            <a:ext cx="2089080" cy="165240"/>
          </a:xfrm>
          <a:prstGeom prst="leftRightArrow">
            <a:avLst>
              <a:gd name="adj1" fmla="val 50000"/>
              <a:gd name="adj2" fmla="val 251683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8824200">
            <a:off x="1338120" y="17006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7725600">
            <a:off x="13255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6505200">
            <a:off x="1071360" y="171432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9832800">
            <a:off x="729720" y="4317480"/>
            <a:ext cx="2089440" cy="165240"/>
          </a:xfrm>
          <a:prstGeom prst="leftRightArrow">
            <a:avLst>
              <a:gd name="adj1" fmla="val 50000"/>
              <a:gd name="adj2" fmla="val 251727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rot="6505200">
            <a:off x="1071360" y="431460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8259600">
            <a:off x="1066680" y="5307840"/>
            <a:ext cx="1384560" cy="143280"/>
          </a:xfrm>
          <a:prstGeom prst="leftRightArrow">
            <a:avLst>
              <a:gd name="adj1" fmla="val 50000"/>
              <a:gd name="adj2" fmla="val 192371"/>
            </a:avLst>
          </a:prstGeom>
          <a:solidFill>
            <a:srgbClr val="ffa5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BEA-46E5-4423-8335-3F2064284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73120" y="90360"/>
            <a:ext cx="45622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xample: DTI vs. DS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68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19320" y="579132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Wedee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 complex tissue architecture with diffusion spectrum magnetic resonance imaging, MRM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AD6-5974-4C72-85AD-C3E001145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32200" y="90360"/>
            <a:ext cx="3486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cquisi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member: A tensor has six unique paramete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11718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383" t="1248" r="2812" b="921"/>
          <a:stretch/>
        </p:blipFill>
        <p:spPr>
          <a:xfrm>
            <a:off x="6149880" y="1752480"/>
            <a:ext cx="1160640" cy="1371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758" t="646" r="536" b="921"/>
          <a:stretch/>
        </p:blipFill>
        <p:spPr>
          <a:xfrm>
            <a:off x="5045040" y="19810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7242120" y="3352680"/>
            <a:ext cx="116856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1451" t="646" r="383" b="0"/>
          <a:stretch/>
        </p:blipFill>
        <p:spPr>
          <a:xfrm>
            <a:off x="6149880" y="3581280"/>
            <a:ext cx="11574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29200" y="38098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7599960" y="1066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77320" y="15238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3280" y="1295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80880" y="28954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37880" y="31240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77320" y="3352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098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estimate six parameters at each voxel, must acquire at least six diffusion-weighted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 models have more parameters per voxel, so more images must be ac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25960" y="2209680"/>
            <a:ext cx="2536200" cy="1364400"/>
            <a:chOff x="1425960" y="2209680"/>
            <a:chExt cx="2536200" cy="1364400"/>
          </a:xfrm>
        </p:grpSpPr>
        <p:sp>
          <p:nvSpPr>
            <p:cNvPr id="263" name=""/>
            <p:cNvSpPr/>
            <p:nvPr/>
          </p:nvSpPr>
          <p:spPr>
            <a:xfrm>
              <a:off x="2351160" y="223164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25960" y="258912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44880" y="220968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3796920" y="220968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10D-9FA0-4B69-AE26-F5C9BDF047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36560" y="90360"/>
            <a:ext cx="60357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1: Gradient direction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||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ximum attenua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o attenua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capture all diffusion directions well, gradient directions should cover 3D space uniforml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038480" y="182880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133360"/>
            <a:ext cx="609840" cy="2286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46920" y="195732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3680" y="2254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336852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835440" y="3406680"/>
            <a:ext cx="203040" cy="495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46920" y="349740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6920" y="37940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no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83120" y="5273640"/>
            <a:ext cx="129528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083120" y="5645160"/>
            <a:ext cx="336600" cy="162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1200" y="540216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66600" y="569916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partly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14800" y="5264280"/>
            <a:ext cx="177840" cy="558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526428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F82-BD8D-482B-A030-BC7CDD10E9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92120" y="90360"/>
            <a:ext cx="4725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many directions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ring data with more gradient directions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ore reliable estimation of diffusion measur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imaging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Subject discomfort, more susceptible to artifacts due to motion, respiration, etc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 directions is the minimum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minishing returns after a certain number 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[Jones, 2004]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76E-2205-43F4-A51A-FF65D3C12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79240" y="90360"/>
            <a:ext cx="45514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2: The b-val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b-value depends on acquisition parameters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/3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gyromagnetic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the strength of the diffusion-encoding gradient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9e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duration of each diffusion-encoding puls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33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interval b/w diffusion-encoding puls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566424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019920" y="4902120"/>
            <a:ext cx="1371600" cy="762120"/>
            <a:chOff x="6019920" y="4902120"/>
            <a:chExt cx="1371600" cy="762120"/>
          </a:xfrm>
        </p:grpSpPr>
        <p:sp>
          <p:nvSpPr>
            <p:cNvPr id="291" name=""/>
            <p:cNvSpPr/>
            <p:nvPr/>
          </p:nvSpPr>
          <p:spPr>
            <a:xfrm>
              <a:off x="60199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771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94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16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43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866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88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915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17800" y="44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9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85800" y="44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8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3600" y="4494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2520" y="504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3356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2080" y="45403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467160" y="487656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467160" y="540972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5580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064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130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F64-7D9F-40B7-A950-1B3BDFCFC6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9800" y="74520"/>
            <a:ext cx="46846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White-matter imaging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2425" b="0"/>
          <a:stretch/>
        </p:blipFill>
        <p:spPr>
          <a:xfrm>
            <a:off x="5464080" y="1206360"/>
            <a:ext cx="3070440" cy="4724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7280" y="114300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xons measure ~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 in width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y group together in bundles that traverse the white matter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cannot image individual axons but we can image bundles with diffusion MRI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Useful in studying neurodegenerative diseases, stroke, aging, development…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5397480" y="5999040"/>
            <a:ext cx="2971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</a:t>
            </a:r>
            <a:r>
              <a:rPr b="0" i="1" lang="en-US" sz="900" spc="-1" strike="noStrike">
                <a:solidFill>
                  <a:srgbClr val="ffffff"/>
                </a:solidFill>
                <a:latin typeface="Georgia"/>
              </a:rPr>
              <a:t>Gray's Anatomy: IX. Neur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8212" t="0" r="0" b="1611"/>
          <a:stretch/>
        </p:blipFill>
        <p:spPr>
          <a:xfrm>
            <a:off x="609480" y="1217520"/>
            <a:ext cx="2046240" cy="464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940360"/>
            <a:ext cx="2057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the National Institute on Ag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948-0F55-43C3-87D6-E4F7D403E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65080" y="90360"/>
            <a:ext cx="39783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high b-value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ing the b-value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contrast b/w areas of higher and lower diffusivity in principl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creased signal-to-noise rati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ess reliable estimation of diffusion measures in practic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 b ~ 1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 b ~ 10,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ata can be acquired at multiple b-values for trade-off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peat acquisition and average to increase signal-to-noise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3AD-E160-44C3-98BD-3CD34EDBE8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41320" y="90360"/>
            <a:ext cx="40798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oking at the dat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2392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diffusion data set consists of: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non-diffusion-weighted a.k.a “baseline” a.k.a. “low-b” images (b-value = 0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diffusion-weighted (DW) images acquired with different gradient directions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… and b-value &gt;0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diffusion-weighted images have lower intensity value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198520" y="3416400"/>
            <a:ext cx="4469040" cy="2606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7040" y="3492360"/>
            <a:ext cx="1157760" cy="70380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93080" y="3492360"/>
            <a:ext cx="1371600" cy="100872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Diffusion-weigh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54360" y="3889440"/>
            <a:ext cx="457200" cy="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898800"/>
            <a:ext cx="533520" cy="0"/>
          </a:xfrm>
          <a:prstGeom prst="line">
            <a:avLst/>
          </a:prstGeom>
          <a:ln w="38160">
            <a:solidFill>
              <a:srgbClr val="fffb6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312408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78360" y="3124080"/>
            <a:ext cx="8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31370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13704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59738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790-4A81-4703-BD5C-EE30B562B1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0200" y="90360"/>
            <a:ext cx="71960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Field inhomogeneiti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903" t="2176" r="903" b="1088"/>
          <a:stretch/>
        </p:blipFill>
        <p:spPr>
          <a:xfrm>
            <a:off x="5745240" y="1812960"/>
            <a:ext cx="2763720" cy="3390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85800" y="1587600"/>
            <a:ext cx="50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canner-dependent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(imperfections of main magnetic fie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ubject-dependent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changes in magnetic susceptibility in tissue/air interfa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gnal loss in interface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eometric distortions (warping) of the entire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83400" y="1282680"/>
            <a:ext cx="1857240" cy="39888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Georgia"/>
              </a:rPr>
              <a:t>Signal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94640" y="1685880"/>
            <a:ext cx="0" cy="60948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439-CBFF-44CE-9AF6-34A8814971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83880" y="90360"/>
            <a:ext cx="55594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Eddy curr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9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219320"/>
            <a:ext cx="4647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: Fast switching of diffusion-encoding gradients induces eddy currents in conducting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ddy currents lead to residual gradients that shift the diffusion grad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shifts are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direction-dependent,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i.e.,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 for each DW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: Geometric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100480" y="1357200"/>
            <a:ext cx="3434040" cy="3380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638680" y="47242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Le Biha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tifacts and pitfalls in diffusion MRI, JMRI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87A-CFE2-407D-B61F-0E4749B263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6000" y="90360"/>
            <a:ext cx="4016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nalysis step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066680"/>
            <a:ext cx="549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re-process images to reduce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Either register distorted DW images to an undistorted (non-DW) im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Or use information on distortions from separate scans (field map, residual gradients)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t a diffusion model at every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TI, DSI, Q-ball,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o tractography to reconstruct pathways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ute measures of anisotropy/diffusivity and compare them between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Voxel-based, ROI-based, or tract-based statistical 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11680" t="13621" r="26091" b="6820"/>
          <a:stretch/>
        </p:blipFill>
        <p:spPr>
          <a:xfrm>
            <a:off x="6197760" y="2602080"/>
            <a:ext cx="2181240" cy="1495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202440" y="1195560"/>
            <a:ext cx="2174760" cy="126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rcRect l="14626" t="0" r="14074" b="0"/>
          <a:stretch/>
        </p:blipFill>
        <p:spPr>
          <a:xfrm>
            <a:off x="6203880" y="4257720"/>
            <a:ext cx="2178000" cy="191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C1E-A6F1-4283-9C51-EAB75EB287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8320" y="90360"/>
            <a:ext cx="50533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in brain tiss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ray matter: Diffusion is un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ite matter: Diffusion is 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n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iate between tissues based on the diffusion (random motion) of water molecules within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743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746840" y="2298240"/>
            <a:ext cx="266760" cy="406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2316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4692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277040" y="3009960"/>
            <a:ext cx="2793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85000" y="2983680"/>
            <a:ext cx="30492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264080" y="2324160"/>
            <a:ext cx="30492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32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969160" y="5221080"/>
            <a:ext cx="482400" cy="1522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94360" y="5437080"/>
            <a:ext cx="4827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18120" y="5360760"/>
            <a:ext cx="5335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17760" y="5487840"/>
            <a:ext cx="546120" cy="511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875040"/>
            <a:ext cx="2514600" cy="140976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332240"/>
            <a:ext cx="2590920" cy="137160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4760" y="452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289640" y="4091040"/>
            <a:ext cx="22860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353360" y="4218120"/>
            <a:ext cx="30492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06880" y="4726080"/>
            <a:ext cx="29196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97680" y="4788720"/>
            <a:ext cx="177840" cy="343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637160"/>
            <a:ext cx="3429000" cy="1306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70480" y="5272200"/>
            <a:ext cx="75960" cy="75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59400" y="5246280"/>
            <a:ext cx="317520" cy="25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3840" y="5335560"/>
            <a:ext cx="57168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4D9-DF5D-46DA-9882-A25F58ACC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03200" y="90360"/>
            <a:ext cx="3102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resonance imaging can provide “diffusion encoding”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field strength is varied by gradients in different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 intensity is attenuated depending on water diffusion in each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are with baseline images to infer on diffusion proces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85" t="0" r="4816" b="0"/>
          <a:stretch/>
        </p:blipFill>
        <p:spPr>
          <a:xfrm>
            <a:off x="5181480" y="4923000"/>
            <a:ext cx="1096920" cy="132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65640" y="1338120"/>
            <a:ext cx="104796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rcRect l="2165" t="0" r="0" b="0"/>
          <a:stretch/>
        </p:blipFill>
        <p:spPr>
          <a:xfrm>
            <a:off x="6172200" y="1719360"/>
            <a:ext cx="1038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164360" y="2143080"/>
            <a:ext cx="1065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rcRect l="3744" t="0" r="0" b="0"/>
          <a:stretch/>
        </p:blipFill>
        <p:spPr>
          <a:xfrm>
            <a:off x="5165640" y="2701800"/>
            <a:ext cx="106380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6"/>
          <a:srcRect l="0" t="0" r="2334" b="0"/>
          <a:stretch/>
        </p:blipFill>
        <p:spPr>
          <a:xfrm>
            <a:off x="6138720" y="3063960"/>
            <a:ext cx="106380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7"/>
          <a:srcRect l="2967" t="0" r="2967" b="0"/>
          <a:stretch/>
        </p:blipFill>
        <p:spPr>
          <a:xfrm>
            <a:off x="7170840" y="3506760"/>
            <a:ext cx="105876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732720" y="5486400"/>
            <a:ext cx="137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No diffusion enco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838080"/>
            <a:ext cx="15242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Diffusion encoding in direction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291360" y="5680080"/>
            <a:ext cx="457200" cy="144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154620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229520" y="17445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1752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981920" y="192564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8040" y="408636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76640" y="4009680"/>
            <a:ext cx="35748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10160" y="433548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38760" y="42591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6840" y="457200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05440" y="4495680"/>
            <a:ext cx="35748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248520" y="12700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E92-6FB6-42BC-88A3-2736EE530A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54360" y="90360"/>
            <a:ext cx="5605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to represent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very voxel we want to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 this in white mat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f yes, what pathway(s) is it part of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orientation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magnitude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grayscale image cannot capture all thi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5522" t="0" r="15167" b="0"/>
          <a:stretch/>
        </p:blipFill>
        <p:spPr>
          <a:xfrm>
            <a:off x="1117440" y="1143000"/>
            <a:ext cx="312444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4438" t="13621" r="26091" b="6820"/>
          <a:stretch/>
        </p:blipFill>
        <p:spPr>
          <a:xfrm>
            <a:off x="4610160" y="1346040"/>
            <a:ext cx="2435040" cy="1495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803240" y="1905120"/>
            <a:ext cx="762120" cy="4953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65360" y="1371600"/>
            <a:ext cx="2057400" cy="53352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65360" y="2387520"/>
            <a:ext cx="2057400" cy="4320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1440" y="2374920"/>
            <a:ext cx="114120" cy="1141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22960" y="2145960"/>
            <a:ext cx="1143000" cy="2286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1120" y="2502000"/>
            <a:ext cx="1130400" cy="20304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12076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42280" y="2311560"/>
            <a:ext cx="52056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19E-F13C-4C84-BAB1-24187CC3E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60560" y="90360"/>
            <a:ext cx="17874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ens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way to express the notion of direction is 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tensor is a 3x3 symmetric, positive-definite matrix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4197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symmetric 3x3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t has 6 uniqu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uffices to estimate the upper (lower) triangular 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52920" y="2590920"/>
            <a:ext cx="2536200" cy="1364400"/>
            <a:chOff x="1852920" y="2590920"/>
            <a:chExt cx="2536200" cy="1364400"/>
          </a:xfrm>
        </p:grpSpPr>
        <p:sp>
          <p:nvSpPr>
            <p:cNvPr id="120" name=""/>
            <p:cNvSpPr/>
            <p:nvPr/>
          </p:nvSpPr>
          <p:spPr>
            <a:xfrm>
              <a:off x="2778120" y="261288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2920" y="297036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1840" y="259092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223880" y="259092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723-4E38-452D-A14B-B6EE1D9735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29000" y="274320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14400" y="90360"/>
            <a:ext cx="5680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igenvalues &amp; eigenvect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matri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positive-defini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real, positive eigenvalues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orthogonal eigenvector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60400" y="4495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4952880"/>
            <a:ext cx="9144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41640" y="4952880"/>
            <a:ext cx="380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360" y="5638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710760" y="4648320"/>
            <a:ext cx="1311480" cy="1342440"/>
            <a:chOff x="6710760" y="4648320"/>
            <a:chExt cx="1311480" cy="1342440"/>
          </a:xfrm>
        </p:grpSpPr>
        <p:grpSp>
          <p:nvGrpSpPr>
            <p:cNvPr id="132" name=""/>
            <p:cNvGrpSpPr/>
            <p:nvPr/>
          </p:nvGrpSpPr>
          <p:grpSpPr>
            <a:xfrm>
              <a:off x="7413480" y="4648320"/>
              <a:ext cx="608760" cy="1342440"/>
              <a:chOff x="7413480" y="4648320"/>
              <a:chExt cx="608760" cy="1342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500960" y="4648320"/>
                <a:ext cx="519120" cy="13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x</a:t>
                </a:r>
                <a:r>
                  <a:rPr b="0" i="1" lang="en-US" sz="2400" spc="-1" strike="noStrike">
                    <a:solidFill>
                      <a:srgbClr val="ff8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348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800000">
                <a:off x="787032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710760" y="5028840"/>
              <a:ext cx="64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65400" y="5638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70240" y="49528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51120" y="4952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21240" y="337788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1240" y="3390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65560" y="3390840"/>
            <a:ext cx="355680" cy="34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18240" y="2933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2960" y="3213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9640" y="35179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459-A154-4A5C-8E73-965461CD8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3960" y="90360"/>
            <a:ext cx="4800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hysical interpreta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s express diffusion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s express diffusion magnitud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1608120" y="2909880"/>
            <a:ext cx="2209680" cy="2171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700000" y="3912840"/>
            <a:ext cx="12600" cy="825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392580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03480" y="3925800"/>
            <a:ext cx="596880" cy="596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97360" y="34686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99040" y="40528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38880" y="44593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65720" y="325296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57960" y="3836880"/>
            <a:ext cx="0" cy="432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7960" y="3849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02280" y="3849840"/>
            <a:ext cx="355680" cy="34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4960" y="3392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59680" y="3672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26360" y="397656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2133720"/>
            <a:ext cx="32288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84920" y="2168640"/>
            <a:ext cx="39906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&gt;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21496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such ellipsoid at each voxel: Likelihood of water molecule displacements at that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030-C950-418C-A0BE-3E43694A32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0710" t="431" r="17388" b="875"/>
          <a:stretch/>
        </p:blipFill>
        <p:spPr>
          <a:xfrm>
            <a:off x="4863960" y="2209680"/>
            <a:ext cx="31114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416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0968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775040" y="5392800"/>
            <a:ext cx="327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0AE-0FE0-4696-A409-A60E97FA2A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20:46:37Z</dcterms:created>
  <dc:creator>Anastasia Yendiki</dc:creator>
  <dc:description/>
  <dc:language>en-US</dc:language>
  <cp:lastModifiedBy>Anastasia Yendiki</cp:lastModifiedBy>
  <cp:lastPrinted>2008-10-08T21:25:17Z</cp:lastPrinted>
  <dcterms:modified xsi:type="dcterms:W3CDTF">2011-04-04T14:51:35Z</dcterms:modified>
  <cp:revision>258</cp:revision>
  <dc:subject/>
  <dc:title>Anatomically constrained  white-matter tractography</dc:title>
</cp:coreProperties>
</file>