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lstStyle>
            <a:lvl1pPr indent="0" algn="r"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258560" y="7189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25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lstStyle>
            <a:lvl1pPr indent="0"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lstStyle>
            <a:lvl1pPr indent="0" algn="r"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6DA41787-98A0-481B-869E-91E116A927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25892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25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ccurately follow boundar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urn surfaces on/off to check; change brightness &amp; contrast; is this where I would draw boundar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ertain areas that don’t matter: surfaces near subcortical stru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urfaces for wm/gm don’t check aseg for gm/w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D53D-A1A4-4AC4-B23D-8FC2C9BE4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0577-4ACD-47AA-8CB6-1EE635C3F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6D7D-5AEE-4222-84AF-07AC1C271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35D7-8D78-408C-B645-DD6C922F5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437FE-B695-404B-BF1B-E66C0A24C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22A6C-AA4C-4252-9944-7B670B4A7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25C79-EBF4-47A7-BC6F-FDC82CB2C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A141F-C0EF-4B69-A3AF-0F81E3B51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C0081-69B7-4677-8492-2DDC8FAD5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A17EF-605D-4206-BBB6-85A21EE31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E35CA-47F7-4D5B-B501-EA23A092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09B6-C984-4B0A-A979-BB864F94D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FCFA6-2C83-4B0B-9977-C424F1E3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8D0C3-3734-414A-A0C8-FFBFA823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2A59E-F03F-46BB-A1E2-5DE836999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7ABE9-EF5E-46BE-869A-7B73CC79B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9CE67-B98A-48F2-93ED-493052D00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10B3-9F4F-4173-AAE7-6B15FE3C6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023F-F6EB-4363-9478-216BD5B76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9A8D-D953-4DC5-943A-20B3D7E77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E766-DB89-4BC1-8813-771010E3B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33D1-9A81-4192-B123-0953C9C5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2577-D488-4DD7-8BDD-955BE11D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AC5C-1FD9-4F50-A9B5-EC243E7C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CBE49-8CBB-4FFC-B8BB-4F418CA185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429000"/>
          </a:xfrm>
          <a:prstGeom prst="roundRect">
            <a:avLst>
              <a:gd name="adj" fmla="val 42"/>
            </a:avLst>
          </a:prstGeom>
          <a:gradFill rotWithShape="0">
            <a:gsLst>
              <a:gs pos="0">
                <a:srgbClr val="00b8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0908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 algn="ctr">
              <a:lnSpc>
                <a:spcPct val="97000"/>
              </a:lnSpc>
              <a:buNone/>
              <a:tabLst>
                <a:tab algn="l" pos="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r>
              <a:rPr b="1" lang="en-US" sz="4000" spc="-1" strike="noStrike">
                <a:solidFill>
                  <a:srgbClr val="4c4c4c"/>
                </a:solidFill>
                <a:latin typeface="Bitstream Vera Sans"/>
              </a:rPr>
              <a:t>Click to edit the title text format</a:t>
            </a:r>
            <a:endParaRPr b="1" lang="en-US" sz="4000" spc="-1" strike="noStrike">
              <a:solidFill>
                <a:srgbClr val="4c4c4c"/>
              </a:solidFill>
              <a:latin typeface="Bitstream Ver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4414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2040" indent="-293760">
              <a:lnSpc>
                <a:spcPct val="68000"/>
              </a:lnSpc>
              <a:spcAft>
                <a:spcPts val="1287"/>
              </a:spcAft>
              <a:buClr>
                <a:srgbClr val="4c4c4c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4c4c4c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4c4c4c"/>
              </a:solidFill>
              <a:latin typeface="Times New Roman"/>
            </a:endParaRPr>
          </a:p>
          <a:p>
            <a:pPr lvl="1" marL="782640" indent="-260280">
              <a:lnSpc>
                <a:spcPct val="68000"/>
              </a:lnSpc>
              <a:spcAft>
                <a:spcPts val="1287"/>
              </a:spcAft>
              <a:buClr>
                <a:srgbClr val="4c4c4c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4c4c4c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4c4c4c"/>
              </a:solidFill>
              <a:latin typeface="Times New Roman"/>
            </a:endParaRPr>
          </a:p>
          <a:p>
            <a:pPr lvl="2" marL="1174680" indent="-195120">
              <a:lnSpc>
                <a:spcPct val="68000"/>
              </a:lnSpc>
              <a:spcAft>
                <a:spcPts val="1287"/>
              </a:spcAft>
              <a:buClr>
                <a:srgbClr val="4c4c4c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4c4c4c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4c4c4c"/>
              </a:solidFill>
              <a:latin typeface="Times New Roman"/>
            </a:endParaRPr>
          </a:p>
          <a:p>
            <a:pPr lvl="3" marL="1566720" indent="-195120">
              <a:lnSpc>
                <a:spcPct val="68000"/>
              </a:lnSpc>
              <a:spcAft>
                <a:spcPts val="1287"/>
              </a:spcAft>
              <a:buClr>
                <a:srgbClr val="4c4c4c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4c4c4c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4c4c4c"/>
              </a:solidFill>
              <a:latin typeface="Times New Roman"/>
            </a:endParaRPr>
          </a:p>
          <a:p>
            <a:pPr lvl="4" marL="1959120" indent="-196920">
              <a:lnSpc>
                <a:spcPct val="68000"/>
              </a:lnSpc>
              <a:spcAft>
                <a:spcPts val="1287"/>
              </a:spcAft>
              <a:buClr>
                <a:srgbClr val="4c4c4c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4c4c4c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4c4c4c"/>
              </a:solidFill>
              <a:latin typeface="Times New Roman"/>
            </a:endParaRPr>
          </a:p>
          <a:p>
            <a:pPr lvl="5" marL="1959120" indent="-196920">
              <a:lnSpc>
                <a:spcPct val="68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4c4c4c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4c4c4c"/>
              </a:solidFill>
              <a:latin typeface="Times New Roman"/>
            </a:endParaRPr>
          </a:p>
          <a:p>
            <a:pPr lvl="6" marL="1959120" indent="-196920">
              <a:lnSpc>
                <a:spcPct val="68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4c4c4c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4c4c4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6720"/>
            <a:ext cx="212724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7320" y="6246720"/>
            <a:ext cx="289728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4520" y="6246720"/>
            <a:ext cx="212868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fld id="{9A72250D-735E-46AF-AD05-D1DDD325CFAE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Quality Check Your Recon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000" y="1981080"/>
            <a:ext cx="872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Do your surfaces follow gm/wm borders?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Does the subcortical segmentation follow intensity boundaries?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235240" y="1066680"/>
            <a:ext cx="4673520" cy="46738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76320"/>
            <a:ext cx="899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imes New Roman"/>
              </a:rPr>
              <a:t>Output of Cortical Surface Reconstr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How Know What to Edit?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76200" y="1981080"/>
            <a:ext cx="85392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it affects the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ial surface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dit brainmask.mgz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it affects the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white surface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dit the wm.mgz 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f segmentation err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d control points 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f normalization err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38000" y="-54360"/>
            <a:ext cx="766908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Troubleshooting – Advice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8760" y="1422360"/>
            <a:ext cx="8826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OW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MBIGUITY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ISTENCY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dit consistently within and across subjects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ED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ou will get faster with time; certain sections go faster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imes New Roman"/>
              </a:rPr>
              <a:t>Must rerun to fix errors</a:t>
            </a:r>
            <a:endParaRPr b="0" lang="en-US" sz="4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1905120"/>
            <a:ext cx="8458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recon-all   -autorecon2   -autorecon3  (Stages 6+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kull strip error (after fixed watershed/clon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recon-all   -autorecon2  -autorecon3   (Stages 10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dded control poi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recon-all   -autorecon2-wm  -autorecon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(Stages 13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dited wm.mg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recon-all   -autorecon-pial (Stage 19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dited brainmask.mg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Or Make Life Easier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recon-all  -make  all   -s  subjid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Start Over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recon-all   -all   -clean   -s  subjid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9T20:15:13Z</dcterms:created>
  <dc:creator>Douglas Greve</dc:creator>
  <dc:description/>
  <dc:language>en-US</dc:language>
  <cp:lastModifiedBy>Allison</cp:lastModifiedBy>
  <dcterms:modified xsi:type="dcterms:W3CDTF">2012-03-26T02:38:52Z</dcterms:modified>
  <cp:revision>706</cp:revision>
  <dc:subject/>
  <dc:title>Surferfest </dc:title>
</cp:coreProperties>
</file>