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AAB-2F0D-4E88-ADE8-67EFF71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8A4-F81D-4B9A-8D42-F30E268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5B1-ADFF-4AE2-8F2A-326202A6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AF2-92C9-4A60-848E-8767720C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117-4275-4FAD-9C74-7EA97AC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405-3E6B-4F95-9C9C-A891911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4CC-0AA5-4D59-A467-84A4652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F70-1E97-435E-9D61-CC23A8B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65F-F855-4303-BBC6-1DA8ABE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ADB-83C0-4354-8493-C1D055D0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1F5-4D5C-4DAC-BE88-E7C4C196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0DA-FCEC-44D2-B63C-020CC3E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BA9E-735C-45FB-B017-450C9AC7D382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029-FED4-4099-9A65-7348B1C5010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7886520" y="-36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F84-F682-41C9-B85F-AB8E51D89E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3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4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5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9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9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2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4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4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5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7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9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0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0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0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1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1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2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2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4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5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6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7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0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5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5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167292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2760" y="464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640" y="1905120"/>
            <a:ext cx="350532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8680" y="1905120"/>
            <a:ext cx="423756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put file (output from smoothing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ck of subjects, one frame per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09" name=""/>
          <p:cNvCxnSpPr>
            <a:stCxn id="707" idx="3"/>
            <a:endCxn id="708" idx="1"/>
          </p:cNvCxnSpPr>
          <p:nvPr/>
        </p:nvCxnSpPr>
        <p:spPr>
          <a:xfrm>
            <a:off x="4152600" y="2095200"/>
            <a:ext cx="1220040" cy="167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2286000"/>
            <a:ext cx="350496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92360" y="2286000"/>
            <a:ext cx="456372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Group Descriptor File (FSG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Group membershi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variat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3"/>
            <a:endCxn id="713" idx="1"/>
          </p:cNvCxnSpPr>
          <p:nvPr/>
        </p:nvCxnSpPr>
        <p:spPr>
          <a:xfrm>
            <a:off x="4076280" y="2476080"/>
            <a:ext cx="1220040" cy="320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640" y="2666880"/>
            <a:ext cx="3505320" cy="38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74800" y="2666880"/>
            <a:ext cx="273636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trast Matric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mple text/ASCII fi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st hypothe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7" idx="3"/>
            <a:endCxn id="718" idx="1"/>
          </p:cNvCxnSpPr>
          <p:nvPr/>
        </p:nvCxnSpPr>
        <p:spPr>
          <a:xfrm>
            <a:off x="4152600" y="2857680"/>
            <a:ext cx="1220040" cy="3196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7040" y="3011400"/>
            <a:ext cx="3505320" cy="722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19640" y="1981080"/>
            <a:ext cx="4496040" cy="13136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form analysis on left hemisphere of fsaverage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sks by fsaverage cortex.lab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mputes FWHM in 2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2" idx="3"/>
            <a:endCxn id="723" idx="1"/>
          </p:cNvCxnSpPr>
          <p:nvPr/>
        </p:nvCxnSpPr>
        <p:spPr>
          <a:xfrm flipV="1">
            <a:off x="4032360" y="2642400"/>
            <a:ext cx="1187640" cy="73116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lh.gender_age.glmdir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360" y="3733920"/>
            <a:ext cx="4038480" cy="417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7" idx="3"/>
            <a:endCxn id="729" idx="1"/>
          </p:cNvCxnSpPr>
          <p:nvPr/>
        </p:nvCxnSpPr>
        <p:spPr>
          <a:xfrm flipV="1">
            <a:off x="4533480" y="3385800"/>
            <a:ext cx="686520" cy="55800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5220720" y="1143000"/>
            <a:ext cx="4650840" cy="4483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Output director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48240" y="3200400"/>
            <a:ext cx="46483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4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49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3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4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755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62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135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040" y="2362320"/>
            <a:ext cx="50292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9760" y="129528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CD8-AAE1-4E4D-AC2F-8DACF1CD9E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04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2743200"/>
            <a:ext cx="3810240" cy="457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7" idx="3"/>
            <a:endCxn id="779" idx="1"/>
          </p:cNvCxnSpPr>
          <p:nvPr/>
        </p:nvCxnSpPr>
        <p:spPr>
          <a:xfrm>
            <a:off x="4457880" y="2971800"/>
            <a:ext cx="1829520" cy="10072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grpSp>
        <p:nvGrpSpPr>
          <p:cNvPr id="780" name=""/>
          <p:cNvGrpSpPr/>
          <p:nvPr/>
        </p:nvGrpSpPr>
        <p:grpSpPr>
          <a:xfrm>
            <a:off x="6210360" y="1828800"/>
            <a:ext cx="3276720" cy="2343600"/>
            <a:chOff x="6210360" y="1828800"/>
            <a:chExt cx="3276720" cy="2343600"/>
          </a:xfrm>
        </p:grpSpPr>
        <p:sp>
          <p:nvSpPr>
            <p:cNvPr id="779" name=""/>
            <p:cNvSpPr/>
            <p:nvPr/>
          </p:nvSpPr>
          <p:spPr>
            <a:xfrm>
              <a:off x="6286680" y="3773520"/>
              <a:ext cx="3200400" cy="3988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                                              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10360" y="1828800"/>
              <a:ext cx="327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 u="sng">
                  <a:solidFill>
                    <a:srgbClr val="bbe0e3"/>
                  </a:solidFill>
                  <a:uFillTx/>
                  <a:latin typeface="Times New Roman"/>
                </a:rPr>
                <a:t>Original mri_glmfit command: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mri_glmfit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y lh.thickness.sm10.mgh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fsgd gender_age.tx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 age.mtx –C gender.mt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surf fsaverage 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ort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--glmdir lh.gender_age.glmdir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287040" y="4267080"/>
            <a:ext cx="2797560" cy="243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lh.gender_age.glmdi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beta.mgh – parameter estimates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rvar.mgh – residual error varian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etc …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age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, uncorrected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ende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50E-8222-4B7E-A0CE-AB03761644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9040" y="2362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4440" y="310500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6" idx="3"/>
          </p:cNvCxnSpPr>
          <p:nvPr/>
        </p:nvCxnSpPr>
        <p:spPr>
          <a:xfrm flipV="1">
            <a:off x="3342960" y="3276360"/>
            <a:ext cx="1724760" cy="57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5067360" y="2590920"/>
            <a:ext cx="4971960" cy="19227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pre-cached simulation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ve contra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oxelwise threshold = 2 (p&lt;.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use another simulation or permu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D84-F5F8-4FF4-9C83-119769B7E6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040" y="23623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4440" y="344808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2" idx="3"/>
          </p:cNvCxnSpPr>
          <p:nvPr/>
        </p:nvCxnSpPr>
        <p:spPr>
          <a:xfrm flipV="1">
            <a:off x="3342960" y="3618720"/>
            <a:ext cx="1724760" cy="579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5067360" y="3429000"/>
            <a:ext cx="41148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-wise threshold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3440" y="4800600"/>
            <a:ext cx="86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Cluster-wise threshold p&lt;.025 when I wanted p &lt; .05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rrection across 2 spaces: lh and rh:   .025 = .05/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onferroni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DBB-E01A-43C9-B25E-1C9100C2670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1200" y="152280"/>
            <a:ext cx="91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 Output (Surfac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3080" y="1371600"/>
            <a:ext cx="43434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-US" sz="2400" spc="-1" strike="noStrike">
                <a:solidFill>
                  <a:srgbClr val="fff75e"/>
                </a:solidFill>
                <a:latin typeface="Times New Roman"/>
              </a:rPr>
              <a:t>l</a:t>
            </a:r>
            <a:r>
              <a:rPr b="0" lang="en" sz="2400" spc="-1" strike="noStrike">
                <a:solidFill>
                  <a:srgbClr val="fff75e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2280" y="1173240"/>
            <a:ext cx="236304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75e"/>
                </a:solidFill>
                <a:latin typeface="Times New Roman"/>
              </a:rPr>
              <a:t>lh.gender_age.glmdi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4200" y="2244600"/>
            <a:ext cx="519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360" y="3200400"/>
            <a:ext cx="8763120" cy="192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.mg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pre-existing uncorrected p-valu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m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ap of significance of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cn.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nnotation of significant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sum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text file of cluster table (clusters, sizes, MNI305 XYZ, and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nifica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9" idx="2"/>
            <a:endCxn id="800" idx="0"/>
          </p:cNvCxnSpPr>
          <p:nvPr/>
        </p:nvCxnSpPr>
        <p:spPr>
          <a:xfrm rot="5400000">
            <a:off x="5295240" y="2171520"/>
            <a:ext cx="610200" cy="144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02" name="" descr="groupana.lat.clusters.gif"/>
          <p:cNvPicPr/>
          <p:nvPr/>
        </p:nvPicPr>
        <p:blipFill>
          <a:blip r:embed="rId1"/>
          <a:stretch/>
        </p:blipFill>
        <p:spPr>
          <a:xfrm>
            <a:off x="7962840" y="5257800"/>
            <a:ext cx="1752840" cy="1179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86360" y="5156280"/>
            <a:ext cx="69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ly shows clusters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ignificance value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ot corrected for 2 spaces!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798" idx="2"/>
            <a:endCxn id="799" idx="0"/>
          </p:cNvCxnSpPr>
          <p:nvPr/>
        </p:nvCxnSpPr>
        <p:spPr>
          <a:xfrm rot="5400000">
            <a:off x="6285960" y="1617480"/>
            <a:ext cx="665640" cy="58968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7055280" y="2244600"/>
            <a:ext cx="811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798" idx="2"/>
            <a:endCxn id="805" idx="0"/>
          </p:cNvCxnSpPr>
          <p:nvPr/>
        </p:nvCxnSpPr>
        <p:spPr>
          <a:xfrm flipH="1" rot="16200000">
            <a:off x="6854760" y="1637640"/>
            <a:ext cx="665640" cy="54864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A01-98BC-489F-9347-8C61883B06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3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3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5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5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5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7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9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22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23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23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4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6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6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7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9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9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0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0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Allison</cp:lastModifiedBy>
  <dcterms:modified xsi:type="dcterms:W3CDTF">2012-03-26T03:54:16Z</dcterms:modified>
  <cp:revision>954</cp:revision>
  <dc:subject/>
  <dc:title>Understanding Differential Responses in fMRI Through Linear Simulation</dc:title>
</cp:coreProperties>
</file>