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6.jpeg" ContentType="image/jpeg"/>
  <Override PartName="/ppt/media/image18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20.png" ContentType="image/png"/>
  <Override PartName="/ppt/media/image5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10CE-2F4B-4B94-B2CD-17C8D52C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985-67BB-479C-ACB3-360BA40B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8853-A213-4CD8-98B3-224CFE6C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08E0-D06B-40AE-978B-EEDDA47D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638A-1DC2-4E3C-B15B-A506D100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0AF-FF78-4DC6-BCB7-31093E7E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D23B-3B79-46F7-8A08-A1666087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8C1-E682-428A-AF3B-80F2C1F1E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29D4-92D7-4EF7-8A89-43595736D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8D65-56F4-4635-9C62-7E912A05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462-5B75-4A8A-9421-353B7FE8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D775-1EDC-48D3-ADE2-D8BCE250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BD19-FC56-406B-9FD2-72040CB0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93E-D62B-4699-BBC6-670F6094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91B8-E89E-418C-B298-D6A159376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73F4-73FD-406D-A250-78751714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E6B-3D4F-425A-ABD0-EE6498042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5EF-C4B6-42AC-95A2-34A1AE12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011A-498C-4A09-9442-501BED74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2C4-CE57-4BEB-9150-E552AAE3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45B-F5D6-4384-B36F-12521B8E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826-42B6-4DE9-A7D2-65766C3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321-E8A5-42E7-A27B-353E983D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CC2-6D7E-4127-9C12-3152E664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8D2-BFF5-48F9-9D54-D690DAAD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CB8-4B5D-4D59-891A-2DDFFF6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137-5CC2-4B56-8CF3-3859ED80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549-888C-45C7-855C-72D73FF9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BC7-ADFD-4D77-8922-AB3B0B72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076-3725-473C-A63D-D60B2DB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E6F-E739-4A46-93B5-98E4CFC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BBD-2952-44AF-B54E-1303508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2E7-42D2-47B9-8821-FD41E0502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Picture 6" descr="noncortical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noncortical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11" name="Oval 8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6" name="Picture 14" descr="pialsurf-invol"/>
          <p:cNvPicPr/>
          <p:nvPr/>
        </p:nvPicPr>
        <p:blipFill>
          <a:blip r:embed="rId3"/>
          <a:stretch/>
        </p:blipFill>
        <p:spPr>
          <a:xfrm>
            <a:off x="152280" y="2209680"/>
            <a:ext cx="2590920" cy="4172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3808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 g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Line 17"/>
          <p:cNvSpPr/>
          <p:nvPr/>
        </p:nvSpPr>
        <p:spPr>
          <a:xfrm flipH="1">
            <a:off x="2209320" y="373392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Line 18"/>
          <p:cNvSpPr/>
          <p:nvPr/>
        </p:nvSpPr>
        <p:spPr>
          <a:xfrm flipH="1">
            <a:off x="1980720" y="320040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Line 19"/>
          <p:cNvSpPr/>
          <p:nvPr/>
        </p:nvSpPr>
        <p:spPr>
          <a:xfrm flipH="1">
            <a:off x="2362320" y="4648320"/>
            <a:ext cx="3045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Line 20"/>
          <p:cNvSpPr/>
          <p:nvPr/>
        </p:nvSpPr>
        <p:spPr>
          <a:xfrm flipH="1">
            <a:off x="1676520" y="2590920"/>
            <a:ext cx="38088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3276720" y="1600200"/>
            <a:ext cx="0" cy="502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Picture 4" descr="noncortical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noncortical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Picture 18" descr="noncortical"/>
          <p:cNvPicPr/>
          <p:nvPr/>
        </p:nvPicPr>
        <p:blipFill>
          <a:blip r:embed="rId3"/>
          <a:stretch/>
        </p:blipFill>
        <p:spPr>
          <a:xfrm>
            <a:off x="457200" y="2819520"/>
            <a:ext cx="2828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Parcellation vs. Segment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24280" y="16002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subcortical) 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28600" y="1600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cortical) parcell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Picture 19" descr="aparc+asegAS"/>
          <p:cNvPicPr/>
          <p:nvPr/>
        </p:nvPicPr>
        <p:blipFill>
          <a:blip r:embed="rId1"/>
          <a:stretch/>
        </p:blipFill>
        <p:spPr>
          <a:xfrm>
            <a:off x="1981080" y="2057400"/>
            <a:ext cx="4602240" cy="4602240"/>
          </a:xfrm>
          <a:prstGeom prst="rect">
            <a:avLst/>
          </a:prstGeom>
          <a:ln w="0">
            <a:noFill/>
          </a:ln>
        </p:spPr>
      </p:pic>
      <p:sp>
        <p:nvSpPr>
          <p:cNvPr id="138" name="Line 20"/>
          <p:cNvSpPr/>
          <p:nvPr/>
        </p:nvSpPr>
        <p:spPr>
          <a:xfrm>
            <a:off x="1676520" y="2133720"/>
            <a:ext cx="121896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914400" y="4419720"/>
            <a:ext cx="121932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257800" y="3581280"/>
            <a:ext cx="91440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105520" y="4191120"/>
            <a:ext cx="914400" cy="838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reeSurfer Ques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arch for terms and answer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all your questions in the Glossary, FAQ, 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eSurfer Mailing List Archiv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gistration 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Goal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o find a common coordinate system for the input data s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different MRI images of the same individual (longitudinal scans, diffusion vs functional scans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MRI images of different individua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Book Antiqua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0" y="3505320"/>
            <a:ext cx="3479760" cy="3209760"/>
            <a:chOff x="0" y="3505320"/>
            <a:chExt cx="3479760" cy="3209760"/>
          </a:xfrm>
        </p:grpSpPr>
        <p:pic>
          <p:nvPicPr>
            <p:cNvPr id="150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0" y="3505320"/>
              <a:ext cx="3479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0"/>
            <p:cNvSpPr/>
            <p:nvPr/>
          </p:nvSpPr>
          <p:spPr>
            <a:xfrm>
              <a:off x="1080" y="6337440"/>
              <a:ext cx="1299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52" name="Group 20"/>
          <p:cNvGrpSpPr/>
          <p:nvPr/>
        </p:nvGrpSpPr>
        <p:grpSpPr>
          <a:xfrm>
            <a:off x="5336280" y="914400"/>
            <a:ext cx="2741040" cy="2666880"/>
            <a:chOff x="5336280" y="914400"/>
            <a:chExt cx="2741040" cy="2666880"/>
          </a:xfrm>
        </p:grpSpPr>
        <p:pic>
          <p:nvPicPr>
            <p:cNvPr id="153" name="Picture 5" descr="subject-coronal-norm.png"/>
            <p:cNvPicPr/>
            <p:nvPr/>
          </p:nvPicPr>
          <p:blipFill>
            <a:blip r:embed="rId2"/>
            <a:srcRect l="33513" t="25667" r="37827" b="13226"/>
            <a:stretch/>
          </p:blipFill>
          <p:spPr>
            <a:xfrm>
              <a:off x="5715000" y="914400"/>
              <a:ext cx="23623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20"/>
            <p:cNvSpPr/>
            <p:nvPr/>
          </p:nvSpPr>
          <p:spPr>
            <a:xfrm>
              <a:off x="5336280" y="318780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55" name="Group 19"/>
          <p:cNvGrpSpPr/>
          <p:nvPr/>
        </p:nvGrpSpPr>
        <p:grpSpPr>
          <a:xfrm>
            <a:off x="304920" y="762120"/>
            <a:ext cx="6102360" cy="5952960"/>
            <a:chOff x="304920" y="762120"/>
            <a:chExt cx="6102360" cy="5952960"/>
          </a:xfrm>
        </p:grpSpPr>
        <p:grpSp>
          <p:nvGrpSpPr>
            <p:cNvPr id="156" name="Group 14"/>
            <p:cNvGrpSpPr/>
            <p:nvPr/>
          </p:nvGrpSpPr>
          <p:grpSpPr>
            <a:xfrm>
              <a:off x="3144960" y="3505320"/>
              <a:ext cx="3262320" cy="3209760"/>
              <a:chOff x="3144960" y="3505320"/>
              <a:chExt cx="3262320" cy="3209760"/>
            </a:xfrm>
          </p:grpSpPr>
          <p:pic>
            <p:nvPicPr>
              <p:cNvPr id="157" name="Picture 12" descr="subject-flirt9dof-coronal-norm.png"/>
              <p:cNvPicPr/>
              <p:nvPr/>
            </p:nvPicPr>
            <p:blipFill>
              <a:blip r:embed="rId3"/>
              <a:srcRect l="31514" t="13226" r="28888" b="13226"/>
              <a:stretch/>
            </p:blipFill>
            <p:spPr>
              <a:xfrm>
                <a:off x="3144960" y="3505320"/>
                <a:ext cx="3262320" cy="32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Box 13"/>
              <p:cNvSpPr/>
              <p:nvPr/>
            </p:nvSpPr>
            <p:spPr>
              <a:xfrm>
                <a:off x="3158640" y="6324840"/>
                <a:ext cx="1299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lirt 9 DOF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pic>
          <p:nvPicPr>
            <p:cNvPr id="159" name="Content Placeholder 4" descr="target-coronal-norm.png"/>
            <p:cNvPicPr/>
            <p:nvPr/>
          </p:nvPicPr>
          <p:blipFill>
            <a:blip r:embed="rId4"/>
            <a:srcRect l="28888" t="22187" r="33152" b="13226"/>
            <a:stretch/>
          </p:blipFill>
          <p:spPr>
            <a:xfrm>
              <a:off x="304920" y="762120"/>
              <a:ext cx="312408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26"/>
            <p:cNvSpPr/>
            <p:nvPr/>
          </p:nvSpPr>
          <p:spPr>
            <a:xfrm>
              <a:off x="306720" y="31147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, un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2" name="Group 17"/>
          <p:cNvGrpSpPr/>
          <p:nvPr/>
        </p:nvGrpSpPr>
        <p:grpSpPr>
          <a:xfrm>
            <a:off x="6072120" y="3505320"/>
            <a:ext cx="3095640" cy="3208320"/>
            <a:chOff x="6072120" y="3505320"/>
            <a:chExt cx="3095640" cy="3208320"/>
          </a:xfrm>
        </p:grpSpPr>
        <p:pic>
          <p:nvPicPr>
            <p:cNvPr id="163" name="Picture 15" descr="subject-flirt12dof-coronal-norm.png"/>
            <p:cNvPicPr/>
            <p:nvPr/>
          </p:nvPicPr>
          <p:blipFill>
            <a:blip r:embed="rId5"/>
            <a:srcRect l="33264" t="13226" r="28888" b="13226"/>
            <a:stretch/>
          </p:blipFill>
          <p:spPr>
            <a:xfrm>
              <a:off x="6072120" y="3505320"/>
              <a:ext cx="3095640" cy="31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16"/>
            <p:cNvSpPr/>
            <p:nvPr/>
          </p:nvSpPr>
          <p:spPr>
            <a:xfrm>
              <a:off x="7708680" y="634536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2971800" y="1984320"/>
            <a:ext cx="3479760" cy="3210120"/>
            <a:chOff x="2971800" y="1984320"/>
            <a:chExt cx="3479760" cy="3210120"/>
          </a:xfrm>
        </p:grpSpPr>
        <p:pic>
          <p:nvPicPr>
            <p:cNvPr id="167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10"/>
            <p:cNvSpPr/>
            <p:nvPr/>
          </p:nvSpPr>
          <p:spPr>
            <a:xfrm>
              <a:off x="2978640" y="48160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978640" y="1984320"/>
            <a:ext cx="3485520" cy="3210120"/>
            <a:chOff x="2978640" y="1984320"/>
            <a:chExt cx="3485520" cy="3210120"/>
          </a:xfrm>
        </p:grpSpPr>
        <p:pic>
          <p:nvPicPr>
            <p:cNvPr id="170" name="Picture 12" descr="subject-flirt9dof-coronal-norm.png"/>
            <p:cNvPicPr/>
            <p:nvPr/>
          </p:nvPicPr>
          <p:blipFill>
            <a:blip r:embed="rId2"/>
            <a:srcRect l="28888" t="13226" r="28888" b="13226"/>
            <a:stretch/>
          </p:blipFill>
          <p:spPr>
            <a:xfrm>
              <a:off x="2983680" y="1984320"/>
              <a:ext cx="348048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13"/>
            <p:cNvSpPr/>
            <p:nvPr/>
          </p:nvSpPr>
          <p:spPr>
            <a:xfrm>
              <a:off x="2978640" y="480420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72" name="Group 24"/>
          <p:cNvGrpSpPr/>
          <p:nvPr/>
        </p:nvGrpSpPr>
        <p:grpSpPr>
          <a:xfrm>
            <a:off x="2971800" y="1984320"/>
            <a:ext cx="3454560" cy="3187440"/>
            <a:chOff x="2971800" y="1984320"/>
            <a:chExt cx="3454560" cy="3187440"/>
          </a:xfrm>
        </p:grpSpPr>
        <p:pic>
          <p:nvPicPr>
            <p:cNvPr id="173" name="Picture 15" descr="subject-flirt12dof-coronal-norm.png"/>
            <p:cNvPicPr/>
            <p:nvPr/>
          </p:nvPicPr>
          <p:blipFill>
            <a:blip r:embed="rId3"/>
            <a:srcRect l="28888" t="13226" r="28888" b="13226"/>
            <a:stretch/>
          </p:blipFill>
          <p:spPr>
            <a:xfrm>
              <a:off x="2971800" y="1984320"/>
              <a:ext cx="3454560" cy="31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16"/>
            <p:cNvSpPr/>
            <p:nvPr/>
          </p:nvSpPr>
          <p:spPr>
            <a:xfrm>
              <a:off x="2981520" y="480348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75" name="Group 27"/>
          <p:cNvGrpSpPr/>
          <p:nvPr/>
        </p:nvGrpSpPr>
        <p:grpSpPr>
          <a:xfrm>
            <a:off x="2932920" y="1984320"/>
            <a:ext cx="3518640" cy="3210120"/>
            <a:chOff x="2932920" y="1984320"/>
            <a:chExt cx="3518640" cy="3210120"/>
          </a:xfrm>
        </p:grpSpPr>
        <p:pic>
          <p:nvPicPr>
            <p:cNvPr id="176" name="Picture 5" descr="subject-coronal-norm.png"/>
            <p:cNvPicPr/>
            <p:nvPr/>
          </p:nvPicPr>
          <p:blipFill>
            <a:blip r:embed="rId4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0"/>
            <p:cNvSpPr/>
            <p:nvPr/>
          </p:nvSpPr>
          <p:spPr>
            <a:xfrm>
              <a:off x="2932920" y="4800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78" name="Group 23"/>
          <p:cNvGrpSpPr/>
          <p:nvPr/>
        </p:nvGrpSpPr>
        <p:grpSpPr>
          <a:xfrm>
            <a:off x="2971800" y="1984320"/>
            <a:ext cx="3475080" cy="3205080"/>
            <a:chOff x="2971800" y="1984320"/>
            <a:chExt cx="3475080" cy="3205080"/>
          </a:xfrm>
        </p:grpSpPr>
        <p:pic>
          <p:nvPicPr>
            <p:cNvPr id="179" name="Content Placeholder 4" descr="target-coronal-norm.png"/>
            <p:cNvPicPr/>
            <p:nvPr/>
          </p:nvPicPr>
          <p:blipFill>
            <a:blip r:embed="rId5"/>
            <a:srcRect l="28888" t="13226" r="28888" b="13226"/>
            <a:stretch/>
          </p:blipFill>
          <p:spPr>
            <a:xfrm>
              <a:off x="2971800" y="1984320"/>
              <a:ext cx="347508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26"/>
            <p:cNvSpPr/>
            <p:nvPr/>
          </p:nvSpPr>
          <p:spPr>
            <a:xfrm>
              <a:off x="2973600" y="47275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82" name="Group 17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3" name="Picture 12" descr="target-axial-norm.png"/>
            <p:cNvPicPr/>
            <p:nvPr/>
          </p:nvPicPr>
          <p:blipFill>
            <a:blip r:embed="rId1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6"/>
            <p:cNvSpPr/>
            <p:nvPr/>
          </p:nvSpPr>
          <p:spPr>
            <a:xfrm>
              <a:off x="3205080" y="60991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6" name="Picture 11" descr="subject-axial-norm.png"/>
            <p:cNvPicPr/>
            <p:nvPr/>
          </p:nvPicPr>
          <p:blipFill>
            <a:blip r:embed="rId2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18"/>
            <p:cNvSpPr/>
            <p:nvPr/>
          </p:nvSpPr>
          <p:spPr>
            <a:xfrm>
              <a:off x="2977920" y="60991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9" name="Picture 20" descr="subject-flirt6dof-axial-norm.png"/>
            <p:cNvPicPr/>
            <p:nvPr/>
          </p:nvPicPr>
          <p:blipFill>
            <a:blip r:embed="rId3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21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2" name="Picture 23" descr="subject-flirt9dof-axial-norm.png"/>
            <p:cNvPicPr/>
            <p:nvPr/>
          </p:nvPicPr>
          <p:blipFill>
            <a:blip r:embed="rId4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24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5" name="Picture 26" descr="subject-flirt12dof-axial-norm.png"/>
            <p:cNvPicPr/>
            <p:nvPr/>
          </p:nvPicPr>
          <p:blipFill>
            <a:blip r:embed="rId5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27"/>
            <p:cNvSpPr/>
            <p:nvPr/>
          </p:nvSpPr>
          <p:spPr>
            <a:xfrm>
              <a:off x="3582360" y="612468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98" name="Group 11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199" name="Picture 8" descr="target-sagittal-norm.png"/>
            <p:cNvPicPr/>
            <p:nvPr/>
          </p:nvPicPr>
          <p:blipFill>
            <a:blip r:embed="rId1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0"/>
            <p:cNvSpPr/>
            <p:nvPr/>
          </p:nvSpPr>
          <p:spPr>
            <a:xfrm>
              <a:off x="3116520" y="54892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2971800" y="1984320"/>
            <a:ext cx="4741920" cy="3961440"/>
            <a:chOff x="2971800" y="1984320"/>
            <a:chExt cx="4741920" cy="3961440"/>
          </a:xfrm>
        </p:grpSpPr>
        <p:pic>
          <p:nvPicPr>
            <p:cNvPr id="202" name="Picture 7" descr="subject-sagittal-norm.png"/>
            <p:cNvPicPr/>
            <p:nvPr/>
          </p:nvPicPr>
          <p:blipFill>
            <a:blip r:embed="rId2"/>
            <a:srcRect l="21009" t="8266" r="27139" b="9920"/>
            <a:stretch/>
          </p:blipFill>
          <p:spPr>
            <a:xfrm>
              <a:off x="2971800" y="1984320"/>
              <a:ext cx="4741920" cy="39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2"/>
            <p:cNvSpPr/>
            <p:nvPr/>
          </p:nvSpPr>
          <p:spPr>
            <a:xfrm>
              <a:off x="3088440" y="55774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5" name="Picture 14" descr="subject-flirt6dof-sagittal-norm.png"/>
            <p:cNvPicPr/>
            <p:nvPr/>
          </p:nvPicPr>
          <p:blipFill>
            <a:blip r:embed="rId3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15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8" name="Picture 17" descr="subject-flirt9dof-sagittal-norm.png"/>
            <p:cNvPicPr/>
            <p:nvPr/>
          </p:nvPicPr>
          <p:blipFill>
            <a:blip r:embed="rId4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18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2971800" y="1984320"/>
            <a:ext cx="4741920" cy="3988080"/>
            <a:chOff x="2971800" y="1984320"/>
            <a:chExt cx="4741920" cy="3988080"/>
          </a:xfrm>
        </p:grpSpPr>
        <p:pic>
          <p:nvPicPr>
            <p:cNvPr id="211" name="Picture 20" descr="subject-flirt12dof-sagittal-norm.png"/>
            <p:cNvPicPr/>
            <p:nvPr/>
          </p:nvPicPr>
          <p:blipFill>
            <a:blip r:embed="rId5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21"/>
            <p:cNvSpPr/>
            <p:nvPr/>
          </p:nvSpPr>
          <p:spPr>
            <a:xfrm>
              <a:off x="3185640" y="560412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FreeSurfer Does…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reeSurfer creates computerized models of the brain from MRI data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Picture 4" descr="aparc_surfaces"/>
          <p:cNvPicPr/>
          <p:nvPr/>
        </p:nvPicPr>
        <p:blipFill>
          <a:blip r:embed="rId1"/>
          <a:stretch/>
        </p:blipFill>
        <p:spPr>
          <a:xfrm>
            <a:off x="5257800" y="3000240"/>
            <a:ext cx="2565360" cy="256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bert_001"/>
          <p:cNvPicPr/>
          <p:nvPr/>
        </p:nvPicPr>
        <p:blipFill>
          <a:blip r:embed="rId2"/>
          <a:srcRect l="18750" t="12505" r="17192" b="0"/>
          <a:stretch/>
        </p:blipFill>
        <p:spPr>
          <a:xfrm>
            <a:off x="1447920" y="3000240"/>
            <a:ext cx="189684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0492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-weighted (MPRAGE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dcm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809880" y="414324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&amp; parcellated conformed volum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mgz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a-subject, mult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4" name="Content Placeholder 4" descr="target-coronal-norm-fordiff.png"/>
          <p:cNvPicPr/>
          <p:nvPr/>
        </p:nvPicPr>
        <p:blipFill>
          <a:blip r:embed="rId1"/>
          <a:srcRect l="28012" t="8266" r="28012" b="21493"/>
          <a:stretch/>
        </p:blipFill>
        <p:spPr>
          <a:xfrm>
            <a:off x="92160" y="1398600"/>
            <a:ext cx="3031920" cy="2563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target-fa-unaligned-coronal.png"/>
          <p:cNvPicPr/>
          <p:nvPr/>
        </p:nvPicPr>
        <p:blipFill>
          <a:blip r:embed="rId2"/>
          <a:srcRect l="28012" t="8266" r="28012" b="29846"/>
          <a:stretch/>
        </p:blipFill>
        <p:spPr>
          <a:xfrm>
            <a:off x="2895480" y="1398600"/>
            <a:ext cx="3032280" cy="225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target-fa-aligned-coronal.png"/>
          <p:cNvPicPr/>
          <p:nvPr/>
        </p:nvPicPr>
        <p:blipFill>
          <a:blip r:embed="rId3"/>
          <a:srcRect l="28012" t="18707" r="28012" b="21493"/>
          <a:stretch/>
        </p:blipFill>
        <p:spPr>
          <a:xfrm>
            <a:off x="2900520" y="4114800"/>
            <a:ext cx="3031920" cy="2182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target-fa-unaligned-with-struct-coronal.png"/>
          <p:cNvPicPr/>
          <p:nvPr/>
        </p:nvPicPr>
        <p:blipFill>
          <a:blip r:embed="rId4"/>
          <a:srcRect l="28012" t="8266" r="28012" b="25672"/>
          <a:stretch/>
        </p:blipFill>
        <p:spPr>
          <a:xfrm>
            <a:off x="5962680" y="1398600"/>
            <a:ext cx="3031920" cy="2411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target-fa-aligned-with-struct-coronal.png"/>
          <p:cNvPicPr/>
          <p:nvPr/>
        </p:nvPicPr>
        <p:blipFill>
          <a:blip r:embed="rId5"/>
          <a:srcRect l="28012" t="20794" r="28012" b="21493"/>
          <a:stretch/>
        </p:blipFill>
        <p:spPr>
          <a:xfrm>
            <a:off x="5962680" y="4191120"/>
            <a:ext cx="3031920" cy="2106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4652640" y="365760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4727880" y="633564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4" descr="target-fa-aligned-with-struct-axial.png"/>
          <p:cNvPicPr/>
          <p:nvPr/>
        </p:nvPicPr>
        <p:blipFill>
          <a:blip r:embed="rId1"/>
          <a:srcRect l="24513" t="0" r="24513" b="1653"/>
          <a:stretch/>
        </p:blipFill>
        <p:spPr>
          <a:xfrm>
            <a:off x="594828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target-fa-aligned-axial.png"/>
          <p:cNvPicPr/>
          <p:nvPr/>
        </p:nvPicPr>
        <p:blipFill>
          <a:blip r:embed="rId2"/>
          <a:srcRect l="24513" t="0" r="24513" b="1653"/>
          <a:stretch/>
        </p:blipFill>
        <p:spPr>
          <a:xfrm>
            <a:off x="297180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target-fa-unaligned-axial.png"/>
          <p:cNvPicPr/>
          <p:nvPr/>
        </p:nvPicPr>
        <p:blipFill>
          <a:blip r:embed="rId3"/>
          <a:srcRect l="24513" t="0" r="24513" b="1653"/>
          <a:stretch/>
        </p:blipFill>
        <p:spPr>
          <a:xfrm>
            <a:off x="2967120" y="241200"/>
            <a:ext cx="3195720" cy="326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target-norm-axial-for-diff.png"/>
          <p:cNvPicPr/>
          <p:nvPr/>
        </p:nvPicPr>
        <p:blipFill>
          <a:blip r:embed="rId4"/>
          <a:srcRect l="24513" t="0" r="28012" b="10835"/>
          <a:stretch/>
        </p:blipFill>
        <p:spPr>
          <a:xfrm>
            <a:off x="-9360" y="241200"/>
            <a:ext cx="2976480" cy="2959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target-fa-unaligned-with-struct-axial.png"/>
          <p:cNvPicPr/>
          <p:nvPr/>
        </p:nvPicPr>
        <p:blipFill>
          <a:blip r:embed="rId5"/>
          <a:srcRect l="24513" t="0" r="24513" b="1653"/>
          <a:stretch/>
        </p:blipFill>
        <p:spPr>
          <a:xfrm>
            <a:off x="5943600" y="241200"/>
            <a:ext cx="3195720" cy="32641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1"/>
          <p:cNvSpPr/>
          <p:nvPr/>
        </p:nvSpPr>
        <p:spPr>
          <a:xfrm>
            <a:off x="321120" y="320040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395640" y="587844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4" descr="target-fa-unaligned-with-struct-sagittal.png"/>
          <p:cNvPicPr/>
          <p:nvPr/>
        </p:nvPicPr>
        <p:blipFill>
          <a:blip r:embed="rId1"/>
          <a:srcRect l="21009" t="4960" r="21009" b="13226"/>
          <a:stretch/>
        </p:blipFill>
        <p:spPr>
          <a:xfrm>
            <a:off x="575136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target-fa-aligned-sagittal.png"/>
          <p:cNvPicPr/>
          <p:nvPr/>
        </p:nvPicPr>
        <p:blipFill>
          <a:blip r:embed="rId2"/>
          <a:srcRect l="21009" t="14801" r="21009" b="13226"/>
          <a:stretch/>
        </p:blipFill>
        <p:spPr>
          <a:xfrm>
            <a:off x="2441520" y="3886200"/>
            <a:ext cx="3390840" cy="2228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arget-fa-unaligned-sagittal.png"/>
          <p:cNvPicPr/>
          <p:nvPr/>
        </p:nvPicPr>
        <p:blipFill>
          <a:blip r:embed="rId3"/>
          <a:srcRect l="21009" t="4960" r="21009" b="13226"/>
          <a:stretch/>
        </p:blipFill>
        <p:spPr>
          <a:xfrm>
            <a:off x="243828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target-norm-sagittal-for-diff.png"/>
          <p:cNvPicPr/>
          <p:nvPr/>
        </p:nvPicPr>
        <p:blipFill>
          <a:blip r:embed="rId4"/>
          <a:srcRect l="29763" t="4960" r="28012" b="13226"/>
          <a:stretch/>
        </p:blipFill>
        <p:spPr>
          <a:xfrm>
            <a:off x="0" y="685800"/>
            <a:ext cx="2470320" cy="2533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target-fa-aligned-with-struct-sagittal.png"/>
          <p:cNvPicPr/>
          <p:nvPr/>
        </p:nvPicPr>
        <p:blipFill>
          <a:blip r:embed="rId5"/>
          <a:srcRect l="21009" t="14801" r="21009" b="13226"/>
          <a:stretch/>
        </p:blipFill>
        <p:spPr>
          <a:xfrm>
            <a:off x="5751360" y="3886200"/>
            <a:ext cx="3392640" cy="22287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4652640" y="350532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4727880" y="618336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 non-linear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6" name="Content Placeholder 6" descr="target-coronal-norm.mgz.png"/>
          <p:cNvPicPr/>
          <p:nvPr/>
        </p:nvPicPr>
        <p:blipFill>
          <a:blip r:embed="rId1"/>
          <a:srcRect l="28888" t="13226" r="28888" b="13226"/>
          <a:stretch/>
        </p:blipFill>
        <p:spPr>
          <a:xfrm>
            <a:off x="380880" y="2592360"/>
            <a:ext cx="3881520" cy="35798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2"/>
          <p:cNvGrpSpPr/>
          <p:nvPr/>
        </p:nvGrpSpPr>
        <p:grpSpPr>
          <a:xfrm>
            <a:off x="385920" y="2590920"/>
            <a:ext cx="8351640" cy="3569040"/>
            <a:chOff x="385920" y="2590920"/>
            <a:chExt cx="8351640" cy="3569040"/>
          </a:xfrm>
        </p:grpSpPr>
        <p:sp>
          <p:nvSpPr>
            <p:cNvPr id="238" name="TextBox 9"/>
            <p:cNvSpPr/>
            <p:nvPr/>
          </p:nvSpPr>
          <p:spPr>
            <a:xfrm>
              <a:off x="385920" y="57916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239" name="Group 11"/>
            <p:cNvGrpSpPr/>
            <p:nvPr/>
          </p:nvGrpSpPr>
          <p:grpSpPr>
            <a:xfrm>
              <a:off x="4876560" y="2590920"/>
              <a:ext cx="3861000" cy="3569040"/>
              <a:chOff x="4876560" y="2590920"/>
              <a:chExt cx="3861000" cy="3569040"/>
            </a:xfrm>
          </p:grpSpPr>
          <p:pic>
            <p:nvPicPr>
              <p:cNvPr id="240" name="Picture 8" descr="subjectCVS-coronal-norm.mgz.png"/>
              <p:cNvPicPr/>
              <p:nvPr/>
            </p:nvPicPr>
            <p:blipFill>
              <a:blip r:embed="rId2"/>
              <a:srcRect l="28888" t="13226" r="28888" b="13226"/>
              <a:stretch/>
            </p:blipFill>
            <p:spPr>
              <a:xfrm>
                <a:off x="4876560" y="2590920"/>
                <a:ext cx="3861000" cy="35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Box 10"/>
              <p:cNvSpPr/>
              <p:nvPr/>
            </p:nvSpPr>
            <p:spPr>
              <a:xfrm>
                <a:off x="4883040" y="5791680"/>
                <a:ext cx="10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VS reg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pic>
        <p:nvPicPr>
          <p:cNvPr id="242" name="Picture 7" descr="target-coronal-aseg.mgz.png"/>
          <p:cNvPicPr/>
          <p:nvPr/>
        </p:nvPicPr>
        <p:blipFill>
          <a:blip r:embed="rId3"/>
          <a:srcRect l="28888" t="13226" r="28888" b="13226"/>
          <a:stretch/>
        </p:blipFill>
        <p:spPr>
          <a:xfrm>
            <a:off x="2666880" y="1447920"/>
            <a:ext cx="3861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polation typ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eded any time you resample your image volum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put can depend significantly on the interpolation typ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polation is used to estimate values at unknown coordinate locations by using known dat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 3D, interpolation works in all three directions, approximating a voxel’s intensity based on the surrounding voxel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often-used options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nearest neighbo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ost basic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quires the least processing time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considers the closest vox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e with segmentation / label volum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(tri)linea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nsiders the closest  neighborhood of known voxel values surrounding the unknown vox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mputes weighted average of 6 voxel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mputationally more expensive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sults in smoother looking im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e with intensity volum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ad more: http://www.cambridgeincolour.com/tutorials/image-interpolation.htm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fa.coronal63.png"/>
          <p:cNvPicPr/>
          <p:nvPr/>
        </p:nvPicPr>
        <p:blipFill>
          <a:blip r:embed="rId1"/>
          <a:stretch/>
        </p:blipFill>
        <p:spPr>
          <a:xfrm>
            <a:off x="450720" y="2057400"/>
            <a:ext cx="3664080" cy="3664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polation examples (1/2)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Picture 8" descr="struct.coronal.png"/>
          <p:cNvPicPr/>
          <p:nvPr/>
        </p:nvPicPr>
        <p:blipFill>
          <a:blip r:embed="rId2"/>
          <a:stretch/>
        </p:blipFill>
        <p:spPr>
          <a:xfrm>
            <a:off x="5022720" y="2057400"/>
            <a:ext cx="3664080" cy="3664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struct2diff.lin.coronal63.png"/>
          <p:cNvPicPr/>
          <p:nvPr/>
        </p:nvPicPr>
        <p:blipFill>
          <a:blip r:embed="rId3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struct2diff.nearest.coronal63.png"/>
          <p:cNvPicPr/>
          <p:nvPr/>
        </p:nvPicPr>
        <p:blipFill>
          <a:blip r:embed="rId4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9"/>
          <p:cNvSpPr/>
          <p:nvPr/>
        </p:nvSpPr>
        <p:spPr>
          <a:xfrm>
            <a:off x="6498000" y="58672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r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5723280" y="586728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rm2diff neares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6077520" y="5867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rm2diff li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fa.coronal63.png"/>
          <p:cNvPicPr/>
          <p:nvPr/>
        </p:nvPicPr>
        <p:blipFill>
          <a:blip r:embed="rId1"/>
          <a:stretch/>
        </p:blipFill>
        <p:spPr>
          <a:xfrm>
            <a:off x="447840" y="2057400"/>
            <a:ext cx="3663720" cy="3664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polation examples (2/2)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55" name="Picture 7" descr="seg.coronal.png"/>
          <p:cNvPicPr/>
          <p:nvPr/>
        </p:nvPicPr>
        <p:blipFill>
          <a:blip r:embed="rId2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seg2diff.nearest.coronal63.png"/>
          <p:cNvPicPr/>
          <p:nvPr/>
        </p:nvPicPr>
        <p:blipFill>
          <a:blip r:embed="rId3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seg2diff.lin.coronal63.png"/>
          <p:cNvPicPr/>
          <p:nvPr/>
        </p:nvPicPr>
        <p:blipFill>
          <a:blip r:embed="rId4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6447600" y="5867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e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5711040" y="586728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eg2diff neares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6065640" y="584820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eg2diff li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me registration vocabular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put datasets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xed / template / targe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ving / subjec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ransformation model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gi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ffi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nlinear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/ similarity funct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pplying the result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form, morph, resample, transfor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polation type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ri)linea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arest neighb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30" descr="cor-for-thickness"/>
          <p:cNvPicPr/>
          <p:nvPr/>
        </p:nvPicPr>
        <p:blipFill>
          <a:blip r:embed="rId1"/>
          <a:stretch/>
        </p:blipFill>
        <p:spPr>
          <a:xfrm>
            <a:off x="4267080" y="1676520"/>
            <a:ext cx="4191120" cy="486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mprage-cor"/>
          <p:cNvPicPr/>
          <p:nvPr/>
        </p:nvPicPr>
        <p:blipFill>
          <a:blip r:embed="rId2"/>
          <a:stretch/>
        </p:blipFill>
        <p:spPr>
          <a:xfrm>
            <a:off x="457200" y="274320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Line 24"/>
          <p:cNvSpPr/>
          <p:nvPr/>
        </p:nvSpPr>
        <p:spPr>
          <a:xfrm>
            <a:off x="4038480" y="182880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971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Picture 15" descr="mprage-cor"/>
          <p:cNvPicPr/>
          <p:nvPr/>
        </p:nvPicPr>
        <p:blipFill>
          <a:blip r:embed="rId1"/>
          <a:stretch/>
        </p:blipFill>
        <p:spPr>
          <a:xfrm>
            <a:off x="380880" y="2819520"/>
            <a:ext cx="3310200" cy="37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cor-for-thickness"/>
          <p:cNvPicPr/>
          <p:nvPr/>
        </p:nvPicPr>
        <p:blipFill>
          <a:blip r:embed="rId2"/>
          <a:stretch/>
        </p:blipFill>
        <p:spPr>
          <a:xfrm>
            <a:off x="4343400" y="1676520"/>
            <a:ext cx="4191120" cy="4868640"/>
          </a:xfrm>
          <a:prstGeom prst="rect">
            <a:avLst/>
          </a:prstGeom>
          <a:ln w="0">
            <a:noFill/>
          </a:ln>
        </p:spPr>
      </p:pic>
      <p:sp>
        <p:nvSpPr>
          <p:cNvPr id="65" name="Line 21"/>
          <p:cNvSpPr/>
          <p:nvPr/>
        </p:nvSpPr>
        <p:spPr>
          <a:xfrm flipV="1">
            <a:off x="4572000" y="48002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4267080" y="48765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886200" y="5334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9" name="Picture 19" descr="pialsurf-sulc"/>
          <p:cNvPicPr/>
          <p:nvPr/>
        </p:nvPicPr>
        <p:blipFill>
          <a:blip r:embed="rId1"/>
          <a:stretch/>
        </p:blipFill>
        <p:spPr>
          <a:xfrm>
            <a:off x="228600" y="4038480"/>
            <a:ext cx="4038480" cy="2330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whitesurf"/>
          <p:cNvPicPr/>
          <p:nvPr/>
        </p:nvPicPr>
        <p:blipFill>
          <a:blip r:embed="rId2"/>
          <a:stretch/>
        </p:blipFill>
        <p:spPr>
          <a:xfrm>
            <a:off x="228600" y="1600200"/>
            <a:ext cx="403848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cor-for-thickness"/>
          <p:cNvPicPr/>
          <p:nvPr/>
        </p:nvPicPr>
        <p:blipFill>
          <a:blip r:embed="rId3"/>
          <a:stretch/>
        </p:blipFill>
        <p:spPr>
          <a:xfrm>
            <a:off x="5105520" y="1752480"/>
            <a:ext cx="3732120" cy="433548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 flipV="1">
            <a:off x="5257800" y="45716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Line 18"/>
          <p:cNvSpPr/>
          <p:nvPr/>
        </p:nvSpPr>
        <p:spPr>
          <a:xfrm flipV="1">
            <a:off x="4952880" y="46479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572000" y="5105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6" name="Group 40"/>
          <p:cNvGrpSpPr/>
          <p:nvPr/>
        </p:nvGrpSpPr>
        <p:grpSpPr>
          <a:xfrm>
            <a:off x="4267080" y="1676520"/>
            <a:ext cx="4191120" cy="4868640"/>
            <a:chOff x="4267080" y="1676520"/>
            <a:chExt cx="4191120" cy="4868640"/>
          </a:xfrm>
        </p:grpSpPr>
        <p:pic>
          <p:nvPicPr>
            <p:cNvPr id="77" name="Picture 30" descr="cor-for-thickness"/>
            <p:cNvPicPr/>
            <p:nvPr/>
          </p:nvPicPr>
          <p:blipFill>
            <a:blip r:embed="rId1"/>
            <a:stretch/>
          </p:blipFill>
          <p:spPr>
            <a:xfrm>
              <a:off x="4267080" y="1676520"/>
              <a:ext cx="4191120" cy="48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6"/>
            <p:cNvSpPr/>
            <p:nvPr/>
          </p:nvSpPr>
          <p:spPr>
            <a:xfrm flipH="1" flipV="1">
              <a:off x="5748480" y="341280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 flipH="1" flipV="1">
              <a:off x="6172200" y="2544120"/>
              <a:ext cx="211680" cy="400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H="1" flipV="1">
              <a:off x="5889240" y="301212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 flipH="1" flipV="1">
              <a:off x="5819040" y="3212280"/>
              <a:ext cx="35280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 flipV="1">
              <a:off x="6525000" y="2410560"/>
              <a:ext cx="0" cy="46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V="1">
              <a:off x="6736680" y="2477880"/>
              <a:ext cx="352440" cy="467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>
              <a:off x="6736680" y="3212280"/>
              <a:ext cx="6350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5" name="Line 37"/>
            <p:cNvSpPr/>
            <p:nvPr/>
          </p:nvSpPr>
          <p:spPr>
            <a:xfrm>
              <a:off x="6665760" y="3412800"/>
              <a:ext cx="49392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6595560" y="3813480"/>
              <a:ext cx="493560" cy="66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Line 39"/>
            <p:cNvSpPr/>
            <p:nvPr/>
          </p:nvSpPr>
          <p:spPr>
            <a:xfrm flipV="1">
              <a:off x="6736680" y="2878560"/>
              <a:ext cx="63504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88" name="Line 16"/>
          <p:cNvSpPr/>
          <p:nvPr/>
        </p:nvSpPr>
        <p:spPr>
          <a:xfrm>
            <a:off x="3886200" y="1981080"/>
            <a:ext cx="22096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590920" y="1676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0" name="Picture 19" descr="meshsurf"/>
          <p:cNvPicPr/>
          <p:nvPr/>
        </p:nvPicPr>
        <p:blipFill>
          <a:blip r:embed="rId2"/>
          <a:stretch/>
        </p:blipFill>
        <p:spPr>
          <a:xfrm>
            <a:off x="304920" y="2819520"/>
            <a:ext cx="3720960" cy="373356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2362320" y="2133720"/>
            <a:ext cx="914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our data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rt for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rtical surface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ws up in comm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-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parc_surfaces"/>
          <p:cNvPicPr/>
          <p:nvPr/>
        </p:nvPicPr>
        <p:blipFill>
          <a:blip r:embed="rId1"/>
          <a:stretch/>
        </p:blipFill>
        <p:spPr>
          <a:xfrm>
            <a:off x="2235240" y="1650960"/>
            <a:ext cx="4673520" cy="467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Volumes</a:t>
            </a:r>
            <a:endParaRPr b="1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144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Picture 5" descr="orig"/>
          <p:cNvPicPr/>
          <p:nvPr/>
        </p:nvPicPr>
        <p:blipFill>
          <a:blip r:embed="rId1"/>
          <a:srcRect l="19232" t="17903" r="19232" b="3087"/>
          <a:stretch/>
        </p:blipFill>
        <p:spPr>
          <a:xfrm>
            <a:off x="685800" y="175248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rainmask"/>
          <p:cNvPicPr/>
          <p:nvPr/>
        </p:nvPicPr>
        <p:blipFill>
          <a:blip r:embed="rId2"/>
          <a:srcRect l="21798" t="20374" r="24364" b="5557"/>
          <a:stretch/>
        </p:blipFill>
        <p:spPr>
          <a:xfrm>
            <a:off x="3865680" y="1752480"/>
            <a:ext cx="14396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1"/>
          <p:cNvPicPr/>
          <p:nvPr/>
        </p:nvPicPr>
        <p:blipFill>
          <a:blip r:embed="rId3"/>
          <a:srcRect l="17953" t="16671" r="19232" b="1855"/>
          <a:stretch/>
        </p:blipFill>
        <p:spPr>
          <a:xfrm>
            <a:off x="2286000" y="1752480"/>
            <a:ext cx="152712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wm"/>
          <p:cNvPicPr/>
          <p:nvPr/>
        </p:nvPicPr>
        <p:blipFill>
          <a:blip r:embed="rId4"/>
          <a:srcRect l="24364" t="20374" r="25643" b="3087"/>
          <a:stretch/>
        </p:blipFill>
        <p:spPr>
          <a:xfrm>
            <a:off x="5353200" y="1752480"/>
            <a:ext cx="129384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filled"/>
          <p:cNvPicPr/>
          <p:nvPr/>
        </p:nvPicPr>
        <p:blipFill>
          <a:blip r:embed="rId5"/>
          <a:srcRect l="24364" t="24076" r="24364" b="4318"/>
          <a:stretch/>
        </p:blipFill>
        <p:spPr>
          <a:xfrm>
            <a:off x="6724800" y="1752480"/>
            <a:ext cx="141912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3"/>
          <p:cNvSpPr/>
          <p:nvPr/>
        </p:nvSpPr>
        <p:spPr>
          <a:xfrm>
            <a:off x="25146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377208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inmask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591240" y="3772080"/>
            <a:ext cx="198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ed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bcortical Mas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4:38Z</dcterms:created>
  <dc:creator>Allison</dc:creator>
  <dc:description/>
  <dc:language>en-US</dc:language>
  <cp:lastModifiedBy>LZ</cp:lastModifiedBy>
  <dcterms:modified xsi:type="dcterms:W3CDTF">2012-06-18T19:07:55Z</dcterms:modified>
  <cp:revision>368</cp:revision>
  <dc:subject/>
  <dc:title>Unix Tutorial for FreeSurfer Users</dc:title>
</cp:coreProperties>
</file>