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09D9-7003-40FD-A37C-9287C19A8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F950-973E-45AF-978E-E2FF37350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6472-2862-42FF-B53B-1BA25B099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8808-CACB-47D7-BDAC-6FF2B8B68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2C47-A6E9-4BE3-BEFC-78F7878A8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3ABC-1782-46EC-98F9-B114EACD8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0EC0-99FB-410D-9860-46E0FD442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B33F-894C-4CF5-BD95-455110648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BE37-A252-43FF-AE8F-46447776C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AEAF-9274-42EB-909E-2D01AB612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3845-F089-4679-8EB7-7CD5D30D2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B35A-16BF-4C2D-913D-6AC05E512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694C-79FF-44C0-922C-E804A1895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C9F3-88BF-4648-A48E-23FAE9322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07CE-71F5-4381-9F5F-066B79EF3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6F5D-C104-49AE-8098-AA9B82B5A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CAFE-32F4-4232-97A1-95793DDF9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1D8E-DB11-4F15-8EAC-38516202B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D4D1-1BE2-4129-BA0D-789113BD4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8D34-8E41-42CD-B6B4-F358B1CF3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1BC5-F223-4FE4-A007-168106ABF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7C9C-5F70-4C2F-B359-BD9B38F50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48F5-BF66-40AB-BAF9-AC82B5590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6B70-C063-4B31-A594-56BEAA39D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23C5-5C23-411E-BBDF-7F0667778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A171-66DF-49CF-A3F6-163B19432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4AE8-1200-401D-9560-FE9DCB09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6A68-A008-4FBC-9BD2-92A4E1EA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B90C-100C-4150-9B07-082D4F20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73A3-91A2-48D8-BCA5-80A5C110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5841-3F7F-4DA6-880F-6913C3D9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563-887D-48CE-8CA3-9E3913A3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5E89-88B2-4BE2-80B5-F9A12454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DAF3-149F-412B-B35C-2AEF87CB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31A1-C67B-4318-B626-77E2CE77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DCE0-EB92-4419-9D72-0A87241B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B3ED-22F2-4057-B549-13DD4E8E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8FBA-67F5-49AC-8FC4-F9A93E5F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929C-472A-433C-9FD6-4AA38BB72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heckbook"/>
              </a:rPr>
              <a:t>Unix Tutorial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for</a:t>
            </a:r>
            <a:r>
              <a:rPr b="1" lang="en-US" sz="5400" spc="-1" strike="noStrike">
                <a:solidFill>
                  <a:srgbClr val="000000"/>
                </a:solidFill>
                <a:latin typeface="Checkbook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FreeSurfer Users</a:t>
            </a:r>
            <a:endParaRPr b="1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Allison Stevens Player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Directori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Unix uses a hierarchical file system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think folders in Window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0" name="Picture 4" descr="hierarchy"/>
          <p:cNvPicPr/>
          <p:nvPr/>
        </p:nvPicPr>
        <p:blipFill>
          <a:blip r:embed="rId1"/>
          <a:stretch/>
        </p:blipFill>
        <p:spPr>
          <a:xfrm>
            <a:off x="1828800" y="2666880"/>
            <a:ext cx="5181480" cy="4071960"/>
          </a:xfrm>
          <a:prstGeom prst="rect">
            <a:avLst/>
          </a:prstGeom>
          <a:ln w="0">
            <a:noFill/>
          </a:ln>
        </p:spPr>
      </p:pic>
      <p:sp>
        <p:nvSpPr>
          <p:cNvPr id="81" name="Oval 7"/>
          <p:cNvSpPr/>
          <p:nvPr/>
        </p:nvSpPr>
        <p:spPr>
          <a:xfrm>
            <a:off x="3962520" y="2590920"/>
            <a:ext cx="1295280" cy="10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Line 9"/>
          <p:cNvSpPr/>
          <p:nvPr/>
        </p:nvSpPr>
        <p:spPr>
          <a:xfrm flipV="1">
            <a:off x="5257800" y="2590920"/>
            <a:ext cx="175248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010280" y="24382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Home is like “My Computer”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Directori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Unix uses a hierarchical file syste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think folders in Window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6" name="Picture 4" descr="hierarchy"/>
          <p:cNvPicPr/>
          <p:nvPr/>
        </p:nvPicPr>
        <p:blipFill>
          <a:blip r:embed="rId1"/>
          <a:stretch/>
        </p:blipFill>
        <p:spPr>
          <a:xfrm>
            <a:off x="1828800" y="2666880"/>
            <a:ext cx="5181480" cy="4071960"/>
          </a:xfrm>
          <a:prstGeom prst="rect">
            <a:avLst/>
          </a:prstGeom>
          <a:ln w="0">
            <a:noFill/>
          </a:ln>
        </p:spPr>
      </p:pic>
      <p:sp>
        <p:nvSpPr>
          <p:cNvPr id="87" name="Oval 5"/>
          <p:cNvSpPr/>
          <p:nvPr/>
        </p:nvSpPr>
        <p:spPr>
          <a:xfrm>
            <a:off x="3962520" y="2590920"/>
            <a:ext cx="1295280" cy="10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Line 6"/>
          <p:cNvSpPr/>
          <p:nvPr/>
        </p:nvSpPr>
        <p:spPr>
          <a:xfrm flipV="1">
            <a:off x="5257800" y="2590920"/>
            <a:ext cx="175248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7010280" y="24382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Home is like “My Computer”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Oval 8"/>
          <p:cNvSpPr/>
          <p:nvPr/>
        </p:nvSpPr>
        <p:spPr>
          <a:xfrm>
            <a:off x="5410080" y="3733920"/>
            <a:ext cx="1143000" cy="914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Line 9"/>
          <p:cNvSpPr/>
          <p:nvPr/>
        </p:nvSpPr>
        <p:spPr>
          <a:xfrm flipV="1">
            <a:off x="6553080" y="3962160"/>
            <a:ext cx="914400" cy="152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7467480" y="36576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Like “My Documents”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Directori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Unix uses a hierarchical file syste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think folders in Window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5" name="Picture 4" descr="hierarchy"/>
          <p:cNvPicPr/>
          <p:nvPr/>
        </p:nvPicPr>
        <p:blipFill>
          <a:blip r:embed="rId1"/>
          <a:stretch/>
        </p:blipFill>
        <p:spPr>
          <a:xfrm>
            <a:off x="1828800" y="2666880"/>
            <a:ext cx="5181480" cy="4071960"/>
          </a:xfrm>
          <a:prstGeom prst="rect">
            <a:avLst/>
          </a:prstGeom>
          <a:ln w="0">
            <a:noFill/>
          </a:ln>
        </p:spPr>
      </p:pic>
      <p:sp>
        <p:nvSpPr>
          <p:cNvPr id="96" name="Oval 5"/>
          <p:cNvSpPr/>
          <p:nvPr/>
        </p:nvSpPr>
        <p:spPr>
          <a:xfrm>
            <a:off x="3962520" y="2590920"/>
            <a:ext cx="1295280" cy="10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Line 6"/>
          <p:cNvSpPr/>
          <p:nvPr/>
        </p:nvSpPr>
        <p:spPr>
          <a:xfrm flipV="1">
            <a:off x="5257800" y="2590920"/>
            <a:ext cx="175248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7010280" y="24382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Home is like “My Computer”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Oval 8"/>
          <p:cNvSpPr/>
          <p:nvPr/>
        </p:nvSpPr>
        <p:spPr>
          <a:xfrm>
            <a:off x="5410080" y="3733920"/>
            <a:ext cx="1143000" cy="914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" name="Line 9"/>
          <p:cNvSpPr/>
          <p:nvPr/>
        </p:nvSpPr>
        <p:spPr>
          <a:xfrm flipV="1">
            <a:off x="6553080" y="3962160"/>
            <a:ext cx="914400" cy="152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7467480" y="36576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Like “My Documents”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Oval 11"/>
          <p:cNvSpPr/>
          <p:nvPr/>
        </p:nvSpPr>
        <p:spPr>
          <a:xfrm>
            <a:off x="5943600" y="4800600"/>
            <a:ext cx="1066680" cy="762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Line 12"/>
          <p:cNvSpPr/>
          <p:nvPr/>
        </p:nvSpPr>
        <p:spPr>
          <a:xfrm flipV="1">
            <a:off x="7010280" y="5029200"/>
            <a:ext cx="533520" cy="76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7543800" y="4724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Like “My Photos”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Directori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Unix uses a hierarchical file syste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think folders in Window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7" name="Picture 4" descr="hierarchy"/>
          <p:cNvPicPr/>
          <p:nvPr/>
        </p:nvPicPr>
        <p:blipFill>
          <a:blip r:embed="rId1"/>
          <a:stretch/>
        </p:blipFill>
        <p:spPr>
          <a:xfrm>
            <a:off x="1828800" y="2666880"/>
            <a:ext cx="5181480" cy="4071960"/>
          </a:xfrm>
          <a:prstGeom prst="rect">
            <a:avLst/>
          </a:prstGeom>
          <a:ln w="0">
            <a:noFill/>
          </a:ln>
        </p:spPr>
      </p:pic>
      <p:sp>
        <p:nvSpPr>
          <p:cNvPr id="108" name="Oval 5"/>
          <p:cNvSpPr/>
          <p:nvPr/>
        </p:nvSpPr>
        <p:spPr>
          <a:xfrm>
            <a:off x="3962520" y="2590920"/>
            <a:ext cx="1295280" cy="10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Line 6"/>
          <p:cNvSpPr/>
          <p:nvPr/>
        </p:nvSpPr>
        <p:spPr>
          <a:xfrm flipV="1">
            <a:off x="5257800" y="2590920"/>
            <a:ext cx="175248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7010280" y="24382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Home is like “My Computer”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" name="Oval 8"/>
          <p:cNvSpPr/>
          <p:nvPr/>
        </p:nvSpPr>
        <p:spPr>
          <a:xfrm>
            <a:off x="5410080" y="3733920"/>
            <a:ext cx="1143000" cy="914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Line 9"/>
          <p:cNvSpPr/>
          <p:nvPr/>
        </p:nvSpPr>
        <p:spPr>
          <a:xfrm flipV="1">
            <a:off x="6553080" y="3962160"/>
            <a:ext cx="914400" cy="152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7467480" y="36576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Like “My Documents”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" name="Oval 11"/>
          <p:cNvSpPr/>
          <p:nvPr/>
        </p:nvSpPr>
        <p:spPr>
          <a:xfrm>
            <a:off x="5943600" y="4800600"/>
            <a:ext cx="1066680" cy="762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Line 12"/>
          <p:cNvSpPr/>
          <p:nvPr/>
        </p:nvSpPr>
        <p:spPr>
          <a:xfrm flipV="1">
            <a:off x="7010280" y="5029200"/>
            <a:ext cx="533520" cy="76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7543800" y="4724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Like “My Photos”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5943600" y="5715000"/>
            <a:ext cx="990720" cy="914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7467480" y="59580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picture.jpg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Line 16"/>
          <p:cNvSpPr/>
          <p:nvPr/>
        </p:nvSpPr>
        <p:spPr>
          <a:xfrm flipV="1">
            <a:off x="6934320" y="6172200"/>
            <a:ext cx="533160" cy="76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Locati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yp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nd hit enter.  Should se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hows “present working directory” or current location as a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milar to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/MyComputer/MyDocuments/MyPhoto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838080" y="2286000"/>
            <a:ext cx="990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wd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6705720" y="1676520"/>
            <a:ext cx="22860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/home/nmrclas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6705720" y="2666880"/>
            <a:ext cx="2286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/Users/YourNam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7543800" y="2300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Opening a Directory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ot double clicking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ype command to “open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8" name="Picture 4" descr="hierarchy"/>
          <p:cNvPicPr/>
          <p:nvPr/>
        </p:nvPicPr>
        <p:blipFill>
          <a:blip r:embed="rId1"/>
          <a:stretch/>
        </p:blipFill>
        <p:spPr>
          <a:xfrm>
            <a:off x="5562720" y="2133720"/>
            <a:ext cx="3504960" cy="2754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prompt"/>
          <p:cNvPicPr/>
          <p:nvPr/>
        </p:nvPicPr>
        <p:blipFill>
          <a:blip r:embed="rId2"/>
          <a:srcRect l="0" t="26198" r="0" b="0"/>
          <a:stretch/>
        </p:blipFill>
        <p:spPr>
          <a:xfrm>
            <a:off x="914400" y="4038480"/>
            <a:ext cx="4114800" cy="10764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9"/>
          <p:cNvSpPr/>
          <p:nvPr/>
        </p:nvSpPr>
        <p:spPr>
          <a:xfrm>
            <a:off x="457200" y="571500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mmands to open files will diffe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Navigating Directori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   “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hange directory”:  move into a folde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ist”:  see contents of 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914400" y="2971800"/>
            <a:ext cx="990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914400" y="1828800"/>
            <a:ext cx="990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d   __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914400" y="3657600"/>
            <a:ext cx="990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__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6" name="Picture 10" descr="hierarchy"/>
          <p:cNvPicPr/>
          <p:nvPr/>
        </p:nvPicPr>
        <p:blipFill>
          <a:blip r:embed="rId1"/>
          <a:stretch/>
        </p:blipFill>
        <p:spPr>
          <a:xfrm>
            <a:off x="5562720" y="3962520"/>
            <a:ext cx="35049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Navigating Directori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   “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hange directory”:  move into a folde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ist”:  see contents of 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914400" y="2971800"/>
            <a:ext cx="990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914400" y="1828800"/>
            <a:ext cx="990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d   __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914400" y="3657600"/>
            <a:ext cx="990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__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2" name="Picture 7" descr="hierarchy"/>
          <p:cNvPicPr/>
          <p:nvPr/>
        </p:nvPicPr>
        <p:blipFill>
          <a:blip r:embed="rId1"/>
          <a:stretch/>
        </p:blipFill>
        <p:spPr>
          <a:xfrm>
            <a:off x="5562720" y="3962520"/>
            <a:ext cx="3504960" cy="27543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152280" y="4572000"/>
            <a:ext cx="52578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esktop   matlab   tmp   TUTORIAL_DATA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Anatomy of a Command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752480" y="2895480"/>
            <a:ext cx="51818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ommand   -option1   –option2    fil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3124080" y="4191120"/>
            <a:ext cx="24386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ommand   - -help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Anatomy of a Command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1752480" y="2895480"/>
            <a:ext cx="51818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ommand   -option1   –option2    fil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3124080" y="4191120"/>
            <a:ext cx="24386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ommand    - -help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124080" y="5486400"/>
            <a:ext cx="24386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 --help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3962520" y="4952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ry: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What is Unix/Linux?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629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 operating system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like Windows and OS X)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inux is the free, modifiable, and redistributable version of Unix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y use it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Directory Content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ist contents of directory you are i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lists names of directories/fil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6" name="Picture 4" descr="hierarchy"/>
          <p:cNvPicPr/>
          <p:nvPr/>
        </p:nvPicPr>
        <p:blipFill>
          <a:blip r:embed="rId1"/>
          <a:stretch/>
        </p:blipFill>
        <p:spPr>
          <a:xfrm>
            <a:off x="5943600" y="2209680"/>
            <a:ext cx="2895480" cy="22748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5"/>
          <p:cNvSpPr/>
          <p:nvPr/>
        </p:nvSpPr>
        <p:spPr>
          <a:xfrm>
            <a:off x="762120" y="22096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762120" y="38098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-lr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762120" y="32767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-l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762120" y="27432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-a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Directory Content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ist contents of directory you are i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lists names of directories/fil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lists hidden files too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3" name="Picture 4" descr="hierarchy"/>
          <p:cNvPicPr/>
          <p:nvPr/>
        </p:nvPicPr>
        <p:blipFill>
          <a:blip r:embed="rId1"/>
          <a:stretch/>
        </p:blipFill>
        <p:spPr>
          <a:xfrm>
            <a:off x="5943600" y="2209680"/>
            <a:ext cx="2895480" cy="2274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2895480" y="4800600"/>
            <a:ext cx="221004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.xdebug_tkmedi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.cshrc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.alia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62120" y="22096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762120" y="38098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-lr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762120" y="32767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-l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762120" y="27432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-a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Directory Content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ist contents of directory you are i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lists names of directories/fil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lists hidden files too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lists file detail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rwxrwx---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1" name="Picture 4" descr="hierarchy"/>
          <p:cNvPicPr/>
          <p:nvPr/>
        </p:nvPicPr>
        <p:blipFill>
          <a:blip r:embed="rId1"/>
          <a:stretch/>
        </p:blipFill>
        <p:spPr>
          <a:xfrm>
            <a:off x="5943600" y="2209680"/>
            <a:ext cx="2895480" cy="2274840"/>
          </a:xfrm>
          <a:prstGeom prst="rect">
            <a:avLst/>
          </a:prstGeom>
          <a:ln w="0">
            <a:noFill/>
          </a:ln>
        </p:spPr>
      </p:pic>
      <p:sp>
        <p:nvSpPr>
          <p:cNvPr id="172" name="Line 5"/>
          <p:cNvSpPr/>
          <p:nvPr/>
        </p:nvSpPr>
        <p:spPr>
          <a:xfrm>
            <a:off x="35812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Line 7"/>
          <p:cNvSpPr/>
          <p:nvPr/>
        </p:nvSpPr>
        <p:spPr>
          <a:xfrm flipV="1">
            <a:off x="3581280" y="5257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4191120" y="5257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42670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6" name="Line 10"/>
          <p:cNvSpPr/>
          <p:nvPr/>
        </p:nvSpPr>
        <p:spPr>
          <a:xfrm flipV="1">
            <a:off x="4267080" y="5257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7" name="Line 11"/>
          <p:cNvSpPr/>
          <p:nvPr/>
        </p:nvSpPr>
        <p:spPr>
          <a:xfrm flipV="1">
            <a:off x="4876920" y="5257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49528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Line 13"/>
          <p:cNvSpPr/>
          <p:nvPr/>
        </p:nvSpPr>
        <p:spPr>
          <a:xfrm flipV="1">
            <a:off x="4952880" y="5257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0" name="Line 14"/>
          <p:cNvSpPr/>
          <p:nvPr/>
        </p:nvSpPr>
        <p:spPr>
          <a:xfrm flipV="1">
            <a:off x="5562720" y="5257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Line 15"/>
          <p:cNvSpPr/>
          <p:nvPr/>
        </p:nvSpPr>
        <p:spPr>
          <a:xfrm>
            <a:off x="38862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Line 16"/>
          <p:cNvSpPr/>
          <p:nvPr/>
        </p:nvSpPr>
        <p:spPr>
          <a:xfrm>
            <a:off x="457200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5257800" y="5486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3581280" y="5715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419112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4876920" y="6095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Rectangle 21"/>
          <p:cNvSpPr/>
          <p:nvPr/>
        </p:nvSpPr>
        <p:spPr>
          <a:xfrm>
            <a:off x="762120" y="22096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Rectangle 22"/>
          <p:cNvSpPr/>
          <p:nvPr/>
        </p:nvSpPr>
        <p:spPr>
          <a:xfrm>
            <a:off x="762120" y="38098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-lr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9" name="Rectangle 23"/>
          <p:cNvSpPr/>
          <p:nvPr/>
        </p:nvSpPr>
        <p:spPr>
          <a:xfrm>
            <a:off x="762120" y="32767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-l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0" name="Rectangle 24"/>
          <p:cNvSpPr/>
          <p:nvPr/>
        </p:nvSpPr>
        <p:spPr>
          <a:xfrm>
            <a:off x="762120" y="27432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-a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Directory Content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ist contents of directory you are i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lists names of directories/fil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lists hidden files too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lists file detail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lists recent files las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93" name="Picture 4" descr="hierarchy"/>
          <p:cNvPicPr/>
          <p:nvPr/>
        </p:nvPicPr>
        <p:blipFill>
          <a:blip r:embed="rId1"/>
          <a:stretch/>
        </p:blipFill>
        <p:spPr>
          <a:xfrm>
            <a:off x="5943600" y="2209680"/>
            <a:ext cx="2895480" cy="22748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762120" y="22096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762120" y="38098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-lr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762120" y="32767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-l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762120" y="27432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-a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Save Some Time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lename Comple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hit Tab key 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should see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 hit ente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istor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hit      key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should se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0" name="Line 4"/>
          <p:cNvSpPr/>
          <p:nvPr/>
        </p:nvSpPr>
        <p:spPr>
          <a:xfrm flipV="1">
            <a:off x="129528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533520" y="2590920"/>
            <a:ext cx="1295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De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4267080" y="3200400"/>
            <a:ext cx="1600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Desktop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5257800" y="5105520"/>
            <a:ext cx="1600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Desktop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hanging Directori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9753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makes a new directory “practice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changes to directory “practice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609480" y="1676520"/>
            <a:ext cx="1676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kdir   practic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609480" y="4191120"/>
            <a:ext cx="1676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d   practic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609480" y="23623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-lr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609480" y="30481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wd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609480" y="5943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1" name="Rectangle 13"/>
          <p:cNvSpPr/>
          <p:nvPr/>
        </p:nvSpPr>
        <p:spPr>
          <a:xfrm>
            <a:off x="609480" y="5257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wd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2" name="Rectangle 15"/>
          <p:cNvSpPr/>
          <p:nvPr/>
        </p:nvSpPr>
        <p:spPr>
          <a:xfrm>
            <a:off x="3124080" y="2971800"/>
            <a:ext cx="2286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/home/nmrclas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3124080" y="52578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/home/nmrclass/practic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14" name="Picture 18" descr="practice"/>
          <p:cNvPicPr/>
          <p:nvPr/>
        </p:nvPicPr>
        <p:blipFill>
          <a:blip r:embed="rId1"/>
          <a:stretch/>
        </p:blipFill>
        <p:spPr>
          <a:xfrm>
            <a:off x="6248520" y="2133720"/>
            <a:ext cx="2666880" cy="20955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2"/>
          <p:cNvSpPr/>
          <p:nvPr/>
        </p:nvSpPr>
        <p:spPr>
          <a:xfrm>
            <a:off x="1600200" y="3124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should se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6" name="Text Box 23"/>
          <p:cNvSpPr/>
          <p:nvPr/>
        </p:nvSpPr>
        <p:spPr>
          <a:xfrm>
            <a:off x="1600200" y="53481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should se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7" name="Text Box 24"/>
          <p:cNvSpPr/>
          <p:nvPr/>
        </p:nvSpPr>
        <p:spPr>
          <a:xfrm>
            <a:off x="1600200" y="5943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should se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8" name="Text Box 25"/>
          <p:cNvSpPr/>
          <p:nvPr/>
        </p:nvSpPr>
        <p:spPr>
          <a:xfrm>
            <a:off x="3962520" y="59436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Nothing!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hanging Directori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0" name="Picture 5" descr="practice"/>
          <p:cNvPicPr/>
          <p:nvPr/>
        </p:nvPicPr>
        <p:blipFill>
          <a:blip r:embed="rId1"/>
          <a:stretch/>
        </p:blipFill>
        <p:spPr>
          <a:xfrm>
            <a:off x="2286000" y="2133720"/>
            <a:ext cx="464832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hanging Directori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609480" y="1523880"/>
            <a:ext cx="1676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kdir   stuff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609480" y="2057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24" name="Picture 16" descr="stuff"/>
          <p:cNvPicPr/>
          <p:nvPr/>
        </p:nvPicPr>
        <p:blipFill>
          <a:blip r:embed="rId1"/>
          <a:stretch/>
        </p:blipFill>
        <p:spPr>
          <a:xfrm>
            <a:off x="4724280" y="3124080"/>
            <a:ext cx="4191120" cy="32943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9"/>
          <p:cNvSpPr/>
          <p:nvPr/>
        </p:nvSpPr>
        <p:spPr>
          <a:xfrm>
            <a:off x="2666880" y="15238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makes folder “stuff” inside practi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2666880" y="2057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should see “stuff”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Using an Editor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If using a Mac: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ype:  I could write a script in her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le &gt; Save (Buffer)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le &gt; Exit emac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should se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“mynotes.txt”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533520" y="1600200"/>
            <a:ext cx="2209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emacs   mynotes.tx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6019920" y="16002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ico   mynotes.tx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533520" y="53341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5867280" y="3657600"/>
            <a:ext cx="2362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trl-x if using pico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nd then ‘Y’ and ente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Using an Editor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If using a Mac: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ype:  I could write a script in her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le &gt; Save (Buffer)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le &gt; Exit emac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should se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“mynotes.txt”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33520" y="1600200"/>
            <a:ext cx="2209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gedit   mynotes.tx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6019920" y="16002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ico   mynotes.tx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533520" y="53341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5867280" y="3657600"/>
            <a:ext cx="2362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trl-x if using pico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nd then ‘Y’ and ente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What is Unix/Linux?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 operating system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like Windows and OS X)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inux is the free, modifiable, and redistributable version of Unix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y use it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ower to write many scripts with many commands to work with lots of dat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Using an Editor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0" name="Picture 5" descr="1stmynotes"/>
          <p:cNvPicPr/>
          <p:nvPr/>
        </p:nvPicPr>
        <p:blipFill>
          <a:blip r:embed="rId1"/>
          <a:stretch/>
        </p:blipFill>
        <p:spPr>
          <a:xfrm>
            <a:off x="1981080" y="1981080"/>
            <a:ext cx="493416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opying fil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533520" y="51814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533520" y="205740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p   --help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533520" y="3200400"/>
            <a:ext cx="25905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p   mynotes.txt   stuff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533520" y="4495680"/>
            <a:ext cx="9903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d  stuff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6" name="Rectangle 13"/>
          <p:cNvSpPr/>
          <p:nvPr/>
        </p:nvSpPr>
        <p:spPr>
          <a:xfrm>
            <a:off x="533520" y="5791320"/>
            <a:ext cx="21333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ore   mynotes.tx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7" name="Text Box 18"/>
          <p:cNvSpPr/>
          <p:nvPr/>
        </p:nvSpPr>
        <p:spPr>
          <a:xfrm>
            <a:off x="1905120" y="2057400"/>
            <a:ext cx="556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learn all the options or “arguments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8" name="Text Box 19"/>
          <p:cNvSpPr/>
          <p:nvPr/>
        </p:nvSpPr>
        <p:spPr>
          <a:xfrm>
            <a:off x="1523880" y="14479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is the copy comman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49" name="Picture 22" descr="2ndmynotes"/>
          <p:cNvPicPr/>
          <p:nvPr/>
        </p:nvPicPr>
        <p:blipFill>
          <a:blip r:embed="rId1"/>
          <a:stretch/>
        </p:blipFill>
        <p:spPr>
          <a:xfrm>
            <a:off x="3581280" y="2819520"/>
            <a:ext cx="4686480" cy="36828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23"/>
          <p:cNvSpPr/>
          <p:nvPr/>
        </p:nvSpPr>
        <p:spPr>
          <a:xfrm>
            <a:off x="533520" y="1523880"/>
            <a:ext cx="8380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p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opying fil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533520" y="51814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533520" y="205740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p   --help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533520" y="3200400"/>
            <a:ext cx="25905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p   mynotes.txt   stuff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533520" y="4495680"/>
            <a:ext cx="9903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d  stuff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533520" y="5791320"/>
            <a:ext cx="21333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ess   mynotes.tx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1905120" y="2057400"/>
            <a:ext cx="556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learn all the options or “arguments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1523880" y="14479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is the copy comman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59" name="Picture 10" descr="2ndmynotes"/>
          <p:cNvPicPr/>
          <p:nvPr/>
        </p:nvPicPr>
        <p:blipFill>
          <a:blip r:embed="rId1"/>
          <a:stretch/>
        </p:blipFill>
        <p:spPr>
          <a:xfrm>
            <a:off x="3581280" y="2819520"/>
            <a:ext cx="4686480" cy="368280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1"/>
          <p:cNvSpPr/>
          <p:nvPr/>
        </p:nvSpPr>
        <p:spPr>
          <a:xfrm>
            <a:off x="533520" y="1523880"/>
            <a:ext cx="8380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p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hanging Directori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9753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shows one directory up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762120" y="4876920"/>
            <a:ext cx="9144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 .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3733920" y="62485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wd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5562720" y="6248520"/>
            <a:ext cx="35049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/home/nmrclass/practice/stuff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66" name="Picture 13" descr="stuff"/>
          <p:cNvPicPr/>
          <p:nvPr/>
        </p:nvPicPr>
        <p:blipFill>
          <a:blip r:embed="rId1"/>
          <a:stretch/>
        </p:blipFill>
        <p:spPr>
          <a:xfrm>
            <a:off x="2209680" y="1477800"/>
            <a:ext cx="4324320" cy="339912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4"/>
          <p:cNvSpPr/>
          <p:nvPr/>
        </p:nvSpPr>
        <p:spPr>
          <a:xfrm>
            <a:off x="762120" y="548640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 ../.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1905120" y="55008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goes up two!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6553080" y="5257800"/>
            <a:ext cx="91440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d   .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4419720" y="6324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should se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1" name="Rectangle 18"/>
          <p:cNvSpPr/>
          <p:nvPr/>
        </p:nvSpPr>
        <p:spPr>
          <a:xfrm>
            <a:off x="7696080" y="5257800"/>
            <a:ext cx="1067040" cy="5335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d   ../.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6781680" y="48769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ook Antiqua"/>
              </a:rPr>
              <a:t>can also do (but don’t):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opying / Moving fil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2590920" y="2362320"/>
            <a:ext cx="3809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p   mynotes.txt   myothernotes.tx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2895480" y="1538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Could also use do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2590920" y="3429000"/>
            <a:ext cx="3809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v   myothernotes.txt   hernotes.tx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7" name="Rectangle 13"/>
          <p:cNvSpPr/>
          <p:nvPr/>
        </p:nvSpPr>
        <p:spPr>
          <a:xfrm>
            <a:off x="2590920" y="4495680"/>
            <a:ext cx="38098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v   hernotes.txt     .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Removing Fil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79" name="Picture 4" descr="2ndmynotes"/>
          <p:cNvPicPr/>
          <p:nvPr/>
        </p:nvPicPr>
        <p:blipFill>
          <a:blip r:embed="rId1"/>
          <a:stretch/>
        </p:blipFill>
        <p:spPr>
          <a:xfrm>
            <a:off x="4191120" y="2209680"/>
            <a:ext cx="4686120" cy="36831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33520" y="2590920"/>
            <a:ext cx="1828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m   mynotes.tx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533520" y="2057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2" name="Rectangle 15"/>
          <p:cNvSpPr/>
          <p:nvPr/>
        </p:nvSpPr>
        <p:spPr>
          <a:xfrm>
            <a:off x="533520" y="15238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wd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1295280" y="152388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should be in “stuff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4" name="Rectangle 17"/>
          <p:cNvSpPr/>
          <p:nvPr/>
        </p:nvSpPr>
        <p:spPr>
          <a:xfrm>
            <a:off x="533520" y="32767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5" name="Line 19"/>
          <p:cNvSpPr/>
          <p:nvPr/>
        </p:nvSpPr>
        <p:spPr>
          <a:xfrm>
            <a:off x="8077320" y="5029200"/>
            <a:ext cx="609480" cy="609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6" name="Line 20"/>
          <p:cNvSpPr/>
          <p:nvPr/>
        </p:nvSpPr>
        <p:spPr>
          <a:xfrm flipH="1">
            <a:off x="8076960" y="5029200"/>
            <a:ext cx="533160" cy="609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Review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o double click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kdi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d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wd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macs, gedit, vi, pico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p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Using FreeSurfer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ith FreeSurfer, certain variables must be set in order to use it correctly: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REESURFER_HOM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UBJECTS_DI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1905120" y="34290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ell Operating System where FreeSurfer i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2666880" y="45720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ell FreeSurfer where data i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Required Variabl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go to location of your data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$ means take the value of the variabl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1981080" y="3505320"/>
            <a:ext cx="4572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d   $SUBJECTS_DI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1219320" y="1752480"/>
            <a:ext cx="6172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etenv    SUBJECTS_DIR   </a:t>
            </a: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/path/to/data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Required Variabl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go to location of your data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$ means take the value of the variabl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1981080" y="3505320"/>
            <a:ext cx="45720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d   $SUBJECTS_DI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k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d   /path/to/dat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1219320" y="1752480"/>
            <a:ext cx="6172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etenv    SUBJECTS_DIR   </a:t>
            </a: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/path/to/data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Getting Started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municate with operating system through a “shell” or terminal window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For Linux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ouble click Terminal icon on Desktop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For Mac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ouble click on hard driv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pplications &gt; Utilities &gt; X11 (double click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$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ow ‘echo’ works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set a variabl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check what a variable is set to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1676520" y="5715000"/>
            <a:ext cx="4572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cho    $TEST_VARIABL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1219320" y="4114800"/>
            <a:ext cx="5943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tenv    TEST_VARIABLE   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yourfirstname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286000" y="2438280"/>
            <a:ext cx="3124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cho   Allison is cool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Visualization Tool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r FreeSurfer visualization tools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1676520" y="2514600"/>
            <a:ext cx="5105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kmedit   subj001   T1.mgz   -aux   wm.mgz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1676520" y="3200400"/>
            <a:ext cx="5105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ksurfer   subj001   lh   inflated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1295280" y="4419720"/>
            <a:ext cx="6248520" cy="457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VisualizationTool   subject   data_file   -aux  other_data_fil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1295280" y="5105520"/>
            <a:ext cx="6248520" cy="457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VisualizationTool   subject   hemisphere   data_fil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More Help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ttp://surfer.nmr.mgh.harvard.edu/fswiki/FsTutorial/CommandLineNavig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inks on Wiki under “Unix Tutorial”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Glossary of Unix command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The End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Good Luck!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Warm Up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yp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d hit enter.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09480" y="2209680"/>
            <a:ext cx="990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9" name="Picture 11" descr="prompt"/>
          <p:cNvPicPr/>
          <p:nvPr/>
        </p:nvPicPr>
        <p:blipFill>
          <a:blip r:embed="rId1"/>
          <a:srcRect l="0" t="26198" r="0" b="0"/>
          <a:stretch/>
        </p:blipFill>
        <p:spPr>
          <a:xfrm>
            <a:off x="1905120" y="3276720"/>
            <a:ext cx="411480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Warm Up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yp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d hit enter.  Should se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609480" y="2209680"/>
            <a:ext cx="990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5867280" y="2274840"/>
            <a:ext cx="3200400" cy="7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on Apr  6 8:05:24 EDT 2009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Warm Up 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yp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d hit enter.  Should se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yp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d hit enter.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609480" y="2209680"/>
            <a:ext cx="990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5867280" y="2274840"/>
            <a:ext cx="3130560" cy="7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on Apr  6 8:05:24 EDT 2009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533520" y="4572000"/>
            <a:ext cx="990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Warm Up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yp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d hit enter.  Should se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yp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d hit enter.  Should se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09480" y="2209680"/>
            <a:ext cx="990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5867280" y="2274840"/>
            <a:ext cx="3130560" cy="7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on Apr  6 8:05:24 EDT 2009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33520" y="4572000"/>
            <a:ext cx="990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5943600" y="4495680"/>
            <a:ext cx="25146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pril 2009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u Mo Tu We Th Fr Sa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  2  3  4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5  6  7  8  9 10 11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2 13 14 15 16 17 18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9 20 21 22 23 24 25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6 27 28 29 30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Directori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Unix uses a hierarchical file system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think folders in Window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7" name="Picture 4" descr="hierarchy"/>
          <p:cNvPicPr/>
          <p:nvPr/>
        </p:nvPicPr>
        <p:blipFill>
          <a:blip r:embed="rId1"/>
          <a:stretch/>
        </p:blipFill>
        <p:spPr>
          <a:xfrm>
            <a:off x="1828800" y="2666880"/>
            <a:ext cx="51814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15:54:38Z</dcterms:created>
  <dc:creator>Allison</dc:creator>
  <dc:description/>
  <dc:language>en-US</dc:language>
  <cp:lastModifiedBy>khuber</cp:lastModifiedBy>
  <dcterms:modified xsi:type="dcterms:W3CDTF">2012-06-01T18:28:40Z</dcterms:modified>
  <cp:revision>355</cp:revision>
  <dc:subject/>
  <dc:title>Unix Tutorial for FreeSurfer Users</dc:title>
</cp:coreProperties>
</file>