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EBC9-11CB-4C24-9293-E10BBA114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FC58-7A35-42EB-A9C4-3A531A5F3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7C6A-56BC-4DA4-B9C5-9672140CC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07E8-9252-44AC-9D35-F526119C4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D78B-1F32-4A55-9A96-CA859A7C5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9539-77A8-4584-AB47-70AC4CA33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AA25-17B9-423B-B760-B3EEB76EE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0C20-E61D-41C4-96FB-25DD0CD13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1CC3-26A1-4A83-862E-D74F3D745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7CF0-16C5-4883-9197-D6046D6F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3FFC-D613-47BA-89F8-8A6FECDF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FCDF-DCC9-475C-A0E2-BF42FEF0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B51DF-7055-498B-9915-4B49CBE1C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upload.wikimedia.org/wikipedia/commons/8/82/Gyroscope_precession.gif" TargetMode="External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6360" y="71280"/>
            <a:ext cx="9159480" cy="6382080"/>
            <a:chOff x="-36360" y="71280"/>
            <a:chExt cx="9159480" cy="6382080"/>
          </a:xfrm>
        </p:grpSpPr>
        <p:pic>
          <p:nvPicPr>
            <p:cNvPr id="46" name="" descr=""/>
            <p:cNvPicPr/>
            <p:nvPr/>
          </p:nvPicPr>
          <p:blipFill>
            <a:blip r:embed="rId1"/>
            <a:srcRect l="0" t="0" r="0" b="11344"/>
            <a:stretch/>
          </p:blipFill>
          <p:spPr>
            <a:xfrm>
              <a:off x="-36360" y="71280"/>
              <a:ext cx="8970840" cy="638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8747280" y="5978520"/>
              <a:ext cx="3758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2500" spc="-1" strike="noStrike">
                  <a:solidFill>
                    <a:srgbClr val="ffffff"/>
                  </a:solidFill>
                  <a:latin typeface="Comic Sans MS"/>
                </a:rPr>
                <a:t>d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391400" y="3014640"/>
            <a:ext cx="6880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ffffff"/>
                </a:solidFill>
                <a:latin typeface="Arial"/>
              </a:rPr>
              <a:t>Group exerci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http://www.drcmr.dk/JavaCompass/BasicMRgroupwork.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-27000"/>
            <a:ext cx="9180360" cy="6825960"/>
            <a:chOff x="0" y="-27000"/>
            <a:chExt cx="9180360" cy="6825960"/>
          </a:xfrm>
        </p:grpSpPr>
        <p:pic>
          <p:nvPicPr>
            <p:cNvPr id="50" name="" descr=""/>
            <p:cNvPicPr/>
            <p:nvPr/>
          </p:nvPicPr>
          <p:blipFill>
            <a:blip r:embed="rId1"/>
            <a:srcRect l="0" t="0" r="0" b="3134"/>
            <a:stretch/>
          </p:blipFill>
          <p:spPr>
            <a:xfrm>
              <a:off x="0" y="-27000"/>
              <a:ext cx="9180360" cy="645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Datei:Gyroscope precession.gif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500880" y="3906720"/>
              <a:ext cx="2503440" cy="25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47560" y="6354720"/>
              <a:ext cx="798984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2300" spc="-1" strike="noStrike">
                  <a:solidFill>
                    <a:srgbClr val="ffffff"/>
                  </a:solidFill>
                  <a:latin typeface="Comic Sans MS"/>
                </a:rPr>
                <a:t>The difference is due to the rotation of the protons (spin)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11:18:02Z</dcterms:created>
  <dc:creator>Lars G. Hanson</dc:creator>
  <dc:description/>
  <dc:language>en-US</dc:language>
  <cp:lastModifiedBy>Lars G. Hanson</cp:lastModifiedBy>
  <dcterms:modified xsi:type="dcterms:W3CDTF">2011-04-05T11:41:33Z</dcterms:modified>
  <cp:revision>5</cp:revision>
  <dc:subject/>
  <dc:title>Dias nummer 1</dc:title>
</cp:coreProperties>
</file>