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A41-3410-4FC1-B18C-6891044A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390-D95C-4395-86B2-666D60F6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A10-62F3-492F-A093-8E31210B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602-D251-43B6-B9DB-55CCCEC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B05-70E2-496E-ACA8-4D46D64F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322-0501-408F-86DC-0E49BD7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38C-EB39-4F0E-A051-C90C4D36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852-6B7F-44A4-B267-C539BFD1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CD1-B3AD-4C52-910A-47B5074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E42-482A-43BB-BB35-6304649F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086-8A47-4C71-AC8F-9324680E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0DC-252E-44E7-A652-98CAAA9C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B32-ACE8-46FE-9D52-8AF5E0BE06A8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BA0F-EB78-4C3F-8E01-53164B931B4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7886520" y="-36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611C-403F-4DCB-A318-2853B7E5EDF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331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335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43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51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88600" y="3657600"/>
            <a:ext cx="2294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+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93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94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426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44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48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52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64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76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97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01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05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09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515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517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527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529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42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55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67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79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607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51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53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00480" y="167292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52760" y="464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7640" y="1905120"/>
            <a:ext cx="350532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68680" y="1905120"/>
            <a:ext cx="423756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Input file (output from smoothing)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tack of subjects, one frame per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09" name=""/>
          <p:cNvCxnSpPr>
            <a:stCxn id="707" idx="3"/>
            <a:endCxn id="708" idx="1"/>
          </p:cNvCxnSpPr>
          <p:nvPr/>
        </p:nvCxnSpPr>
        <p:spPr>
          <a:xfrm>
            <a:off x="4152600" y="2095200"/>
            <a:ext cx="1220040" cy="167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3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680" y="2286000"/>
            <a:ext cx="350496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92360" y="2286000"/>
            <a:ext cx="456372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Group Descriptor File (FSG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Group membership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variat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3"/>
            <a:endCxn id="713" idx="1"/>
          </p:cNvCxnSpPr>
          <p:nvPr/>
        </p:nvCxnSpPr>
        <p:spPr>
          <a:xfrm>
            <a:off x="4076280" y="2476080"/>
            <a:ext cx="1220040" cy="320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7640" y="2666880"/>
            <a:ext cx="3505320" cy="38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74800" y="2666880"/>
            <a:ext cx="273636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trast Matric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mple text/ASCII fi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st hypothe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7" idx="3"/>
            <a:endCxn id="718" idx="1"/>
          </p:cNvCxnSpPr>
          <p:nvPr/>
        </p:nvCxnSpPr>
        <p:spPr>
          <a:xfrm>
            <a:off x="4152600" y="2857680"/>
            <a:ext cx="1220040" cy="3196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7040" y="3011400"/>
            <a:ext cx="3505320" cy="722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219640" y="1981080"/>
            <a:ext cx="4496040" cy="13136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form analysis on left hemisphere of fsaverage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sks by fsaverage cortex.lab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mputes FWHM in 2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22" idx="3"/>
            <a:endCxn id="723" idx="1"/>
          </p:cNvCxnSpPr>
          <p:nvPr/>
        </p:nvCxnSpPr>
        <p:spPr>
          <a:xfrm flipV="1">
            <a:off x="4032360" y="2642400"/>
            <a:ext cx="1187640" cy="73116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lh.gender_age.glmdir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360" y="3733920"/>
            <a:ext cx="4038480" cy="417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7" idx="3"/>
            <a:endCxn id="729" idx="1"/>
          </p:cNvCxnSpPr>
          <p:nvPr/>
        </p:nvCxnSpPr>
        <p:spPr>
          <a:xfrm flipV="1">
            <a:off x="4533480" y="3385800"/>
            <a:ext cx="686520" cy="55800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729" name=""/>
          <p:cNvSpPr/>
          <p:nvPr/>
        </p:nvSpPr>
        <p:spPr>
          <a:xfrm>
            <a:off x="5220720" y="1143000"/>
            <a:ext cx="4650840" cy="44830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Output director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48240" y="3200400"/>
            <a:ext cx="464832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4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49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3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4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755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62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135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139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9040" y="2362320"/>
            <a:ext cx="50292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9760" y="129528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0CB-2A7A-4AF4-A3FB-8D3F482F86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04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640" y="2743200"/>
            <a:ext cx="3810240" cy="457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78" name=""/>
          <p:cNvCxnSpPr>
            <a:stCxn id="777" idx="3"/>
            <a:endCxn id="779" idx="1"/>
          </p:cNvCxnSpPr>
          <p:nvPr/>
        </p:nvCxnSpPr>
        <p:spPr>
          <a:xfrm>
            <a:off x="4457880" y="2971800"/>
            <a:ext cx="1829520" cy="10072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grpSp>
        <p:nvGrpSpPr>
          <p:cNvPr id="780" name=""/>
          <p:cNvGrpSpPr/>
          <p:nvPr/>
        </p:nvGrpSpPr>
        <p:grpSpPr>
          <a:xfrm>
            <a:off x="6210360" y="1828800"/>
            <a:ext cx="3276720" cy="2343600"/>
            <a:chOff x="6210360" y="1828800"/>
            <a:chExt cx="3276720" cy="2343600"/>
          </a:xfrm>
        </p:grpSpPr>
        <p:sp>
          <p:nvSpPr>
            <p:cNvPr id="779" name=""/>
            <p:cNvSpPr/>
            <p:nvPr/>
          </p:nvSpPr>
          <p:spPr>
            <a:xfrm>
              <a:off x="6286680" y="3773520"/>
              <a:ext cx="3200400" cy="3988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                                              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10360" y="1828800"/>
              <a:ext cx="327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 u="sng">
                  <a:solidFill>
                    <a:srgbClr val="bbe0e3"/>
                  </a:solidFill>
                  <a:uFillTx/>
                  <a:latin typeface="Times New Roman"/>
                </a:rPr>
                <a:t>Original mri_glmfit command: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mri_glmfit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y lh.thickness.sm10.mgh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fsgd gender_age.tx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 age.mtx –C gender.mt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surf fsaverage 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ort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--glmdir lh.gender_age.glmdir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287040" y="4267080"/>
            <a:ext cx="2797560" cy="243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lh.gender_age.glmdi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beta.mgh – parameter estimates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rvar.mgh – residual error varianc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etc …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age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, uncorrected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ende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E12-BBAF-4EAA-B7A1-860B42BF4FF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9040" y="23623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4440" y="310500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6" idx="3"/>
          </p:cNvCxnSpPr>
          <p:nvPr/>
        </p:nvCxnSpPr>
        <p:spPr>
          <a:xfrm flipV="1">
            <a:off x="3342960" y="3276360"/>
            <a:ext cx="1724760" cy="57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>
            <a:off x="5067360" y="2590920"/>
            <a:ext cx="4971960" cy="19227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pre-cached simulation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ve contra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oxelwise threshold = 2 (p&lt;.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use another simulation or permu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BE6-A026-43BC-88DA-9C26E98DC6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040" y="23623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4440" y="344808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93" name=""/>
          <p:cNvCxnSpPr>
            <a:stCxn id="792" idx="3"/>
          </p:cNvCxnSpPr>
          <p:nvPr/>
        </p:nvCxnSpPr>
        <p:spPr>
          <a:xfrm flipV="1">
            <a:off x="3342960" y="3618720"/>
            <a:ext cx="1724760" cy="579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5067360" y="3429000"/>
            <a:ext cx="41148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-wise threshold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3440" y="4800600"/>
            <a:ext cx="86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Why Cluster-wise threshold p&lt;.025 when I wanted p &lt; .05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rrection across 2 spaces: lh and rh:   .025 = .05/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onferroni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2E5-69F3-4AF1-A1DD-CA459CF1AE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1200" y="152280"/>
            <a:ext cx="911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 Output (Surfac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3080" y="1371600"/>
            <a:ext cx="43434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-US" sz="2400" spc="-1" strike="noStrike">
                <a:solidFill>
                  <a:srgbClr val="fff75e"/>
                </a:solidFill>
                <a:latin typeface="Times New Roman"/>
              </a:rPr>
              <a:t>l</a:t>
            </a:r>
            <a:r>
              <a:rPr b="0" lang="en" sz="2400" spc="-1" strike="noStrike">
                <a:solidFill>
                  <a:srgbClr val="fff75e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32280" y="1173240"/>
            <a:ext cx="236304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75e"/>
                </a:solidFill>
                <a:latin typeface="Times New Roman"/>
              </a:rPr>
              <a:t>lh.gender_age.glmdi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64200" y="2244600"/>
            <a:ext cx="519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360" y="3200400"/>
            <a:ext cx="8763120" cy="192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.mg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pre-existing uncorrected p-valu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mg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ap of significance of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cn.an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nnotation of significant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summ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text file of cluster table (clusters, sizes, MNI305 XYZ, and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nifican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9" idx="2"/>
            <a:endCxn id="800" idx="0"/>
          </p:cNvCxnSpPr>
          <p:nvPr/>
        </p:nvCxnSpPr>
        <p:spPr>
          <a:xfrm rot="5400000">
            <a:off x="5295240" y="2171520"/>
            <a:ext cx="610200" cy="14482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802" name="" descr="groupana.lat.clusters.gif"/>
          <p:cNvPicPr/>
          <p:nvPr/>
        </p:nvPicPr>
        <p:blipFill>
          <a:blip r:embed="rId1"/>
          <a:stretch/>
        </p:blipFill>
        <p:spPr>
          <a:xfrm>
            <a:off x="7962840" y="5257800"/>
            <a:ext cx="1752840" cy="11793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86360" y="5156280"/>
            <a:ext cx="69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ly shows clusters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ignificance value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ot corrected for 2 spaces!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798" idx="2"/>
            <a:endCxn id="799" idx="0"/>
          </p:cNvCxnSpPr>
          <p:nvPr/>
        </p:nvCxnSpPr>
        <p:spPr>
          <a:xfrm rot="5400000">
            <a:off x="6285960" y="1617480"/>
            <a:ext cx="665640" cy="58968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7055280" y="2244600"/>
            <a:ext cx="811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798" idx="2"/>
            <a:endCxn id="805" idx="0"/>
          </p:cNvCxnSpPr>
          <p:nvPr/>
        </p:nvCxnSpPr>
        <p:spPr>
          <a:xfrm flipH="1" rot="16200000">
            <a:off x="6854760" y="1637640"/>
            <a:ext cx="665640" cy="54864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A29-80FE-4323-898E-F342085269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831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833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853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56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50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71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95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229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230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236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45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67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69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8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79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83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84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95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98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302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306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12-04-24T19:40:17Z</dcterms:modified>
  <cp:revision>955</cp:revision>
  <dc:subject/>
  <dc:title>Understanding Differential Responses in fMRI Through Linear Simulation</dc:title>
</cp:coreProperties>
</file>