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95591-0CD9-4EA2-8A2D-B6F824157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richer information in the data. One way to represent it is to draw streamlines / tractography relying on directiona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ool to manually isolate certain fi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s DTI reconstruction from the DWI in the input dicom file. Gets gradient directions and bvalues from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dicom file see $FREESURFER_HOME/diffusion/mgh-dti-seqpack/READ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all other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.nii -- apparent diffusion co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.nii -- fractional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.nii -- relative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.nii -- volum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c.nii -- intervoxel cor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ncoded by diffusion matric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TI if Gaussian assumption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nterest: anisotropy and diffus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: fiber density, axonal diameter, myeleination in 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: magnitude of diffusion (of water molecules) within cerebral tissue. A low value for ADC indicates that the cortical white matter tracts are organized (good), while a high value for ADC indicates that these tracts are disorganized (b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C: This is the degree to which diffusion in neighboring voxels has a common orientation (Pfefferbaum et al. 2000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This measure is similar to FA but views coherence on a larger spatial, voxel–to–voxel scale (in contrast with FA’s intravoxel sca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73BB-28A5-41EF-8A7C-D31386D5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6035-187C-4163-8AEC-4EF8BA9B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3596-DA8C-4B7D-82BB-12B55A86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F67B-03AD-4EBB-9091-CE0779AB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6D70-76D5-4C2C-825A-F781C5BE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527-A51D-4751-A0F2-04262A01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F0FD-ED09-4AA5-B851-80F2EC11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0C44-09A9-4374-BCEF-9CDAA103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72B5-8830-4674-A2D8-97EBE06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A86C-CDC9-4D0A-8A84-7075E28D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18F2-BEA2-4B92-A96D-AD6AC6E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8C3E-BF07-4311-98ED-3E6811EF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D4C4-8971-4BA7-A39C-B841F8A3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2E3D-0288-4535-913C-E02E3785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D3A3-7594-47AE-AB6E-21C4FC98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0CB8-FA46-41EA-A111-D93ECC02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01A5-9F80-4858-AE4E-C57F03DE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586A-F832-4487-9D66-ECD0D33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147A-2AC1-4F28-9FA2-4370DC74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A42B-100A-4550-94AF-0D5C023C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A9CD-0B5D-4338-A2E6-507AC77E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D01C-F0AC-42AC-B546-BDCF480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4EF6-F142-4960-AEF0-8F7E5FB7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368D-9899-45BF-9980-287F58A4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F585-A07E-4CC2-A9BD-781066614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6233-C054-46EE-85CC-7235D93EA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troduction to Diffusion MRI process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lla Z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ö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tography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vis and Diffusion Toolkit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trackvis.org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268880" cy="26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17EF-01DE-45CB-8A76-D3F751250EE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6840" y="609480"/>
            <a:ext cx="4268880" cy="2614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24280" y="3710160"/>
            <a:ext cx="4268880" cy="2614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268880" cy="261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8D07-54AB-4EAC-BD1A-35A5F5647D4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268880" cy="261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268880" cy="2614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 on (color) F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32F6-D918-4A9B-A990-0A615EE2141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25AB-EC65-4C2B-BD37-47BB079D64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Convert dicom to nifti (creates dwi.n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Eddy current and motion correction using FSLs eddy_correc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 dwi-ec.nii. Can take 1-2 hou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TI GLM Fit and tensor construction. Includes creation o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sor.nii -- maps of the tensor (9 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vals.nii -- maps of the eigen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vec?.nii -- maps of the eigenv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c.nii -- apparent diffusion coe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.nii -- fractional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.nii -- relative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r.nii -- volume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c.nii -- intervoxel 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b.nii -- Low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vals.dat -- b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vecs.dat -- 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creates glm-related 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a.nii - regression 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es.nii - residual error (log of 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var.nii - residual variance (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td.nii - residual stddev (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ires.nii - residual error (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irvar.nii - residual variance (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gistration of lowb to same-subject anatomical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SLs flirt (creates mask.nii and register.d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Map FA to talairach space (creates fa-tal.n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us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_recon --i 6-1025.dcm --s M87102113 --o d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71B9-CAD1-4A68-98D0-379A9DA08B4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dt_re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heck 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register2 --mov dti/lowb.nii --reg dti/register.dat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urf orig --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iew FA on the subject's an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medit  M87102113 orig.mgz -overlay dti/fa.nii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overlay-reg dti/register.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iew FA on fs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medit fsaverage orig.mgz -overlay dti/fa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roup/Higher level GLM analy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oncatenate fa from individuals into on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 Make sure the order agrees with the fsgd 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concat */fa-tal.nii --o group-fa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reate a mas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concat */mask-tal.nii --o group-masksum-tal.nii --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binarize --i group-masksum-tal.nii --min .999 --o group-mask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LM 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glmfit --y group-fa-tal.nii --mask group-mask-tal.nii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fsgd your.fsgd --C contrast --glm groupana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6FC3-F554-4A77-82BE-24E1ACCC9C9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_re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i inv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s subjec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o output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t_recon --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t_recon --i 6-1025.dcm --s M111 --o d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7B2A-014D-4556-927B-212F09C145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cess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Eddy current and motion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S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ddy_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Tensor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or.nii, eigvals.nii. eigvec?.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scalar maps: adc, fa, ra, vr, i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Registration to anatomic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S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i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ow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#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lairach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68A7-C222-4370-A7C3-E1A5563CBF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guments (Optio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 bvals bv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-dump infodump.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fo dump created by unpacksdcmdir or dcmun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cref 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P as 0-based reference time points for 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ff eddy/motion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r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register to subject or resample to talair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resample FA to talairch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d subjects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subjects dir (default env SUBJECTS_D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res-s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resdidual error (dwires and 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PCA/SVD analysis on eres (saves in pca-eres d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rune_thr t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reshold for masking (default is FLT_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deb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lots of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version of this scrip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inous bit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4639-167B-4132-A056-A8A2C71EC4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ffus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9120" y="6095880"/>
            <a:ext cx="61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ubs.niaaa.nih.gov/publications/arh27-2/146-15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040" y="2438280"/>
            <a:ext cx="857412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7EC1-C519-4BD6-8275-2744DA05B43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calar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: fractional anisotrop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ber density, axonal diameter, myelination in W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: relative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: volum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C: inter-voxel correl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usion orientation agreement in neighb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: apparent diffusion coeffici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 of diffusion; low valu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rganized tr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: radial diffu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: axial diffu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486400" y="1854360"/>
                <a:ext cx="2413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3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rad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324480" y="5099040"/>
                <a:ext cx="297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4618080"/>
                <a:ext cx="1257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638680" y="4084560"/>
                <a:ext cx="2079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43600" y="2514600"/>
                <a:ext cx="1325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rad>
                    <m:r>
                      <m:t xml:space="preserve">/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43600" y="2994120"/>
                <a:ext cx="1349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F12D-E65A-4182-8BC4-634D61101C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89240" y="1114560"/>
            <a:ext cx="5054760" cy="28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114560"/>
            <a:ext cx="5054760" cy="28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031840" y="3962520"/>
            <a:ext cx="5054760" cy="28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0239-4AD5-4C9F-88C1-35DF1DA50B6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28960" y="3962520"/>
            <a:ext cx="5027400" cy="28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114800" y="1114560"/>
            <a:ext cx="5027760" cy="284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1114560"/>
            <a:ext cx="5027760" cy="28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4776-329D-4A97-A66B-5F8022DCE8C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14800" y="1114560"/>
            <a:ext cx="5027760" cy="284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028960" y="3962520"/>
            <a:ext cx="5027400" cy="284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40" y="1114560"/>
            <a:ext cx="5027760" cy="2844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6BDE-1486-45D4-A4D0-8D259EE3213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54:58Z</dcterms:created>
  <dc:creator>Lilla Zollei</dc:creator>
  <dc:description/>
  <dc:language>en-US</dc:language>
  <cp:lastModifiedBy>Lilla Zollei</cp:lastModifiedBy>
  <dcterms:modified xsi:type="dcterms:W3CDTF">2010-02-01T06:26:17Z</dcterms:modified>
  <cp:revision>47</cp:revision>
  <dc:subject/>
  <dc:title>Slide 1</dc:title>
</cp:coreProperties>
</file>