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3880" y="695160"/>
            <a:ext cx="5214960" cy="34768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893880" y="695160"/>
            <a:ext cx="5214960" cy="34768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19B5-087A-415E-9A56-5742BF9A1909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9920" y="1752480"/>
            <a:ext cx="92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7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7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18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19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1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2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2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2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3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240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261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269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285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286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307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319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320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335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343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357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359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365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8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369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373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374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380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385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388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396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402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410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421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425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429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433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483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484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516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534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538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542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566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587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591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595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599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605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607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617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619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623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632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645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657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669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697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52720" y="91440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520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741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743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00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5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819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820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821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28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861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863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883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6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899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902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905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33840" y="304920"/>
            <a:ext cx="77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esubject Registration (Affin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266760" y="1066680"/>
            <a:ext cx="670572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,  R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12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16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0520" y="941400"/>
            <a:ext cx="2743200" cy="1582560"/>
            <a:chOff x="290520" y="941400"/>
            <a:chExt cx="2743200" cy="15825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90520" y="941400"/>
              <a:ext cx="274320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06440" y="204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p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609000" y="844560"/>
            <a:ext cx="3201480" cy="1905120"/>
            <a:chOff x="3609000" y="844560"/>
            <a:chExt cx="3201480" cy="190512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3686400" y="844560"/>
              <a:ext cx="31240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609000" y="210204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inflat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578720" y="1219320"/>
            <a:ext cx="1687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286680" y="402912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6080" y="3200400"/>
            <a:ext cx="46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19280" y="3581280"/>
            <a:ext cx="3047760" cy="3048120"/>
            <a:chOff x="719280" y="3581280"/>
            <a:chExt cx="3047760" cy="3048120"/>
          </a:xfrm>
        </p:grpSpPr>
        <p:sp>
          <p:nvSpPr>
            <p:cNvPr id="144" name=""/>
            <p:cNvSpPr/>
            <p:nvPr/>
          </p:nvSpPr>
          <p:spPr>
            <a:xfrm>
              <a:off x="2281320" y="358128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9280" y="511668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49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56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53360" y="5796000"/>
            <a:ext cx="1143000" cy="106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Lilla Zollei</cp:lastModifiedBy>
  <dcterms:modified xsi:type="dcterms:W3CDTF">2009-02-18T15:25:12Z</dcterms:modified>
  <cp:revision>918</cp:revision>
  <dc:subject/>
  <dc:title>Understanding Differential Responses in fMRI Through Linear Simulation</dc:title>
</cp:coreProperties>
</file>