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7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24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F725FC-97F0-49AF-B5C9-BA5513354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9DF973-9B6F-45E1-8A50-03EEB336A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E1D5BC-A779-4B4C-BE26-47EF7EF85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DBDC2C-6BC2-462B-93F6-A9231296B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ampling puts ces into voxel-for-voxel registration with aseg.m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738AB4-E285-46BE-837A-9F7D648AE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E4B82D-B9DB-4A0F-AC8E-CA1B578E4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1E75BA-827F-4F47-A16B-6EFE61A59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266-50D4-4B76-9EA8-904D2B2D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48D-A309-4394-A44B-AF738D86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6E4-FCF5-48C4-A56E-586F11FA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D49-CB55-4F9A-8E8C-762C8876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245A2-6F31-416C-9C4F-F073A935A3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10E9F-059E-4507-AEA5-1971C5F4E1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3A37F-A250-4040-B711-73BC97F73B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D24CE-9D7D-44B4-A004-B457A90CF6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83CC4-4998-4D75-9B30-63B4469316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0B505-7E65-4E57-BC08-F8458CE1D1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DC8D4-5183-4857-9CE4-4DEB5AD2EA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198-F975-46AF-ACFC-0BED14FE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9FEA9-D6BD-4643-9869-7296D8D169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FE0D9-CCA2-4AF3-B992-C2EC9323EC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1B121-D98D-4002-8CE1-098451EB56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48EC3-2B72-41F0-923E-B5B7124725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379FB-A5A0-4D65-BF38-ECAA4330E3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71F-7DFA-437E-B59A-3E197BC2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CCF-516D-4957-9139-CC972582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86D-B4A4-4B3F-93F7-73F4D172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409-B364-4E53-9534-313D66A2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CB5-A6E0-467A-8FD4-98214DBC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298-C1FC-417A-AD3C-1832D06F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6BA-D7D3-4EA8-8FEA-4DE18F33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62904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E72B-6C98-4EE0-B995-7E88E7E2627B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86D7-F570-4AD3-8C2B-2AF4A61180D1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ultimodal Integration</a:t>
            </a:r>
            <a:br>
              <a:rPr sz="44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urfer.nmr.mgh.harvard.edu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2798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tomatic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bbregister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–subject bert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–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mov mmtemplate.nii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-bold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-init-fsl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–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reg register.da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228680"/>
            <a:ext cx="430524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Command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FreeSurfer subject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Multimodal template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Multimodal contr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Initialize with FSL-FLI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Output registration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505320"/>
            <a:ext cx="769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B = Boundary-based, about 5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ers template to conformed anatomical of given subject (b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ration is initialized with FSL-FL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6 D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itialization also with --init-spm and --init-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bout 5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EF783-914C-42E0-AB1F-BD42E6971A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tkregister2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–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mov mmtemplate.nii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–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reg register.dat \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1800" spc="-1" strike="noStrike">
                <a:solidFill>
                  <a:srgbClr val="fafd00"/>
                </a:solidFill>
                <a:latin typeface="Lucida Sans Typewriter"/>
              </a:rPr>
              <a:t>--surf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1560" y="1228680"/>
            <a:ext cx="4267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Command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Multimodal template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registration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Lucida Sans Typewriter"/>
              </a:rPr>
              <a:t>Display white su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505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ote similarity to bbregister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 not needed (alread in register.dat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5CB9B-0608-4B68-AE28-41D4D8464E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55840" y="2676600"/>
            <a:ext cx="4462200" cy="3467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738840" y="11430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738840" y="350532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10440" y="990720"/>
            <a:ext cx="465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isually inspect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nually edit registration (6 D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f Manual Talairach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een line is whit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31F85-C6BC-43BF-8C06-E549BEAB4C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igid = 6 DOF = No stretc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CSF to get a sense of where the folds a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B0 distortion reg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ventric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arning about “edge” of the bra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e Subject, Left-Right Flip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35800" y="4038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535800" y="1752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65320" y="41911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30560" y="4191120"/>
            <a:ext cx="1957320" cy="2287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994360" y="2057400"/>
            <a:ext cx="812880" cy="38088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94360" y="2057400"/>
            <a:ext cx="1015920" cy="27432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361FE-5F40-4FC5-A947-4C634328D6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33720" y="1066680"/>
            <a:ext cx="51051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utomatic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bbregister --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slregister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pmregister –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-feat2anat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anual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kregister2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ransformation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surf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labe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surf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mand-lin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1295280"/>
            <a:ext cx="64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afd00"/>
                </a:solidFill>
                <a:latin typeface="Times New Roman"/>
              </a:rPr>
              <a:t>}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20280" y="2209680"/>
            <a:ext cx="259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reeSurfer Scri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371600"/>
            <a:ext cx="86868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isualize individual fMRI results 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Volume Study: Count number of voxels above threshold in an anatomical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Intensity Study: Average HRF inside of an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-based fMRI group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6D33B-6548-4547-89DD-6DED5FDC94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72960" y="1143000"/>
            <a:ext cx="8255160" cy="5305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modynamic Response (BOLD)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84960" y="463392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384960" y="417672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711840" y="416376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7339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 (~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30560" y="2055960"/>
            <a:ext cx="812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5440" y="158580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to-Peak (~6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551400" y="2576520"/>
            <a:ext cx="1614960" cy="2057400"/>
            <a:chOff x="3551400" y="2576520"/>
            <a:chExt cx="1614960" cy="2057400"/>
          </a:xfrm>
        </p:grpSpPr>
        <p:sp>
          <p:nvSpPr>
            <p:cNvPr id="217" name=""/>
            <p:cNvSpPr/>
            <p:nvPr/>
          </p:nvSpPr>
          <p:spPr>
            <a:xfrm>
              <a:off x="3551400" y="2576520"/>
              <a:ext cx="745200" cy="2057400"/>
            </a:xfrm>
            <a:custGeom>
              <a:avLst/>
              <a:gdLst/>
              <a:ahLst/>
              <a:rect l="l" t="t" r="r" b="b"/>
              <a:pathLst>
                <a:path w="528" h="1296">
                  <a:moveTo>
                    <a:pt x="0" y="0"/>
                  </a:moveTo>
                  <a:cubicBezTo>
                    <a:pt x="24" y="204"/>
                    <a:pt x="48" y="408"/>
                    <a:pt x="96" y="576"/>
                  </a:cubicBezTo>
                  <a:cubicBezTo>
                    <a:pt x="144" y="744"/>
                    <a:pt x="216" y="888"/>
                    <a:pt x="288" y="1008"/>
                  </a:cubicBezTo>
                  <a:cubicBezTo>
                    <a:pt x="360" y="1128"/>
                    <a:pt x="444" y="1212"/>
                    <a:pt x="528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0800" y="2971800"/>
              <a:ext cx="12855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e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90800" y="4659480"/>
            <a:ext cx="1372320" cy="761400"/>
            <a:chOff x="4690800" y="4659480"/>
            <a:chExt cx="1372320" cy="761400"/>
          </a:xfrm>
        </p:grpSpPr>
        <p:sp>
          <p:nvSpPr>
            <p:cNvPr id="220" name=""/>
            <p:cNvSpPr/>
            <p:nvPr/>
          </p:nvSpPr>
          <p:spPr>
            <a:xfrm>
              <a:off x="4690800" y="4659480"/>
              <a:ext cx="13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der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703760" y="5040000"/>
              <a:ext cx="40608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184520" y="3809880"/>
            <a:ext cx="1412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~16-3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7560" y="5397480"/>
            <a:ext cx="27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0120" y="541008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(~1-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416360" y="4495680"/>
            <a:ext cx="3380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364-22DA-4410-ACA3-A21D97D7AF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48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ltiple Presentations/Averaging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387600" cy="2176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84920" y="6039000"/>
            <a:ext cx="79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Output: HRF Amp, HRF Var, p/z/t/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1280" cy="2741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185840" y="3886200"/>
            <a:ext cx="3387600" cy="21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E84-8BA9-4F09-A1ED-5F712536CD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Preprocessing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990720"/>
            <a:ext cx="7924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otion Correction (MC Templat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Use for registration temp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Lucida Sans Typewriter"/>
              </a:rPr>
              <a:t>bbregister --mov mctemplate.nii --s subject --init-fsl --reg register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afd00"/>
                </a:solidFill>
                <a:latin typeface="Lucida Sans Typewriter"/>
              </a:rPr>
              <a:t>tkregister2 --mov mctemplate.nii --reg register.dat --su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use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nonlinear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ampling to talairach/MNI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spatially smooth (3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5E4A7-6BC1-4ECE-842F-7BF093731C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Analysis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219320"/>
            <a:ext cx="79246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irst-Level (Individual)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RF Amplitude (or Contrast of Amplitud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pe (FSL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N (SPM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es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iance of Amplitu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cope (FSL), ??? (SPM), cesvar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ctivation/Significance Ma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 (-log10(p)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ll in alignment with MC Template!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32961-ED51-4D49-A148-89846344FF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990720"/>
            <a:ext cx="79250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ffine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, Automatic and Man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Analysis Int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iewing on Volume and Su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Inte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Analysis Int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isual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with WM Parcel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C66-D01C-4C4C-A99A-42A9019FC0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mplate and Ma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08280" y="838080"/>
            <a:ext cx="7251480" cy="5129280"/>
            <a:chOff x="1808280" y="838080"/>
            <a:chExt cx="7251480" cy="5129280"/>
          </a:xfrm>
        </p:grpSpPr>
        <p:grpSp>
          <p:nvGrpSpPr>
            <p:cNvPr id="237" name=""/>
            <p:cNvGrpSpPr/>
            <p:nvPr/>
          </p:nvGrpSpPr>
          <p:grpSpPr>
            <a:xfrm>
              <a:off x="1808280" y="838080"/>
              <a:ext cx="7250040" cy="2665440"/>
              <a:chOff x="1808280" y="838080"/>
              <a:chExt cx="7250040" cy="26654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4770" t="21294" r="14770" b="21294"/>
              <a:stretch/>
            </p:blipFill>
            <p:spPr>
              <a:xfrm>
                <a:off x="180828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14770" t="8872" r="14770" b="14196"/>
              <a:stretch/>
            </p:blipFill>
            <p:spPr>
              <a:xfrm>
                <a:off x="6711840" y="838080"/>
                <a:ext cx="234648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3"/>
              <a:srcRect l="14770" t="21294" r="14770" b="21294"/>
              <a:stretch/>
            </p:blipFill>
            <p:spPr>
              <a:xfrm>
                <a:off x="421344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1808280" y="3301920"/>
              <a:ext cx="7251480" cy="2665440"/>
              <a:chOff x="1808280" y="3301920"/>
              <a:chExt cx="7251480" cy="2665440"/>
            </a:xfrm>
          </p:grpSpPr>
          <p:pic>
            <p:nvPicPr>
              <p:cNvPr id="242" name="" descr=""/>
              <p:cNvPicPr/>
              <p:nvPr/>
            </p:nvPicPr>
            <p:blipFill>
              <a:blip r:embed="rId4"/>
              <a:srcRect l="14770" t="21294" r="14770" b="21294"/>
              <a:stretch/>
            </p:blipFill>
            <p:spPr>
              <a:xfrm>
                <a:off x="421344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5"/>
              <a:srcRect l="14770" t="8872" r="14770" b="14196"/>
              <a:stretch/>
            </p:blipFill>
            <p:spPr>
              <a:xfrm>
                <a:off x="6713640" y="3301920"/>
                <a:ext cx="234612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6"/>
              <a:srcRect l="14770" t="21294" r="14770" b="21294"/>
              <a:stretch/>
            </p:blipFill>
            <p:spPr>
              <a:xfrm>
                <a:off x="180828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5" name=""/>
          <p:cNvSpPr/>
          <p:nvPr/>
        </p:nvSpPr>
        <p:spPr>
          <a:xfrm>
            <a:off x="456840" y="198108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5760" y="4343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3C6F2-C762-4210-AE00-1FF88D50B6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371600"/>
            <a:ext cx="8305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tkmedit subject orig.mgz –aux brain.mgz –aparc+aseg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overlay sig.nii –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fthresh 2 –fma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Lucida Sans Typewriter"/>
              </a:rPr>
              <a:t>sig.nii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–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gnificance map in native functional space. could have been z, t, or F map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Lucida Sans Typewriter"/>
              </a:rPr>
              <a:t>register.dat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–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registratio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Lucida Sans Typewriter"/>
              </a:rPr>
              <a:t>fthresh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–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wer threshold (value depends on map). You can change this in the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Lucida Sans Typewriter"/>
              </a:rPr>
              <a:t>fmax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–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 threshold. (value depends on map). You can change this in the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aparc+aseg –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splay aparc+aseg.mgz. Can load this from the interface t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37D90-8E16-4B44-BD0E-8C011B91F9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819520" y="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6600" y="609480"/>
            <a:ext cx="5846760" cy="5915160"/>
            <a:chOff x="66600" y="609480"/>
            <a:chExt cx="5846760" cy="59151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rcRect l="13846" t="8872" r="13846" b="17745"/>
            <a:stretch/>
          </p:blipFill>
          <p:spPr>
            <a:xfrm>
              <a:off x="66600" y="609480"/>
              <a:ext cx="300384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rcRect l="13846" t="8872" r="13846" b="17745"/>
            <a:stretch/>
          </p:blipFill>
          <p:spPr>
            <a:xfrm>
              <a:off x="2909880" y="6094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rcRect l="13846" t="8872" r="13846" b="17745"/>
            <a:stretch/>
          </p:blipFill>
          <p:spPr>
            <a:xfrm>
              <a:off x="2909880" y="33526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rcRect l="13846" t="8872" r="13846" b="17745"/>
            <a:stretch/>
          </p:blipFill>
          <p:spPr>
            <a:xfrm>
              <a:off x="66600" y="3352680"/>
              <a:ext cx="3003840" cy="31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6095880" y="14479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8000"/>
          </a:bodyPr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d/Yellow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ue/Cyan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g O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to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038480" y="685800"/>
            <a:ext cx="4332240" cy="4495680"/>
            <a:chOff x="4038480" y="685800"/>
            <a:chExt cx="4332240" cy="44956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4038480" y="685800"/>
              <a:ext cx="433224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flipV="1">
              <a:off x="6705720" y="1904760"/>
              <a:ext cx="22860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9800" y="160020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5400" y="1600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0080" y="1904760"/>
              <a:ext cx="91440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480" y="685800"/>
            <a:ext cx="2590920" cy="2590920"/>
            <a:chOff x="609480" y="685800"/>
            <a:chExt cx="2590920" cy="259092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rcRect l="16671" t="18981" r="4545" b="5111"/>
            <a:stretch/>
          </p:blipFill>
          <p:spPr>
            <a:xfrm>
              <a:off x="609480" y="685800"/>
              <a:ext cx="25909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295280" y="1447920"/>
              <a:ext cx="685800" cy="609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5800" y="3581280"/>
            <a:ext cx="2789280" cy="2895840"/>
            <a:chOff x="685800" y="3581280"/>
            <a:chExt cx="2789280" cy="289584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685800" y="3581280"/>
              <a:ext cx="27892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600200" y="4648320"/>
              <a:ext cx="838080" cy="76176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657600" y="5334120"/>
            <a:ext cx="4724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White/G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Half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5334120"/>
            <a:ext cx="281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rojection F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-projfrac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16671" t="18981" r="4545" b="5111"/>
          <a:stretch/>
        </p:blipFill>
        <p:spPr>
          <a:xfrm>
            <a:off x="1066680" y="9907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752480" y="17524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rcRect l="20045" t="13876" r="2626" b="33415"/>
          <a:stretch/>
        </p:blipFill>
        <p:spPr>
          <a:xfrm>
            <a:off x="4114800" y="914400"/>
            <a:ext cx="4038480" cy="2843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rcRect l="2865" t="16651" r="2626" b="19539"/>
          <a:stretch/>
        </p:blipFill>
        <p:spPr>
          <a:xfrm>
            <a:off x="4419720" y="3657600"/>
            <a:ext cx="4114800" cy="286848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1295280" y="3809880"/>
            <a:ext cx="2362320" cy="2590920"/>
            <a:chOff x="1295280" y="3809880"/>
            <a:chExt cx="2362320" cy="2590920"/>
          </a:xfrm>
        </p:grpSpPr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1295280" y="3809880"/>
              <a:ext cx="23623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069640" y="4764240"/>
              <a:ext cx="709560" cy="681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410080" y="19810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4876920"/>
            <a:ext cx="914400" cy="8380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2960" y="-13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52280" y="1646280"/>
            <a:ext cx="9460080" cy="1923480"/>
            <a:chOff x="152280" y="1646280"/>
            <a:chExt cx="9460080" cy="1923480"/>
          </a:xfrm>
        </p:grpSpPr>
        <p:sp>
          <p:nvSpPr>
            <p:cNvPr id="283" name=""/>
            <p:cNvSpPr/>
            <p:nvPr/>
          </p:nvSpPr>
          <p:spPr>
            <a:xfrm>
              <a:off x="15228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mri_vol2surf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--mov sig.nii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--reg register.dat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--hemi lh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--projfrac 0.5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Lucida Sans Typewriter"/>
                </a:rPr>
                <a:t>--o lh.sig.m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9244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map in native functional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freesurfer registration 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hemisp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projection fraction (hal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Lucida Sans Typewriter"/>
                </a:rPr>
                <a:t>output (Nvertices-x-1 mgh forma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28600" y="533412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tksurfer subject lh inflated -apar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–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overlay lh.sig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20" y="1219320"/>
            <a:ext cx="69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ficance to left hemi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5000" y="48769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Load HRF Contrast Significance as over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1480" y="3809880"/>
            <a:ext cx="70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 and tkregister2 command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A09E7-5282-4DED-BB95-CCC5B96D2C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1579" t="23657" r="1579" b="19679"/>
          <a:stretch/>
        </p:blipFill>
        <p:spPr>
          <a:xfrm>
            <a:off x="1143000" y="1274760"/>
            <a:ext cx="33973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4952880" y="1219320"/>
            <a:ext cx="3397320" cy="5410080"/>
            <a:chOff x="4952880" y="1219320"/>
            <a:chExt cx="3397320" cy="541008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rcRect l="1579" t="23657" r="1579" b="19679"/>
            <a:stretch/>
          </p:blipFill>
          <p:spPr>
            <a:xfrm>
              <a:off x="4952880" y="3200400"/>
              <a:ext cx="33973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3"/>
            <a:srcRect l="1579" t="32051" r="1579" b="30171"/>
            <a:stretch/>
          </p:blipFill>
          <p:spPr>
            <a:xfrm>
              <a:off x="4952880" y="5257800"/>
              <a:ext cx="3397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4"/>
            <a:srcRect l="1579" t="23657" r="1579" b="21776"/>
            <a:stretch/>
          </p:blipFill>
          <p:spPr>
            <a:xfrm>
              <a:off x="4952880" y="1219320"/>
              <a:ext cx="339732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4" name="" descr=""/>
          <p:cNvPicPr/>
          <p:nvPr/>
        </p:nvPicPr>
        <p:blipFill>
          <a:blip r:embed="rId5"/>
          <a:srcRect l="10269" t="19463" r="22397" b="36468"/>
          <a:stretch/>
        </p:blipFill>
        <p:spPr>
          <a:xfrm>
            <a:off x="1447920" y="327672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4952880"/>
            <a:ext cx="426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d/Yellow +,Blue/Cyan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arcellation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057400" y="914400"/>
            <a:ext cx="617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ROI fMRI Analy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ten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 Anatomical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ly Constrained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1371600"/>
            <a:ext cx="5638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vol2vol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mov ces.nii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nterp nearest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fstarg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ces.anat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6440" y="4343400"/>
            <a:ext cx="83059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aseg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ces.anat.mgh --sum ces.aseg.s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16200" y="1395360"/>
            <a:ext cx="5375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Comman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HRF map in functional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FreeSurfer Registratio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Nearest neighbor inter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Specify anatomical output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Output file in anatomical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9320" y="38098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, tkregister2, and mri_vol2surf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325A6-670E-48CB-A089-CECA440E84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295280"/>
            <a:ext cx="83059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aseg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ces.anat.mgh --sum ces.aseg.s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seg is the segmentation (eg, aseg.mgz, aparc+aseg.mgz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ctab is matching color lookup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4724280"/>
            <a:ext cx="830556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utput File: ces.aseg.st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mple text file with same format aseg.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ultiple subjects can be combined with asegstats2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D2875-2ABC-4487-AADB-2759A92A06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3320" y="2273400"/>
            <a:ext cx="3680280" cy="2909520"/>
            <a:chOff x="283320" y="2273400"/>
            <a:chExt cx="3680280" cy="2909520"/>
          </a:xfrm>
        </p:grpSpPr>
        <p:sp>
          <p:nvSpPr>
            <p:cNvPr id="93" name=""/>
            <p:cNvSpPr/>
            <p:nvPr/>
          </p:nvSpPr>
          <p:spPr>
            <a:xfrm rot="21573600">
              <a:off x="677160" y="2666520"/>
              <a:ext cx="327672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056800">
              <a:off x="380520" y="2944440"/>
              <a:ext cx="3371760" cy="121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68440" y="2413800"/>
              <a:ext cx="3028680" cy="2765160"/>
              <a:chOff x="568440" y="2413800"/>
              <a:chExt cx="3028680" cy="2765160"/>
            </a:xfrm>
          </p:grpSpPr>
          <p:sp>
            <p:nvSpPr>
              <p:cNvPr id="96" name=""/>
              <p:cNvSpPr/>
              <p:nvPr/>
            </p:nvSpPr>
            <p:spPr>
              <a:xfrm rot="19354800">
                <a:off x="2930760" y="279684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9354800">
                <a:off x="760320" y="304272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9354800">
                <a:off x="1847880" y="314316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495880" y="368604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5029200" y="4986360"/>
            <a:ext cx="3379320" cy="2023200"/>
            <a:chOff x="5029200" y="4986360"/>
            <a:chExt cx="3379320" cy="2023200"/>
          </a:xfrm>
        </p:grpSpPr>
        <p:sp>
          <p:nvSpPr>
            <p:cNvPr id="101" name=""/>
            <p:cNvSpPr/>
            <p:nvPr/>
          </p:nvSpPr>
          <p:spPr>
            <a:xfrm>
              <a:off x="5036760" y="5153040"/>
              <a:ext cx="3371760" cy="121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193000" y="4986360"/>
              <a:ext cx="3128400" cy="2023200"/>
              <a:chOff x="5193000" y="4986360"/>
              <a:chExt cx="3128400" cy="2023200"/>
            </a:xfrm>
          </p:grpSpPr>
          <p:sp>
            <p:nvSpPr>
              <p:cNvPr id="103" name=""/>
              <p:cNvSpPr/>
              <p:nvPr/>
            </p:nvSpPr>
            <p:spPr>
              <a:xfrm rot="20859000">
                <a:off x="7701480" y="55630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859000">
                <a:off x="5324040" y="5244480"/>
                <a:ext cx="258084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859000">
                <a:off x="6626880" y="5430240"/>
                <a:ext cx="57420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01280" y="6221880"/>
                <a:ext cx="612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029200" y="6369120"/>
              <a:ext cx="337176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919760" y="1316880"/>
            <a:ext cx="3395160" cy="2769120"/>
            <a:chOff x="4919760" y="1316880"/>
            <a:chExt cx="3395160" cy="2769120"/>
          </a:xfrm>
        </p:grpSpPr>
        <p:sp>
          <p:nvSpPr>
            <p:cNvPr id="109" name=""/>
            <p:cNvSpPr/>
            <p:nvPr/>
          </p:nvSpPr>
          <p:spPr>
            <a:xfrm rot="21573600">
              <a:off x="5028840" y="1569600"/>
              <a:ext cx="3276360" cy="2503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919760" y="1316880"/>
              <a:ext cx="3028680" cy="2765160"/>
              <a:chOff x="4919760" y="1316880"/>
              <a:chExt cx="3028680" cy="2765160"/>
            </a:xfrm>
          </p:grpSpPr>
          <p:sp>
            <p:nvSpPr>
              <p:cNvPr id="111" name=""/>
              <p:cNvSpPr/>
              <p:nvPr/>
            </p:nvSpPr>
            <p:spPr>
              <a:xfrm rot="19354800">
                <a:off x="7282080" y="16999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354800">
                <a:off x="5111640" y="19458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354800">
                <a:off x="6199200" y="20462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847200" y="25891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5257800" y="73188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(1x1x1.1mm, 256x256x128, S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0020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canner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441972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unctional (3x3x5mm, 64x64x30, Ax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F8D-71DA-4ED0-B75E-656186FFBE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6440" y="4341960"/>
            <a:ext cx="8763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functionally constrained ROI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aseg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ces.anat.mgh --sum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ces.aseg.mask.stats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--mask sig.anat.mgh --mask-thresh 2 --mask-sign 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1371600"/>
            <a:ext cx="7772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ificance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vol2vol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mov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sig.nii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nterp nearest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fstarg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sig.anat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925E9-A50F-483B-BC1F-9C3A9DD0F2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1295280"/>
            <a:ext cx="8763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functionally constrained ROI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aseg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ces.anat.mgh --sum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ces.aseg.mask.stats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10de1"/>
                </a:solidFill>
                <a:latin typeface="Lucida Sans Typewriter"/>
              </a:rPr>
              <a:t>--mask sig.anat.mgh --mask-thresh 2 --mask-sign 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3276720"/>
            <a:ext cx="85341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in stats file is volume above threshold (may be 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n is important for Average!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bs, pos, or ne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pos will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ult in positive HRF a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eg will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result in negative HRF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bs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reful to avoid circula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n use a different contrast to ma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C00A2-8C4F-4A1D-96ED-6DA280D4B5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1371600"/>
            <a:ext cx="8305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s_prepro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hemi lh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lh.fsaverage.ces.mgh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v subject1/ces.nii subject1func/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v subject2/ces.nii subject2func/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v subject3/ces.nii subject3func/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fter that, everything else is the same as a thickness study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s_fwhm --i lh.fsaverage.ces.mgh --fwhm 10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lh.fsaverage.ces.sm10.mgh --corte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glmfit --surf fsaverage lh –cortex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y lh.fsaverage.ces.sm10.mgh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C0787-8A18-4B9D-8C9C-C8B1B8BFA6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TI Integ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3716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iew FA, etc, on subject’s anatomical volum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Intensity ROI Study: Average FA, etc,  inside of White Matter Parcellation ROIs (wmparc.mgz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453C0-771A-42E8-A425-CD495CBB5B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TI Analysis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143000"/>
            <a:ext cx="90676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otion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Eddy Current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Correction (MC Template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ually a low-b volum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e for registration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afd00"/>
                </a:solidFill>
                <a:latin typeface="Lucida Sans Typewriter"/>
              </a:rPr>
              <a:t>bbregister --mov mctemplate.nii --s subject --init-fsl --reg register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afd00"/>
                </a:solidFill>
                <a:latin typeface="Lucida Sans Typewriter"/>
              </a:rPr>
              <a:t>tkregister2 --mov mctemplate.nii --reg register.dat --su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irst-Level (Individual)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it Tensor 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aps: FA (0-1), ADC, Eigenvectors, et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All in alignment with MC Template!!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CE240-EC81-4AE1-84DF-E00516CD49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1371600"/>
            <a:ext cx="83059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A as an overlay on volu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tkmedit subject orig.mgz –aux brain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–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wmapar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overlay fa.nii –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fthresh .1 –fmax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3352680"/>
            <a:ext cx="8305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ADC as an overlay on volu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tkmedit subject orig.mgz –aux brain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–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wmapar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overlay adc.nii –reg register.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DF9B9-3524-4917-A82D-AB022636BA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FA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1371600"/>
            <a:ext cx="5638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vol2vol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mov fa.nii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nterp nearest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fstarg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fa.anat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6440" y="4343400"/>
            <a:ext cx="83059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wmparc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fa.anat.mgh --sum fa.aseg.s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16200" y="1395360"/>
            <a:ext cx="5375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Comman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FA map in DTI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FreeSurfer Registratio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Nearest neighbor inter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Specify anatomical output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Output file in anatomical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320" y="38098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, tkregister2, and mri_vol2surf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C4679-65F7-452D-9313-56839C1D6D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990720"/>
            <a:ext cx="85341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/Crossmodal map (HRF Amplitude, F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modal Integration requires a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A Template i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ame size as multimodal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In Voxel-to-voxel alignment with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Has better anatomical contr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Baseline funct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Low-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ually a MC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 and Intensity ROI Analy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unctionally-constrained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CE7AF-89BD-42FA-940A-7550C59348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143000"/>
            <a:ext cx="85345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 – manual and automatic 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 (Sensorimotor Paradig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Individ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with and without functional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(asegstats2tab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Individual Analys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D32B4-9624-449B-BBFE-9E5605DC35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71440" y="1880640"/>
            <a:ext cx="3395160" cy="2769120"/>
            <a:chOff x="271440" y="1880640"/>
            <a:chExt cx="3395160" cy="2769120"/>
          </a:xfrm>
        </p:grpSpPr>
        <p:sp>
          <p:nvSpPr>
            <p:cNvPr id="120" name=""/>
            <p:cNvSpPr/>
            <p:nvPr/>
          </p:nvSpPr>
          <p:spPr>
            <a:xfrm rot="21573600">
              <a:off x="380520" y="2133360"/>
              <a:ext cx="327636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71440" y="1880640"/>
              <a:ext cx="3028680" cy="2765160"/>
              <a:chOff x="271440" y="1880640"/>
              <a:chExt cx="3028680" cy="2765160"/>
            </a:xfrm>
          </p:grpSpPr>
          <p:sp>
            <p:nvSpPr>
              <p:cNvPr id="122" name=""/>
              <p:cNvSpPr/>
              <p:nvPr/>
            </p:nvSpPr>
            <p:spPr>
              <a:xfrm rot="19354800">
                <a:off x="2633760" y="22636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9354800">
                <a:off x="463320" y="250956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354800">
                <a:off x="1550880" y="261000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2198880" y="315288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304920" y="1295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Anatomical Space 1x1x1.1mm, 256x256x128, 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43800" y="1804320"/>
            <a:ext cx="3086640" cy="2765160"/>
            <a:chOff x="4843800" y="1804320"/>
            <a:chExt cx="3086640" cy="2765160"/>
          </a:xfrm>
        </p:grpSpPr>
        <p:sp>
          <p:nvSpPr>
            <p:cNvPr id="128" name=""/>
            <p:cNvSpPr/>
            <p:nvPr/>
          </p:nvSpPr>
          <p:spPr>
            <a:xfrm rot="21573600">
              <a:off x="5103720" y="205560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843800" y="1804320"/>
              <a:ext cx="3028680" cy="2765160"/>
              <a:chOff x="4843800" y="1804320"/>
              <a:chExt cx="3028680" cy="2765160"/>
            </a:xfrm>
          </p:grpSpPr>
          <p:sp>
            <p:nvSpPr>
              <p:cNvPr id="130" name=""/>
              <p:cNvSpPr/>
              <p:nvPr/>
            </p:nvSpPr>
            <p:spPr>
              <a:xfrm rot="19354800">
                <a:off x="7206120" y="218736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9354800">
                <a:off x="5035680" y="243324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9354800">
                <a:off x="6123240" y="253368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771240" y="307656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4876920" y="12193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8954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441972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orig.mg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arc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g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2CE-1073-4523-9851-420A58C2E3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81480" y="2532240"/>
            <a:ext cx="3380040" cy="2023560"/>
            <a:chOff x="5181480" y="2532240"/>
            <a:chExt cx="3380040" cy="2023560"/>
          </a:xfrm>
        </p:grpSpPr>
        <p:sp>
          <p:nvSpPr>
            <p:cNvPr id="139" name=""/>
            <p:cNvSpPr/>
            <p:nvPr/>
          </p:nvSpPr>
          <p:spPr>
            <a:xfrm>
              <a:off x="5189400" y="2698920"/>
              <a:ext cx="337212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346000" y="2532240"/>
              <a:ext cx="3128400" cy="2023560"/>
              <a:chOff x="5346000" y="2532240"/>
              <a:chExt cx="3128400" cy="2023560"/>
            </a:xfrm>
          </p:grpSpPr>
          <p:sp>
            <p:nvSpPr>
              <p:cNvPr id="141" name=""/>
              <p:cNvSpPr/>
              <p:nvPr/>
            </p:nvSpPr>
            <p:spPr>
              <a:xfrm rot="20859000">
                <a:off x="7854120" y="3109320"/>
                <a:ext cx="57312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859000">
                <a:off x="5477040" y="2790720"/>
                <a:ext cx="258120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859000">
                <a:off x="6779880" y="2976120"/>
                <a:ext cx="57456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4280" y="3767760"/>
                <a:ext cx="61308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181480" y="3915000"/>
              <a:ext cx="337212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81480" y="19051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Functional Space 3x3x5mm, 64x64x30,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676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7600" y="2110680"/>
            <a:ext cx="3086640" cy="2765160"/>
            <a:chOff x="417600" y="2110680"/>
            <a:chExt cx="3086640" cy="2765160"/>
          </a:xfrm>
        </p:grpSpPr>
        <p:sp>
          <p:nvSpPr>
            <p:cNvPr id="149" name=""/>
            <p:cNvSpPr/>
            <p:nvPr/>
          </p:nvSpPr>
          <p:spPr>
            <a:xfrm rot="21573600">
              <a:off x="677520" y="236196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17600" y="2110680"/>
              <a:ext cx="3028680" cy="2765160"/>
              <a:chOff x="417600" y="2110680"/>
              <a:chExt cx="3028680" cy="2765160"/>
            </a:xfrm>
          </p:grpSpPr>
          <p:sp>
            <p:nvSpPr>
              <p:cNvPr id="151" name=""/>
              <p:cNvSpPr/>
              <p:nvPr/>
            </p:nvSpPr>
            <p:spPr>
              <a:xfrm rot="19354800">
                <a:off x="2779920" y="24937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354800">
                <a:off x="609480" y="27396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9354800">
                <a:off x="1697040" y="28400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345040" y="33829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3733920" y="2895480"/>
            <a:ext cx="1066680" cy="838440"/>
          </a:xfrm>
          <a:prstGeom prst="leftRightArrow">
            <a:avLst>
              <a:gd name="adj1" fmla="val 50000"/>
              <a:gd name="adj2" fmla="val 253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724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C43-724C-480C-B0C1-D505D6442C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46000" y="1219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32400" y="12114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6000" y="3505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332400" y="350676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762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Anatomical (or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26840" y="7621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mplat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624120" y="1219320"/>
            <a:ext cx="1957680" cy="228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624120" y="3514680"/>
            <a:ext cx="1957680" cy="228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50760" y="5881680"/>
            <a:ext cx="793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Note: Registering the template functional volume to the anatomical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is sufficient to register the template to the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F33CC-4CB5-4175-B1CF-9D93BF547F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1000" y="6480"/>
            <a:ext cx="59544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447920"/>
            <a:ext cx="2844720" cy="264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-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1447920"/>
            <a:ext cx="3183120" cy="2466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M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1981080"/>
            <a:ext cx="2371680" cy="1067040"/>
          </a:xfrm>
          <a:prstGeom prst="leftRightArrow">
            <a:avLst>
              <a:gd name="adj1" fmla="val 50000"/>
              <a:gd name="adj2" fmla="val 44247"/>
            </a:avLst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3320" y="4572000"/>
            <a:ext cx="765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Template Volum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 voxel-for-voxel registration with paramete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est gray-white contra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797D2-65AB-4FCF-879D-E90D572628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1458C-7C39-4ECF-B9C2-BF31A1F2CB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4120" y="3657600"/>
            <a:ext cx="5257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reeSurfer subject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I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Betwee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Intensity (for visua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907B7-5871-454D-B28A-6AA079CC4A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0:15:13Z</dcterms:created>
  <dc:creator>Douglas Greve</dc:creator>
  <dc:description/>
  <dc:language>en-US</dc:language>
  <cp:lastModifiedBy>Lilla Zollei</cp:lastModifiedBy>
  <dcterms:modified xsi:type="dcterms:W3CDTF">2009-02-18T15:24:57Z</dcterms:modified>
  <cp:revision>836</cp:revision>
  <dc:subject/>
  <dc:title>Multimodal Integration in FreeSurfer</dc:title>
</cp:coreProperties>
</file>