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10288588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898200" y="701280"/>
            <a:ext cx="520380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like EEG/MEG where response is finished after a few hundred ms. How closely can trials/events be placed and still be able to differentiate their responses? This data is the average of 212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like EEG/MEG where response is finished after a few hundred ms. How closely can trials/events be placed and still be able to differentiate their responses? This data is the average of 212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how many data points you have, there is still only one slope and one interce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cked Design gives context for ER. RP-ER brings problem of schedu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like EEG/MEG where response is finished after a few hundred ms. How closely can trials/events be placed and still be able to differentiate their responses? This data is the average of 212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like EEG/MEG where response is finished after a few hundred ms. How closely can trials/events be placed and still be able to differentiate their responses? This data is the average of 212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like EEG/MEG where response is finished after a few hundred ms. How closely can trials/events be placed and still be able to differentiate their responses? This data is the average of 212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like EEG/MEG where response is finished after a few hundred ms. How closely can trials/events be placed and still be able to differentiate their responses? This data is the average of 212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like EEG/MEG where response is finished after a few hundred ms. How closely can trials/events be placed and still be able to differentiate their responses? This data is the average of 212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like EEG/MEG where response is finished after a few hundred ms. How closely can trials/events be placed and still be able to differentiate their responses? This data is the average of 212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like EEG/MEG where response is finished after a few hundred ms. How closely can trials/events be placed and still be able to differentiate their responses? This data is the average of 212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like EEG/MEG where response is finished after a few hundred ms. How closely can trials/events be placed and still be able to differentiate their responses? This data is the average of 212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like EEG/MEG where response is finished after a few hundred ms. How closely can trials/events be placed and still be able to differentiate their responses? This data is the average of 212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like EEG/MEG where response is finished after a few hundred ms. How closely can trials/events be placed and still be able to differentiate their responses? This data is the average of 212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cked Design gives context for ER. RP-ER brings problem of schedu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890640" y="696960"/>
            <a:ext cx="5219640" cy="34812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SUBJECTS_DIR, issue a command (mksubjdirs) to create directory structure. Convert (using mri_convert) data to COR format and store in mri/RRR, run recon-all. Typically, we acquire 3 high-quality T1 volumes to use as input to reconstruction (128-slice sagital, 1 mm in-plane resolu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890640" y="696960"/>
            <a:ext cx="5219640" cy="34812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SUBJECTS_DIR, issue a command (mksubjdirs) to create directory structure. Convert (using mri_convert) data to COR format and store in mri/RRR, run recon-all. Typically, we acquire 3 high-quality T1 volumes to use as input to reconstruction (128-slice sagital, 1 mm in-plane resolu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like EEG/MEG where response is finished after a few hundred ms. How closely can trials/events be placed and still be able to differentiate their responses? This data is the average of 212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cked Design gives context for ER. RP-ER brings problem of schedu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ldImg"/>
          </p:nvPr>
        </p:nvSpPr>
        <p:spPr>
          <a:xfrm>
            <a:off x="898560" y="701640"/>
            <a:ext cx="5203800" cy="346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381560" y="6461280"/>
            <a:ext cx="510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Surface-based Group Analysis                                                                          </a:t>
            </a:r>
            <a:fld id="{72E37C14-E3C9-47A6-8548-B09807C6B6A6}" type="slidenum"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95760" y="1523880"/>
            <a:ext cx="2739960" cy="3657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380520"/>
            <a:ext cx="9086760" cy="20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 FreeSurfer </a:t>
            </a:r>
            <a:br>
              <a:rPr sz="4000"/>
            </a:b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781360" y="5105520"/>
            <a:ext cx="4809960" cy="810720"/>
            <a:chOff x="2781360" y="5105520"/>
            <a:chExt cx="4809960" cy="81072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591000" y="5105520"/>
              <a:ext cx="4000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2781360" y="5114880"/>
              <a:ext cx="749160" cy="80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802080" y="6019920"/>
            <a:ext cx="861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urfer.nmr.mgh.harvard.edu/docs/ftp/pub/docs/freesurfer.groupanalysis.pdf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562040" y="114300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3080" y="1828800"/>
            <a:ext cx="9943920" cy="29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fsgd    FSGDFil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: Specify subjects thru FSGD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hemi  l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             : Process left 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meas thicknes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: $SUBJECTS_DIR/subjectid/surf/hemi.thickn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target fsaverag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: common space is subject fs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o lh.thickness.mg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: output “volume-encoded surface fil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Lots of other options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ssemble Data: mris_preproc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040" y="1057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d1414"/>
                </a:solidFill>
                <a:latin typeface="Times New Roman"/>
              </a:rPr>
              <a:t>mris_preproc --help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3280" y="5029200"/>
            <a:ext cx="7916760" cy="1068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h.thickness.mgh – file with thickness maps for all subjects 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Input to Smoother or GL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Smooth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04840" y="1371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mri_surf2surf --hel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oads lh.thickness.mgh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2D surface-based smoothing (eg, fwhm = 10 mm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aves lh.thickness.sm10.m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56040" y="3505320"/>
            <a:ext cx="536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Why should you smooth?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mprove CN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mprove inter-subject registra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ow much smoothing?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Blob-siz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ypically 10-20 mm FWHM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ore forgiving than volume-bas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eneral Linear Model (GLM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32920" y="1600200"/>
            <a:ext cx="3287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-tes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aired t-tes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-tes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OV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COV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NOV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NCOV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ultiple Regress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LM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80080" y="3581280"/>
            <a:ext cx="155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RF Amplitude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Q, Height, Weight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72680" y="5562720"/>
            <a:ext cx="23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dependent Va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42320" y="1143000"/>
            <a:ext cx="64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ckness correlated with Age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0080" y="2438280"/>
            <a:ext cx="156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end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riable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asure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010680" y="2362320"/>
            <a:ext cx="4265640" cy="2967840"/>
            <a:chOff x="3010680" y="2362320"/>
            <a:chExt cx="4265640" cy="2967840"/>
          </a:xfrm>
        </p:grpSpPr>
        <p:sp>
          <p:nvSpPr>
            <p:cNvPr id="205" name=""/>
            <p:cNvSpPr/>
            <p:nvPr/>
          </p:nvSpPr>
          <p:spPr>
            <a:xfrm>
              <a:off x="3863160" y="2362320"/>
              <a:ext cx="0" cy="256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84080" y="4656240"/>
              <a:ext cx="37922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31960" y="2912760"/>
              <a:ext cx="0" cy="198036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73800" y="4145760"/>
              <a:ext cx="2655000" cy="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73800" y="3187800"/>
              <a:ext cx="1042560" cy="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60000" y="3830400"/>
              <a:ext cx="0" cy="110088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48280" y="4931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76320" y="4931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10680" y="3922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10680" y="29127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37640" y="3096360"/>
              <a:ext cx="189360" cy="1832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64960" y="4053960"/>
              <a:ext cx="189360" cy="1832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279760" y="24526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ject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10000" y="31240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ject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686120" y="2743200"/>
            <a:ext cx="60948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905440" y="3505320"/>
            <a:ext cx="533520" cy="4572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14520" y="190512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ckn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54440" y="44197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119800" y="5486400"/>
            <a:ext cx="1384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course, you’d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more then two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jects …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inear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71320" y="1143000"/>
            <a:ext cx="4199400" cy="3218400"/>
            <a:chOff x="571320" y="1143000"/>
            <a:chExt cx="4199400" cy="3218400"/>
          </a:xfrm>
        </p:grpSpPr>
        <p:sp>
          <p:nvSpPr>
            <p:cNvPr id="226" name=""/>
            <p:cNvSpPr/>
            <p:nvPr/>
          </p:nvSpPr>
          <p:spPr>
            <a:xfrm>
              <a:off x="800280" y="1828800"/>
              <a:ext cx="297180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333800" y="1752480"/>
              <a:ext cx="167652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 rot="21465000">
              <a:off x="2095200" y="2742120"/>
              <a:ext cx="45720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29800" y="129528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Intercept: 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15960" y="2133720"/>
              <a:ext cx="14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Slope: 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1320" y="114300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78080" y="35053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572400" y="1828800"/>
              <a:ext cx="3428280" cy="2532600"/>
              <a:chOff x="572400" y="1828800"/>
              <a:chExt cx="3428280" cy="2532600"/>
            </a:xfrm>
          </p:grpSpPr>
          <p:sp>
            <p:nvSpPr>
              <p:cNvPr id="234" name=""/>
              <p:cNvSpPr/>
              <p:nvPr/>
            </p:nvSpPr>
            <p:spPr>
              <a:xfrm>
                <a:off x="1257480" y="1828800"/>
                <a:ext cx="0" cy="2133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952920" y="3733920"/>
                <a:ext cx="30477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714680" y="2286000"/>
                <a:ext cx="0" cy="164484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105200" y="3310200"/>
                <a:ext cx="213372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05200" y="2514600"/>
                <a:ext cx="83808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781720" y="3048120"/>
                <a:ext cx="0" cy="91440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486800" y="39625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553840" y="39625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72400" y="31244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72400" y="228600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638720" y="243864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705400" y="323388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 flipV="1">
              <a:off x="2629080" y="2590920"/>
              <a:ext cx="91440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414000" y="4495680"/>
            <a:ext cx="472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 of Linear Equati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2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753160" y="1828800"/>
            <a:ext cx="3048840" cy="963000"/>
            <a:chOff x="5753160" y="1828800"/>
            <a:chExt cx="3048840" cy="963000"/>
          </a:xfrm>
        </p:grpSpPr>
        <p:sp>
          <p:nvSpPr>
            <p:cNvPr id="249" name=""/>
            <p:cNvSpPr/>
            <p:nvPr/>
          </p:nvSpPr>
          <p:spPr>
            <a:xfrm>
              <a:off x="5830200" y="1844640"/>
              <a:ext cx="53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73560" y="1844640"/>
              <a:ext cx="892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5753160" y="1898640"/>
              <a:ext cx="74520" cy="838080"/>
              <a:chOff x="5753160" y="1898640"/>
              <a:chExt cx="74520" cy="838080"/>
            </a:xfrm>
          </p:grpSpPr>
          <p:sp>
            <p:nvSpPr>
              <p:cNvPr id="252" name=""/>
              <p:cNvSpPr/>
              <p:nvPr/>
            </p:nvSpPr>
            <p:spPr>
              <a:xfrm>
                <a:off x="5770080" y="18986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753160" y="27367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53160" y="1898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6972120" y="1898640"/>
              <a:ext cx="74520" cy="838080"/>
              <a:chOff x="6972120" y="1898640"/>
              <a:chExt cx="74520" cy="838080"/>
            </a:xfrm>
          </p:grpSpPr>
          <p:sp>
            <p:nvSpPr>
              <p:cNvPr id="256" name=""/>
              <p:cNvSpPr/>
              <p:nvPr/>
            </p:nvSpPr>
            <p:spPr>
              <a:xfrm>
                <a:off x="6989040" y="18986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972120" y="27367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72120" y="1898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8343720" y="1828800"/>
              <a:ext cx="458280" cy="947160"/>
              <a:chOff x="8343720" y="1828800"/>
              <a:chExt cx="458280" cy="947160"/>
            </a:xfrm>
          </p:grpSpPr>
          <p:sp>
            <p:nvSpPr>
              <p:cNvPr id="260" name=""/>
              <p:cNvSpPr/>
              <p:nvPr/>
            </p:nvSpPr>
            <p:spPr>
              <a:xfrm>
                <a:off x="8345520" y="182880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8343720" y="1882800"/>
                <a:ext cx="74520" cy="838080"/>
                <a:chOff x="8343720" y="1882800"/>
                <a:chExt cx="74520" cy="8380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8360640" y="18828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343720" y="27208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343720" y="18828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8724600" y="1882800"/>
                <a:ext cx="74520" cy="838080"/>
                <a:chOff x="8724600" y="1882800"/>
                <a:chExt cx="74520" cy="838080"/>
              </a:xfrm>
            </p:grpSpPr>
            <p:sp>
              <p:nvSpPr>
                <p:cNvPr id="266" name=""/>
                <p:cNvSpPr/>
                <p:nvPr/>
              </p:nvSpPr>
              <p:spPr>
                <a:xfrm flipV="1">
                  <a:off x="8782200" y="18828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>
                  <a:off x="8724600" y="18828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>
                  <a:off x="8724600" y="27208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9" name=""/>
            <p:cNvGrpSpPr/>
            <p:nvPr/>
          </p:nvGrpSpPr>
          <p:grpSpPr>
            <a:xfrm>
              <a:off x="7810200" y="1898640"/>
              <a:ext cx="74520" cy="838080"/>
              <a:chOff x="7810200" y="1898640"/>
              <a:chExt cx="74520" cy="838080"/>
            </a:xfrm>
          </p:grpSpPr>
          <p:sp>
            <p:nvSpPr>
              <p:cNvPr id="270" name=""/>
              <p:cNvSpPr/>
              <p:nvPr/>
            </p:nvSpPr>
            <p:spPr>
              <a:xfrm flipV="1">
                <a:off x="7867800" y="18986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7810200" y="1898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7810200" y="27367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6286320" y="1898640"/>
              <a:ext cx="76320" cy="838080"/>
              <a:chOff x="6286320" y="1898640"/>
              <a:chExt cx="76320" cy="838080"/>
            </a:xfrm>
          </p:grpSpPr>
          <p:sp>
            <p:nvSpPr>
              <p:cNvPr id="274" name=""/>
              <p:cNvSpPr/>
              <p:nvPr/>
            </p:nvSpPr>
            <p:spPr>
              <a:xfrm flipV="1">
                <a:off x="6345000" y="18986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6286320" y="189864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6286320" y="27367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6439680" y="20350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87600" y="2035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531400" y="358128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22040" y="1219320"/>
            <a:ext cx="34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rix Formul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72160" y="4800600"/>
            <a:ext cx="303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 = Design Matrix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Regression Coefficien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Intercepts and Slop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679880" y="3505320"/>
            <a:ext cx="1274760" cy="947160"/>
            <a:chOff x="7679880" y="3505320"/>
            <a:chExt cx="1274760" cy="947160"/>
          </a:xfrm>
        </p:grpSpPr>
        <p:grpSp>
          <p:nvGrpSpPr>
            <p:cNvPr id="283" name=""/>
            <p:cNvGrpSpPr/>
            <p:nvPr/>
          </p:nvGrpSpPr>
          <p:grpSpPr>
            <a:xfrm>
              <a:off x="8496360" y="3505320"/>
              <a:ext cx="458280" cy="947160"/>
              <a:chOff x="8496360" y="3505320"/>
              <a:chExt cx="458280" cy="947160"/>
            </a:xfrm>
          </p:grpSpPr>
          <p:sp>
            <p:nvSpPr>
              <p:cNvPr id="284" name=""/>
              <p:cNvSpPr/>
              <p:nvPr/>
            </p:nvSpPr>
            <p:spPr>
              <a:xfrm>
                <a:off x="8498160" y="350532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85" name=""/>
              <p:cNvGrpSpPr/>
              <p:nvPr/>
            </p:nvGrpSpPr>
            <p:grpSpPr>
              <a:xfrm>
                <a:off x="8496360" y="3559320"/>
                <a:ext cx="74520" cy="838080"/>
                <a:chOff x="8496360" y="3559320"/>
                <a:chExt cx="74520" cy="8380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8513280" y="35593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96360" y="43974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496360" y="35593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8877240" y="3559320"/>
                <a:ext cx="74520" cy="838080"/>
                <a:chOff x="8877240" y="3559320"/>
                <a:chExt cx="74520" cy="838080"/>
              </a:xfrm>
            </p:grpSpPr>
            <p:sp>
              <p:nvSpPr>
                <p:cNvPr id="290" name=""/>
                <p:cNvSpPr/>
                <p:nvPr/>
              </p:nvSpPr>
              <p:spPr>
                <a:xfrm flipV="1">
                  <a:off x="8934840" y="35593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>
                  <a:off x="8877240" y="35593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8877240" y="43974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3" name=""/>
            <p:cNvSpPr/>
            <p:nvPr/>
          </p:nvSpPr>
          <p:spPr>
            <a:xfrm>
              <a:off x="7679880" y="3581280"/>
              <a:ext cx="7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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92120" y="624852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Intercept = Offse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42320" y="1143000"/>
            <a:ext cx="642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ckness correlated with Age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es m = 0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ull Hypothesis: H0: m=0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952200" y="3200400"/>
            <a:ext cx="4199400" cy="3218400"/>
            <a:chOff x="952200" y="3200400"/>
            <a:chExt cx="4199400" cy="3218400"/>
          </a:xfrm>
        </p:grpSpPr>
        <p:sp>
          <p:nvSpPr>
            <p:cNvPr id="298" name=""/>
            <p:cNvSpPr/>
            <p:nvPr/>
          </p:nvSpPr>
          <p:spPr>
            <a:xfrm>
              <a:off x="1181160" y="3886200"/>
              <a:ext cx="297180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1714680" y="3809880"/>
              <a:ext cx="167652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 rot="21465000">
              <a:off x="2476080" y="4799520"/>
              <a:ext cx="45720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10680" y="335268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Intercept: 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96840" y="4191120"/>
              <a:ext cx="14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Slope: 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52200" y="320040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58960" y="55627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953280" y="3886200"/>
              <a:ext cx="3428280" cy="2532600"/>
              <a:chOff x="953280" y="3886200"/>
              <a:chExt cx="3428280" cy="2532600"/>
            </a:xfrm>
          </p:grpSpPr>
          <p:sp>
            <p:nvSpPr>
              <p:cNvPr id="306" name=""/>
              <p:cNvSpPr/>
              <p:nvPr/>
            </p:nvSpPr>
            <p:spPr>
              <a:xfrm>
                <a:off x="1638360" y="3886200"/>
                <a:ext cx="0" cy="2133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333800" y="5791320"/>
                <a:ext cx="30477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95560" y="4343400"/>
                <a:ext cx="0" cy="164484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6080" y="5367600"/>
                <a:ext cx="213372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6080" y="4572000"/>
                <a:ext cx="83808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162600" y="5105520"/>
                <a:ext cx="0" cy="91440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867680" y="6019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34720" y="6019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953280" y="51818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953280" y="434340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019600" y="449604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086280" y="529128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 flipV="1">
              <a:off x="3009960" y="4648320"/>
              <a:ext cx="91440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78640" y="3124080"/>
            <a:ext cx="2516760" cy="1343520"/>
            <a:chOff x="5678640" y="3124080"/>
            <a:chExt cx="2516760" cy="1343520"/>
          </a:xfrm>
        </p:grpSpPr>
        <p:sp>
          <p:nvSpPr>
            <p:cNvPr id="320" name=""/>
            <p:cNvSpPr/>
            <p:nvPr/>
          </p:nvSpPr>
          <p:spPr>
            <a:xfrm>
              <a:off x="5678640" y="3124080"/>
              <a:ext cx="201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m= [0 1]*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7657920" y="3276360"/>
              <a:ext cx="537480" cy="1191240"/>
              <a:chOff x="7657920" y="3276360"/>
              <a:chExt cx="537480" cy="1191240"/>
            </a:xfrm>
          </p:grpSpPr>
          <p:sp>
            <p:nvSpPr>
              <p:cNvPr id="322" name=""/>
              <p:cNvSpPr/>
              <p:nvPr/>
            </p:nvSpPr>
            <p:spPr>
              <a:xfrm>
                <a:off x="7659720" y="3276360"/>
                <a:ext cx="535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36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323" name=""/>
              <p:cNvGrpSpPr/>
              <p:nvPr/>
            </p:nvGrpSpPr>
            <p:grpSpPr>
              <a:xfrm>
                <a:off x="7657920" y="3352320"/>
                <a:ext cx="74520" cy="990720"/>
                <a:chOff x="7657920" y="3352320"/>
                <a:chExt cx="74520" cy="9907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674840" y="3352320"/>
                  <a:ext cx="0" cy="990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657920" y="43430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657920" y="33523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8115120" y="3352320"/>
                <a:ext cx="76320" cy="990720"/>
                <a:chOff x="8115120" y="3352320"/>
                <a:chExt cx="76320" cy="990720"/>
              </a:xfrm>
            </p:grpSpPr>
            <p:sp>
              <p:nvSpPr>
                <p:cNvPr id="328" name=""/>
                <p:cNvSpPr/>
                <p:nvPr/>
              </p:nvSpPr>
              <p:spPr>
                <a:xfrm flipV="1">
                  <a:off x="8173800" y="3352320"/>
                  <a:ext cx="0" cy="990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H="1">
                  <a:off x="8115120" y="335232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>
                  <a:off x="8115120" y="434304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31" name=""/>
          <p:cNvGrpSpPr/>
          <p:nvPr/>
        </p:nvGrpSpPr>
        <p:grpSpPr>
          <a:xfrm>
            <a:off x="5532840" y="4648320"/>
            <a:ext cx="3045600" cy="807840"/>
            <a:chOff x="5532840" y="4648320"/>
            <a:chExt cx="3045600" cy="807840"/>
          </a:xfrm>
        </p:grpSpPr>
        <p:sp>
          <p:nvSpPr>
            <p:cNvPr id="332" name=""/>
            <p:cNvSpPr/>
            <p:nvPr/>
          </p:nvSpPr>
          <p:spPr>
            <a:xfrm>
              <a:off x="5532840" y="4752720"/>
              <a:ext cx="3045600" cy="7034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= C*</a:t>
              </a: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</a:t>
              </a:r>
              <a:endParaRPr b="0" lang="en-US" sz="4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83400" y="46483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5673240" y="5562720"/>
            <a:ext cx="42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=[0 1]: Contrast Matrix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8365680" y="3276720"/>
            <a:ext cx="1274760" cy="947160"/>
            <a:chOff x="8365680" y="3276720"/>
            <a:chExt cx="1274760" cy="947160"/>
          </a:xfrm>
        </p:grpSpPr>
        <p:grpSp>
          <p:nvGrpSpPr>
            <p:cNvPr id="336" name=""/>
            <p:cNvGrpSpPr/>
            <p:nvPr/>
          </p:nvGrpSpPr>
          <p:grpSpPr>
            <a:xfrm>
              <a:off x="9182160" y="3276720"/>
              <a:ext cx="458280" cy="947160"/>
              <a:chOff x="9182160" y="3276720"/>
              <a:chExt cx="458280" cy="947160"/>
            </a:xfrm>
          </p:grpSpPr>
          <p:sp>
            <p:nvSpPr>
              <p:cNvPr id="337" name=""/>
              <p:cNvSpPr/>
              <p:nvPr/>
            </p:nvSpPr>
            <p:spPr>
              <a:xfrm>
                <a:off x="9183960" y="327672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9182160" y="3330720"/>
                <a:ext cx="74520" cy="838080"/>
                <a:chOff x="9182160" y="3330720"/>
                <a:chExt cx="74520" cy="8380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9199080" y="33307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9182160" y="41688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9182160" y="33307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563040" y="3330720"/>
                <a:ext cx="74520" cy="838080"/>
                <a:chOff x="9563040" y="3330720"/>
                <a:chExt cx="74520" cy="838080"/>
              </a:xfrm>
            </p:grpSpPr>
            <p:sp>
              <p:nvSpPr>
                <p:cNvPr id="343" name=""/>
                <p:cNvSpPr/>
                <p:nvPr/>
              </p:nvSpPr>
              <p:spPr>
                <a:xfrm flipV="1">
                  <a:off x="9620640" y="33307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>
                  <a:off x="9563040" y="33307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9563040" y="41688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6" name=""/>
            <p:cNvSpPr/>
            <p:nvPr/>
          </p:nvSpPr>
          <p:spPr>
            <a:xfrm>
              <a:off x="8365680" y="3352680"/>
              <a:ext cx="7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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re than Two Data Poin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53160" y="4267080"/>
            <a:ext cx="259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2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3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3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4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4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676840" y="1600200"/>
            <a:ext cx="3049200" cy="1834920"/>
            <a:chOff x="5676840" y="1600200"/>
            <a:chExt cx="3049200" cy="1834920"/>
          </a:xfrm>
        </p:grpSpPr>
        <p:sp>
          <p:nvSpPr>
            <p:cNvPr id="350" name=""/>
            <p:cNvSpPr/>
            <p:nvPr/>
          </p:nvSpPr>
          <p:spPr>
            <a:xfrm>
              <a:off x="5754240" y="1616040"/>
              <a:ext cx="5374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4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97600" y="1616040"/>
              <a:ext cx="8924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4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269560" y="1600200"/>
              <a:ext cx="456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5676840" y="1676520"/>
              <a:ext cx="74520" cy="1752120"/>
              <a:chOff x="5676840" y="1676520"/>
              <a:chExt cx="74520" cy="1752120"/>
            </a:xfrm>
          </p:grpSpPr>
          <p:sp>
            <p:nvSpPr>
              <p:cNvPr id="354" name=""/>
              <p:cNvSpPr/>
              <p:nvPr/>
            </p:nvSpPr>
            <p:spPr>
              <a:xfrm>
                <a:off x="5693760" y="1676520"/>
                <a:ext cx="0" cy="1752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676840" y="3428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676840" y="1676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6896160" y="1676520"/>
              <a:ext cx="74520" cy="1758600"/>
              <a:chOff x="6896160" y="1676520"/>
              <a:chExt cx="74520" cy="1758600"/>
            </a:xfrm>
          </p:grpSpPr>
          <p:sp>
            <p:nvSpPr>
              <p:cNvPr id="358" name=""/>
              <p:cNvSpPr/>
              <p:nvPr/>
            </p:nvSpPr>
            <p:spPr>
              <a:xfrm>
                <a:off x="6913080" y="167652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896160" y="34351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896160" y="1676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8267760" y="1654200"/>
              <a:ext cx="74520" cy="838440"/>
              <a:chOff x="8267760" y="1654200"/>
              <a:chExt cx="74520" cy="838440"/>
            </a:xfrm>
          </p:grpSpPr>
          <p:sp>
            <p:nvSpPr>
              <p:cNvPr id="362" name=""/>
              <p:cNvSpPr/>
              <p:nvPr/>
            </p:nvSpPr>
            <p:spPr>
              <a:xfrm>
                <a:off x="8284680" y="1654200"/>
                <a:ext cx="0" cy="83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267760" y="2492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267760" y="16542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8648280" y="1653840"/>
              <a:ext cx="74520" cy="838440"/>
              <a:chOff x="8648280" y="1653840"/>
              <a:chExt cx="74520" cy="838440"/>
            </a:xfrm>
          </p:grpSpPr>
          <p:sp>
            <p:nvSpPr>
              <p:cNvPr id="366" name=""/>
              <p:cNvSpPr/>
              <p:nvPr/>
            </p:nvSpPr>
            <p:spPr>
              <a:xfrm flipV="1">
                <a:off x="8705880" y="1653840"/>
                <a:ext cx="0" cy="83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8648280" y="1653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8648280" y="24922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7734240" y="1670400"/>
              <a:ext cx="76320" cy="1758600"/>
              <a:chOff x="7734240" y="1670400"/>
              <a:chExt cx="76320" cy="1758600"/>
            </a:xfrm>
          </p:grpSpPr>
          <p:sp>
            <p:nvSpPr>
              <p:cNvPr id="370" name=""/>
              <p:cNvSpPr/>
              <p:nvPr/>
            </p:nvSpPr>
            <p:spPr>
              <a:xfrm flipV="1">
                <a:off x="7792920" y="167040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7734240" y="167040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7734240" y="342900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6210000" y="1670400"/>
              <a:ext cx="75960" cy="1758600"/>
              <a:chOff x="6210000" y="1670400"/>
              <a:chExt cx="75960" cy="1758600"/>
            </a:xfrm>
          </p:grpSpPr>
          <p:sp>
            <p:nvSpPr>
              <p:cNvPr id="374" name=""/>
              <p:cNvSpPr/>
              <p:nvPr/>
            </p:nvSpPr>
            <p:spPr>
              <a:xfrm flipV="1">
                <a:off x="6268680" y="167040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6210000" y="167040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6210000" y="342900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6363360" y="180684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11640" y="1806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5988600" y="380988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495000" y="1143000"/>
            <a:ext cx="4199400" cy="2971800"/>
            <a:chOff x="495000" y="1143000"/>
            <a:chExt cx="4199400" cy="2971800"/>
          </a:xfrm>
        </p:grpSpPr>
        <p:sp>
          <p:nvSpPr>
            <p:cNvPr id="381" name=""/>
            <p:cNvSpPr/>
            <p:nvPr/>
          </p:nvSpPr>
          <p:spPr>
            <a:xfrm>
              <a:off x="723960" y="1828800"/>
              <a:ext cx="297180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257480" y="1752480"/>
              <a:ext cx="167652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 rot="21465000">
              <a:off x="2018880" y="2742120"/>
              <a:ext cx="45720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53480" y="129528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Intercept: 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39640" y="2133720"/>
              <a:ext cx="14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Slope: 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000" y="114300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01760" y="35053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81160" y="1828800"/>
              <a:ext cx="0" cy="2133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76600" y="3733920"/>
              <a:ext cx="30477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62400" y="2438280"/>
              <a:ext cx="152280" cy="1526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29080" y="3233880"/>
              <a:ext cx="152280" cy="15228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2552760" y="2590920"/>
              <a:ext cx="91440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86280" y="2971800"/>
              <a:ext cx="152280" cy="15228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43280" y="3124080"/>
              <a:ext cx="152280" cy="1526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95560" y="2514600"/>
              <a:ext cx="152640" cy="15228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333800" y="2666880"/>
              <a:ext cx="152280" cy="1526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4607280" y="4648320"/>
            <a:ext cx="487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st Matrix Stays Same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 = [0 1]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991040" y="1219320"/>
            <a:ext cx="4953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groups differ in Intercept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groups differ in Slope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991040" y="2133720"/>
            <a:ext cx="539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 average slope different than 0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494640" y="1752480"/>
            <a:ext cx="5657760" cy="4367160"/>
            <a:chOff x="494640" y="1752480"/>
            <a:chExt cx="5657760" cy="4367160"/>
          </a:xfrm>
        </p:grpSpPr>
        <p:grpSp>
          <p:nvGrpSpPr>
            <p:cNvPr id="402" name=""/>
            <p:cNvGrpSpPr/>
            <p:nvPr/>
          </p:nvGrpSpPr>
          <p:grpSpPr>
            <a:xfrm>
              <a:off x="494640" y="1752480"/>
              <a:ext cx="5657760" cy="4367160"/>
              <a:chOff x="494640" y="1752480"/>
              <a:chExt cx="5657760" cy="4367160"/>
            </a:xfrm>
          </p:grpSpPr>
          <p:sp>
            <p:nvSpPr>
              <p:cNvPr id="403" name=""/>
              <p:cNvSpPr/>
              <p:nvPr/>
            </p:nvSpPr>
            <p:spPr>
              <a:xfrm>
                <a:off x="804600" y="2772360"/>
                <a:ext cx="4024080" cy="3158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1527120" y="2246040"/>
                <a:ext cx="2063520" cy="105228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 flipV="1" rot="21465000">
                <a:off x="2248560" y="3719880"/>
                <a:ext cx="618840" cy="525600"/>
              </a:xfrm>
              <a:prstGeom prst="rtTriangl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659320" y="1752480"/>
                <a:ext cx="14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Intercept: b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692520" y="2594880"/>
                <a:ext cx="122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Slope: m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94640" y="1824840"/>
                <a:ext cx="121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Thickness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243040" y="50889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423800" y="2772360"/>
                <a:ext cx="0" cy="29480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011600" y="5404680"/>
                <a:ext cx="41270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2868840" y="3088080"/>
                <a:ext cx="1341000" cy="7369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8680" y="3825360"/>
                <a:ext cx="5056200" cy="1368360"/>
              </a:xfrm>
              <a:prstGeom prst="line">
                <a:avLst/>
              </a:prstGeom>
              <a:ln w="572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833840" y="5720760"/>
                <a:ext cx="14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1414"/>
                    </a:solidFill>
                    <a:latin typeface="Times New Roman"/>
                  </a:rPr>
                  <a:t>Intercept: b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930920" y="3825360"/>
                <a:ext cx="122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1414"/>
                    </a:solidFill>
                    <a:latin typeface="Times New Roman"/>
                  </a:rPr>
                  <a:t>Slope: m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flipV="1" rot="20162400">
                <a:off x="4208760" y="4534560"/>
                <a:ext cx="618840" cy="526680"/>
              </a:xfrm>
              <a:prstGeom prst="rtTriangl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4829040" y="4351320"/>
                <a:ext cx="825480" cy="315720"/>
              </a:xfrm>
              <a:prstGeom prst="line">
                <a:avLst/>
              </a:prstGeom>
              <a:ln w="19080">
                <a:solidFill>
                  <a:srgbClr val="fd1414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527120" y="4246200"/>
                <a:ext cx="1134720" cy="1474200"/>
              </a:xfrm>
              <a:prstGeom prst="line">
                <a:avLst/>
              </a:prstGeom>
              <a:ln w="19080">
                <a:solidFill>
                  <a:srgbClr val="fd1414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1594440" y="392328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440080" y="4444560"/>
              <a:ext cx="8424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55480" y="409716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69960" y="444456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16520" y="479160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877200" y="409716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46400" y="496548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71800" y="279432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94440" y="357588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86640" y="3402360"/>
              <a:ext cx="84240" cy="86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17080" y="401004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01120" y="427068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369960" y="513900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2160" y="566028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494640" y="1066680"/>
            <a:ext cx="4497480" cy="3270960"/>
            <a:chOff x="494640" y="1066680"/>
            <a:chExt cx="4497480" cy="3270960"/>
          </a:xfrm>
        </p:grpSpPr>
        <p:sp>
          <p:nvSpPr>
            <p:cNvPr id="435" name=""/>
            <p:cNvSpPr/>
            <p:nvPr/>
          </p:nvSpPr>
          <p:spPr>
            <a:xfrm>
              <a:off x="723600" y="1805040"/>
              <a:ext cx="297144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1257120" y="1424160"/>
              <a:ext cx="1523520" cy="7617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 rot="21465000">
              <a:off x="1790640" y="2489760"/>
              <a:ext cx="45684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93040" y="10666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Intercept: b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56240" y="167652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Slope: m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4640" y="111924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001040" y="34815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80800" y="1805040"/>
              <a:ext cx="0" cy="2133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76240" y="3710160"/>
              <a:ext cx="30474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2247840" y="2033640"/>
              <a:ext cx="990000" cy="5335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1320" y="2567160"/>
              <a:ext cx="3733560" cy="99036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83560" y="393876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Intercept: b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0640" y="256716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lope: m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 rot="20162400">
              <a:off x="3238200" y="3081240"/>
              <a:ext cx="45684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3695400" y="2947680"/>
              <a:ext cx="609480" cy="22860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57120" y="2871720"/>
              <a:ext cx="837720" cy="106704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641160" y="4495680"/>
            <a:ext cx="3408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1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2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2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1 =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2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2 =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22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5143680" y="1219320"/>
            <a:ext cx="4401000" cy="1910520"/>
            <a:chOff x="5143680" y="1219320"/>
            <a:chExt cx="4401000" cy="1910520"/>
          </a:xfrm>
        </p:grpSpPr>
        <p:sp>
          <p:nvSpPr>
            <p:cNvPr id="453" name=""/>
            <p:cNvSpPr/>
            <p:nvPr/>
          </p:nvSpPr>
          <p:spPr>
            <a:xfrm>
              <a:off x="5172840" y="1295280"/>
              <a:ext cx="715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17440" y="1311120"/>
              <a:ext cx="20462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x11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x12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0  x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0  x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973720" y="126972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5143680" y="1371600"/>
              <a:ext cx="74520" cy="1751760"/>
              <a:chOff x="5143680" y="1371600"/>
              <a:chExt cx="74520" cy="1751760"/>
            </a:xfrm>
          </p:grpSpPr>
          <p:sp>
            <p:nvSpPr>
              <p:cNvPr id="457" name=""/>
              <p:cNvSpPr/>
              <p:nvPr/>
            </p:nvSpPr>
            <p:spPr>
              <a:xfrm>
                <a:off x="5160600" y="1371600"/>
                <a:ext cx="0" cy="1751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143680" y="312336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143680" y="13716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6515280" y="1371600"/>
              <a:ext cx="74520" cy="1758240"/>
              <a:chOff x="6515280" y="1371600"/>
              <a:chExt cx="74520" cy="1758240"/>
            </a:xfrm>
          </p:grpSpPr>
          <p:sp>
            <p:nvSpPr>
              <p:cNvPr id="461" name=""/>
              <p:cNvSpPr/>
              <p:nvPr/>
            </p:nvSpPr>
            <p:spPr>
              <a:xfrm>
                <a:off x="6532200" y="137160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515280" y="3129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515280" y="13716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8982360" y="1219320"/>
              <a:ext cx="74520" cy="1599480"/>
              <a:chOff x="8982360" y="1219320"/>
              <a:chExt cx="74520" cy="1599480"/>
            </a:xfrm>
          </p:grpSpPr>
          <p:sp>
            <p:nvSpPr>
              <p:cNvPr id="465" name=""/>
              <p:cNvSpPr/>
              <p:nvPr/>
            </p:nvSpPr>
            <p:spPr>
              <a:xfrm>
                <a:off x="8999280" y="1219320"/>
                <a:ext cx="0" cy="1599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982360" y="28188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982360" y="12193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8572680" y="1295280"/>
              <a:ext cx="76320" cy="1758240"/>
              <a:chOff x="8572680" y="1295280"/>
              <a:chExt cx="76320" cy="1758240"/>
            </a:xfrm>
          </p:grpSpPr>
          <p:sp>
            <p:nvSpPr>
              <p:cNvPr id="469" name=""/>
              <p:cNvSpPr/>
              <p:nvPr/>
            </p:nvSpPr>
            <p:spPr>
              <a:xfrm flipV="1">
                <a:off x="8631360" y="129528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8572680" y="129528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8572680" y="30535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5829480" y="1365120"/>
              <a:ext cx="76320" cy="1758240"/>
              <a:chOff x="5829480" y="1365120"/>
              <a:chExt cx="76320" cy="1758240"/>
            </a:xfrm>
          </p:grpSpPr>
          <p:sp>
            <p:nvSpPr>
              <p:cNvPr id="473" name=""/>
              <p:cNvSpPr/>
              <p:nvPr/>
            </p:nvSpPr>
            <p:spPr>
              <a:xfrm flipV="1">
                <a:off x="5888160" y="136512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5829480" y="13651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5829480" y="312336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6011280" y="190476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602200" y="1295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9439200" y="1219680"/>
              <a:ext cx="75960" cy="1599480"/>
              <a:chOff x="9439200" y="1219680"/>
              <a:chExt cx="75960" cy="1599480"/>
            </a:xfrm>
          </p:grpSpPr>
          <p:sp>
            <p:nvSpPr>
              <p:cNvPr id="479" name=""/>
              <p:cNvSpPr/>
              <p:nvPr/>
            </p:nvSpPr>
            <p:spPr>
              <a:xfrm flipV="1">
                <a:off x="9497880" y="1219680"/>
                <a:ext cx="0" cy="1599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9439200" y="121968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9439200" y="281916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"/>
          <p:cNvSpPr/>
          <p:nvPr/>
        </p:nvSpPr>
        <p:spPr>
          <a:xfrm>
            <a:off x="6064920" y="411480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904720" y="4267080"/>
            <a:ext cx="3664800" cy="2407680"/>
            <a:chOff x="5904720" y="4267080"/>
            <a:chExt cx="3664800" cy="2407680"/>
          </a:xfrm>
        </p:grpSpPr>
        <p:sp>
          <p:nvSpPr>
            <p:cNvPr id="485" name=""/>
            <p:cNvSpPr/>
            <p:nvPr/>
          </p:nvSpPr>
          <p:spPr>
            <a:xfrm>
              <a:off x="6075720" y="4783320"/>
              <a:ext cx="2216520" cy="159876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6473880" y="4516920"/>
              <a:ext cx="1136520" cy="532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 rot="21465000">
              <a:off x="6870960" y="5263200"/>
              <a:ext cx="340920" cy="26640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96680" y="42670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Intercept: b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66200" y="469440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Slope: m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904720" y="430380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520840" y="59562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16640" y="4783320"/>
              <a:ext cx="0" cy="1492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189480" y="6116040"/>
              <a:ext cx="22730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212600" y="4943160"/>
              <a:ext cx="738360" cy="3729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62320" y="5316480"/>
              <a:ext cx="2784960" cy="69264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40560" y="62758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Intercept: b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48040" y="531648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lope: m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 rot="20162400">
              <a:off x="7951320" y="5675760"/>
              <a:ext cx="340920" cy="26676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8292600" y="5582880"/>
              <a:ext cx="454680" cy="15984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73880" y="5529600"/>
              <a:ext cx="624960" cy="74628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952560" y="1219320"/>
            <a:ext cx="426708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groups differ in Intercept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b1=b2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b1-b2 =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54000" y="4952880"/>
            <a:ext cx="4243680" cy="1191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verage slope different than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(m1+m2)/2 =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553720" y="1066680"/>
            <a:ext cx="71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1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1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2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2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98320" y="1082520"/>
            <a:ext cx="204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  0  x11  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  0  x12  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  1    0  x2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  1    0  x2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524560" y="1143000"/>
            <a:ext cx="74520" cy="1752120"/>
            <a:chOff x="5524560" y="1143000"/>
            <a:chExt cx="74520" cy="1752120"/>
          </a:xfrm>
        </p:grpSpPr>
        <p:sp>
          <p:nvSpPr>
            <p:cNvPr id="506" name=""/>
            <p:cNvSpPr/>
            <p:nvPr/>
          </p:nvSpPr>
          <p:spPr>
            <a:xfrm>
              <a:off x="5541480" y="1143000"/>
              <a:ext cx="0" cy="175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24560" y="289512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24560" y="11430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896160" y="1143000"/>
            <a:ext cx="74520" cy="1758600"/>
            <a:chOff x="6896160" y="1143000"/>
            <a:chExt cx="74520" cy="1758600"/>
          </a:xfrm>
        </p:grpSpPr>
        <p:sp>
          <p:nvSpPr>
            <p:cNvPr id="510" name=""/>
            <p:cNvSpPr/>
            <p:nvPr/>
          </p:nvSpPr>
          <p:spPr>
            <a:xfrm>
              <a:off x="6913080" y="114300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96160" y="29016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96160" y="11430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8953560" y="1067040"/>
            <a:ext cx="76320" cy="1758600"/>
            <a:chOff x="8953560" y="1067040"/>
            <a:chExt cx="76320" cy="1758600"/>
          </a:xfrm>
        </p:grpSpPr>
        <p:sp>
          <p:nvSpPr>
            <p:cNvPr id="514" name=""/>
            <p:cNvSpPr/>
            <p:nvPr/>
          </p:nvSpPr>
          <p:spPr>
            <a:xfrm flipV="1">
              <a:off x="9012240" y="106704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8953560" y="10670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8953560" y="28256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6210360" y="1136880"/>
            <a:ext cx="76320" cy="1758600"/>
            <a:chOff x="6210360" y="1136880"/>
            <a:chExt cx="76320" cy="1758600"/>
          </a:xfrm>
        </p:grpSpPr>
        <p:sp>
          <p:nvSpPr>
            <p:cNvPr id="518" name=""/>
            <p:cNvSpPr/>
            <p:nvPr/>
          </p:nvSpPr>
          <p:spPr>
            <a:xfrm flipV="1">
              <a:off x="6269040" y="113688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6210360" y="11368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6210360" y="28954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6392160" y="16765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983080" y="1066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9334440" y="990720"/>
            <a:ext cx="591120" cy="1607760"/>
            <a:chOff x="9334440" y="990720"/>
            <a:chExt cx="591120" cy="1607760"/>
          </a:xfrm>
        </p:grpSpPr>
        <p:sp>
          <p:nvSpPr>
            <p:cNvPr id="524" name=""/>
            <p:cNvSpPr/>
            <p:nvPr/>
          </p:nvSpPr>
          <p:spPr>
            <a:xfrm>
              <a:off x="9354600" y="104148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9334440" y="990720"/>
              <a:ext cx="102960" cy="1599840"/>
              <a:chOff x="9334440" y="990720"/>
              <a:chExt cx="102960" cy="1599840"/>
            </a:xfrm>
          </p:grpSpPr>
          <p:sp>
            <p:nvSpPr>
              <p:cNvPr id="526" name=""/>
              <p:cNvSpPr/>
              <p:nvPr/>
            </p:nvSpPr>
            <p:spPr>
              <a:xfrm>
                <a:off x="9358200" y="99072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334440" y="2590560"/>
                <a:ext cx="102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9334440" y="990720"/>
                <a:ext cx="102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9791640" y="990720"/>
              <a:ext cx="76320" cy="1599840"/>
              <a:chOff x="9791640" y="990720"/>
              <a:chExt cx="76320" cy="1599840"/>
            </a:xfrm>
          </p:grpSpPr>
          <p:sp>
            <p:nvSpPr>
              <p:cNvPr id="530" name=""/>
              <p:cNvSpPr/>
              <p:nvPr/>
            </p:nvSpPr>
            <p:spPr>
              <a:xfrm flipV="1">
                <a:off x="9850320" y="99072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9791640" y="9907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9791640" y="259056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3" name=""/>
          <p:cNvSpPr/>
          <p:nvPr/>
        </p:nvSpPr>
        <p:spPr>
          <a:xfrm>
            <a:off x="5836320" y="327672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52560" y="3048120"/>
            <a:ext cx="426708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groups differ in Slope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m1=m2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m1-m2=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9258480" y="3124080"/>
            <a:ext cx="590400" cy="1607760"/>
            <a:chOff x="9258480" y="3124080"/>
            <a:chExt cx="590400" cy="1607760"/>
          </a:xfrm>
        </p:grpSpPr>
        <p:sp>
          <p:nvSpPr>
            <p:cNvPr id="536" name=""/>
            <p:cNvSpPr/>
            <p:nvPr/>
          </p:nvSpPr>
          <p:spPr>
            <a:xfrm>
              <a:off x="9277920" y="317484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9258480" y="3124080"/>
              <a:ext cx="102600" cy="1599840"/>
              <a:chOff x="9258480" y="3124080"/>
              <a:chExt cx="102600" cy="1599840"/>
            </a:xfrm>
          </p:grpSpPr>
          <p:sp>
            <p:nvSpPr>
              <p:cNvPr id="538" name=""/>
              <p:cNvSpPr/>
              <p:nvPr/>
            </p:nvSpPr>
            <p:spPr>
              <a:xfrm>
                <a:off x="9282240" y="312408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9258480" y="4723920"/>
                <a:ext cx="102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9258480" y="3124080"/>
                <a:ext cx="102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9714960" y="3124080"/>
              <a:ext cx="75960" cy="1599840"/>
              <a:chOff x="9714960" y="3124080"/>
              <a:chExt cx="75960" cy="1599840"/>
            </a:xfrm>
          </p:grpSpPr>
          <p:sp>
            <p:nvSpPr>
              <p:cNvPr id="542" name=""/>
              <p:cNvSpPr/>
              <p:nvPr/>
            </p:nvSpPr>
            <p:spPr>
              <a:xfrm flipV="1">
                <a:off x="9773640" y="312408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9714960" y="312408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9714960" y="472392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5" name=""/>
          <p:cNvSpPr/>
          <p:nvPr/>
        </p:nvSpPr>
        <p:spPr>
          <a:xfrm>
            <a:off x="8308440" y="3505320"/>
            <a:ext cx="10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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23280" y="457200"/>
            <a:ext cx="170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86080" y="1295280"/>
            <a:ext cx="70102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nual Strea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esign/Contrast (GLM Theory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naly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/Automated GUI (QDE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ctors, Levels, Groups, Clas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77320" y="1143000"/>
            <a:ext cx="76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 Variables/Facto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Age, IQ, Volume, et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76600" y="1905120"/>
            <a:ext cx="868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screte Variables/Facto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Gender, Handedness, Diagnosi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els of Discrete 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edness: Left and 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der: Male and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gnosis: Normal, MCI, A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0280" y="4343400"/>
            <a:ext cx="783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roup or 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Specification of All Discrete Factor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ft-handed Male MC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ght-handed Female Norma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ctors, Levels,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7640" y="129528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ch Group/Class: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as its own Intercept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as its own Slope (for each continuous variable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Regressors = NClasses*(NVariables+1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: Thickness Stud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029600" y="2033640"/>
            <a:ext cx="710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 Fi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9536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SGDF = FreeSurfer Group Descriptor Fi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181160" y="2895480"/>
            <a:ext cx="6705720" cy="2819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5000"/>
          </a:bodyPr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Age  Weight   IQ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0      100 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5      150   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      20      200   2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      25      250   2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15200" y="6583320"/>
            <a:ext cx="304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Times New Roman"/>
              </a:rPr>
              <a:t>Note: Can specify design matrix explicitly with --design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030320" y="586728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47640" y="16765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5000"/>
          </a:bodyPr>
          <a:p>
            <a:pPr marL="188640" indent="-1886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ne Discrete Factor (Gender) with Two Levels (M&amp;F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188640" indent="-1886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ree Continuous Variables: Age, Weight, IQ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2360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F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X (Automatic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658332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pl-PL" sz="1200" spc="-1" strike="noStrike">
                <a:solidFill>
                  <a:srgbClr val="fd1414"/>
                </a:solidFill>
                <a:latin typeface="Times New Roman"/>
              </a:rPr>
              <a:t>D</a:t>
            </a: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1200" spc="-1" strike="noStrike">
                <a:solidFill>
                  <a:srgbClr val="fd1414"/>
                </a:solidFill>
                <a:latin typeface="Times New Roman"/>
              </a:rPr>
              <a:t>Different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99760" y="4114800"/>
            <a:ext cx="72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0     0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rot="5400000">
            <a:off x="3070800" y="443412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292840" y="4890960"/>
            <a:ext cx="60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intercept/offset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951480" y="914400"/>
            <a:ext cx="8382960" cy="3218040"/>
            <a:chOff x="951480" y="914400"/>
            <a:chExt cx="8382960" cy="3218040"/>
          </a:xfrm>
        </p:grpSpPr>
        <p:sp>
          <p:nvSpPr>
            <p:cNvPr id="566" name=""/>
            <p:cNvSpPr/>
            <p:nvPr/>
          </p:nvSpPr>
          <p:spPr>
            <a:xfrm>
              <a:off x="2781360" y="1752480"/>
              <a:ext cx="65530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1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 1000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20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0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5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5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951480" y="914400"/>
              <a:ext cx="7771320" cy="3218040"/>
              <a:chOff x="951480" y="914400"/>
              <a:chExt cx="7771320" cy="3218040"/>
            </a:xfrm>
          </p:grpSpPr>
          <p:sp>
            <p:nvSpPr>
              <p:cNvPr id="568" name=""/>
              <p:cNvSpPr/>
              <p:nvPr/>
            </p:nvSpPr>
            <p:spPr>
              <a:xfrm>
                <a:off x="1409760" y="2438280"/>
                <a:ext cx="99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afd00"/>
                    </a:solidFill>
                    <a:latin typeface="Times New Roman"/>
                  </a:rPr>
                  <a:t>X =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951480" y="1447560"/>
                <a:ext cx="141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026720" y="990360"/>
                <a:ext cx="164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571" name=""/>
              <p:cNvGrpSpPr/>
              <p:nvPr/>
            </p:nvGrpSpPr>
            <p:grpSpPr>
              <a:xfrm>
                <a:off x="2324160" y="1600200"/>
                <a:ext cx="609480" cy="152280"/>
                <a:chOff x="2324160" y="1600200"/>
                <a:chExt cx="609480" cy="15228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293364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32416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2705040" y="1218960"/>
                <a:ext cx="609480" cy="533520"/>
                <a:chOff x="2705040" y="1218960"/>
                <a:chExt cx="609480" cy="53352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3314520" y="12189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705040" y="12189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4457880" y="1600200"/>
                <a:ext cx="609480" cy="152280"/>
                <a:chOff x="4457880" y="1600200"/>
                <a:chExt cx="609480" cy="15228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445788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H="1">
                  <a:off x="445788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4000680" y="1152360"/>
                <a:ext cx="609480" cy="533520"/>
                <a:chOff x="4000680" y="1152360"/>
                <a:chExt cx="609480" cy="53352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4000680" y="11523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H="1">
                  <a:off x="4000680" y="11523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3" name=""/>
              <p:cNvSpPr/>
              <p:nvPr/>
            </p:nvSpPr>
            <p:spPr>
              <a:xfrm>
                <a:off x="5067000" y="1371600"/>
                <a:ext cx="14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10520" y="914400"/>
                <a:ext cx="119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2628720" y="1752480"/>
                <a:ext cx="74520" cy="2057040"/>
                <a:chOff x="2628720" y="1752480"/>
                <a:chExt cx="74520" cy="205704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264564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62872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62872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8648280" y="1752480"/>
                <a:ext cx="74520" cy="2057040"/>
                <a:chOff x="8648280" y="1752480"/>
                <a:chExt cx="74520" cy="205704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870588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H="1">
                  <a:off x="864828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>
                  <a:off x="864828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3" name=""/>
              <p:cNvSpPr/>
              <p:nvPr/>
            </p:nvSpPr>
            <p:spPr>
              <a:xfrm>
                <a:off x="3619440" y="190476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838760" y="198108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591240" y="2057400"/>
                <a:ext cx="0" cy="16761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219640" y="365760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Weight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001400" y="37335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506720" y="3657600"/>
                <a:ext cx="45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IQ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1500120" y="5334120"/>
            <a:ext cx="73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 0  0    -1   1 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rot="5400000">
            <a:off x="4197240" y="551628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39440" y="6019920"/>
            <a:ext cx="55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age slope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180800" y="13712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FSGD File and constructs X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your contrasts (C1, C2, etc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oads lh.thickness.sm10.mgh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its GLM (ie, computes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putes contrasts (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=C*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 or F ratios, significances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gnificance -log10(p) (.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2, .0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3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1680" y="167364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fsgd gender_age.txt dos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glmdir </a:t>
            </a: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mat –C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14600" y="1676520"/>
            <a:ext cx="4650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Creates: </a:t>
            </a: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beta.mgh – parameter estim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eres.mgh – residual error 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rvar.mgh – residual error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etc …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360" y="43423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mri_glmfit --hel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48240" y="3733920"/>
            <a:ext cx="3124440" cy="76176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47640" y="-12384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600880" y="5562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ew-&gt;Configure-&gt;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12" name="" descr="group_results.jpg"/>
          <p:cNvPicPr/>
          <p:nvPr/>
        </p:nvPicPr>
        <p:blipFill>
          <a:blip r:embed="rId1"/>
          <a:stretch/>
        </p:blipFill>
        <p:spPr>
          <a:xfrm>
            <a:off x="190440" y="790560"/>
            <a:ext cx="3463920" cy="547992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configure_overlay.jpg"/>
          <p:cNvPicPr/>
          <p:nvPr/>
        </p:nvPicPr>
        <p:blipFill>
          <a:blip r:embed="rId2"/>
          <a:stretch/>
        </p:blipFill>
        <p:spPr>
          <a:xfrm>
            <a:off x="5676840" y="914400"/>
            <a:ext cx="2624040" cy="457524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590544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5143680" y="1904760"/>
            <a:ext cx="838080" cy="198108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30760" y="1233360"/>
            <a:ext cx="128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hreshold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2=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9616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7429680" y="1523880"/>
            <a:ext cx="1447560" cy="22860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493840" y="533520"/>
            <a:ext cx="156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aturation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5=.000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972480" y="4800600"/>
            <a:ext cx="685800" cy="38088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572680" y="2819520"/>
            <a:ext cx="114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icove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at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7505640" y="4114440"/>
            <a:ext cx="1295640" cy="6858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43080" y="62485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le-&gt;Load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47640" y="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222440" y="5486400"/>
            <a:ext cx="346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le-&gt;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ad Group Descriptor File …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27" name="" descr="scatter_plot.jpg"/>
          <p:cNvPicPr/>
          <p:nvPr/>
        </p:nvPicPr>
        <p:blipFill>
          <a:blip r:embed="rId1"/>
          <a:stretch/>
        </p:blipFill>
        <p:spPr>
          <a:xfrm>
            <a:off x="4381560" y="1066680"/>
            <a:ext cx="3806640" cy="411480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group_results.jpg"/>
          <p:cNvPicPr/>
          <p:nvPr/>
        </p:nvPicPr>
        <p:blipFill>
          <a:blip r:embed="rId2"/>
          <a:stretch/>
        </p:blipFill>
        <p:spPr>
          <a:xfrm>
            <a:off x="114480" y="990720"/>
            <a:ext cx="34639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FSGD 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028880" y="2895480"/>
            <a:ext cx="6858000" cy="35053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6000"/>
          </a:bodyPr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         Age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Left           1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Right         1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Right     2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Left       2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048520" y="5715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76240" y="9144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8000"/>
          </a:bodyPr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ne Continuous Variable: Ag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295960" y="1905120"/>
            <a:ext cx="2870280" cy="2977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00280" y="763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Study (Thicknes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53" name="" descr="scatter_plot.jpg"/>
          <p:cNvPicPr/>
          <p:nvPr/>
        </p:nvPicPr>
        <p:blipFill>
          <a:blip r:embed="rId2"/>
          <a:stretch/>
        </p:blipFill>
        <p:spPr>
          <a:xfrm>
            <a:off x="952560" y="1523880"/>
            <a:ext cx="3647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576720" y="304920"/>
            <a:ext cx="875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DEC – An Interactive Statistical Engine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92000" y="1295280"/>
            <a:ext cx="8885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ry – Select subjects based on Match Criteri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– Specify discrete and continuous factor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imate – Fit Mod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st – Automatically Generate Contrast Matr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active – data caching (recon-all –qcache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ork in progr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Query y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Discrete Factors (Two Level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Continuous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face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2402640" y="304920"/>
            <a:ext cx="40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DEC – Spreadshe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47640" y="1833840"/>
            <a:ext cx="8915400" cy="22284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sid                        gender     age    diagnosis         Left-Cerebral-White-Matter-V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1121_vc8048    Female     70     Demented                    202291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62313-2   Female     71    Demented                     21018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0607_vc7017    Female     73    Nondemented               170653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vc10557  Male        75     Demented                     142029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718_62545      Male        76     Demented                     186087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322_vc8817    Male        77      Nondemented              14981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79040" y="1295280"/>
            <a:ext cx="84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dec.table.dat – spreadsheet with subject information – spreadsheet can be huge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028880" y="4958280"/>
            <a:ext cx="114300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Male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74440" y="44956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der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390840" y="4958280"/>
            <a:ext cx="190512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Demented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Nondemen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312360" y="449568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gnosis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400480" y="1828800"/>
            <a:ext cx="121896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076640" y="1828800"/>
            <a:ext cx="121932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1562040" y="2209680"/>
            <a:ext cx="1067040" cy="23623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4076280" y="2133720"/>
            <a:ext cx="228600" cy="236196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343560" y="481500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rete Factors need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torname.level fi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4991760" y="2286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DEC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48" name="" descr="qdec-design1.jpg"/>
          <p:cNvPicPr/>
          <p:nvPr/>
        </p:nvPicPr>
        <p:blipFill>
          <a:blip r:embed="rId1"/>
          <a:srcRect l="0" t="0" r="69341" b="22563"/>
          <a:stretch/>
        </p:blipFill>
        <p:spPr>
          <a:xfrm>
            <a:off x="723960" y="304920"/>
            <a:ext cx="3370320" cy="640080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4381560" y="990720"/>
            <a:ext cx="5638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 QDEC Table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st of Subje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st of Factors (Discrete and Cont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ose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ose Input (cached)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sure (eg, thickn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oothing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yz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ilds Design Matri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ilds Contrast Matri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tructs Human-Readable Ques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yz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lays Resul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qdec-display.jpg"/>
          <p:cNvPicPr/>
          <p:nvPr/>
        </p:nvPicPr>
        <p:blipFill>
          <a:blip r:embed="rId1"/>
          <a:stretch/>
        </p:blipFill>
        <p:spPr>
          <a:xfrm>
            <a:off x="1104840" y="163440"/>
            <a:ext cx="723924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qdec-results2.jpg"/>
          <p:cNvPicPr/>
          <p:nvPr/>
        </p:nvPicPr>
        <p:blipFill>
          <a:blip r:embed="rId1"/>
          <a:stretch/>
        </p:blipFill>
        <p:spPr>
          <a:xfrm>
            <a:off x="952560" y="228600"/>
            <a:ext cx="855648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81536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alse Discovery Rate (FDR) – built into tksurfer. (Genovese, et al, NI 2002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-bas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onte Carlo simulation.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ermutation Te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urface Gaussian Random Fields (GRF) – coming “soon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uster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ulate data under Null Hypothesi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ynthesize Gaussian noise and then smooth (Monte Carlo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ermute rows of design matrix (Permutation, orthog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, threshold, cluster, max cluster siz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peat 10000 tim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 real data, get cluster siz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(cluster) = #MaxClusterSize &gt; ClusterSize/10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160640" y="4429080"/>
            <a:ext cx="6580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mri_glmfit …. –sim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nulltype nsim thresh csdbasename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nulltype: perm, mc-full, mc-z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nsim: 10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thresh: vertex-wise threshold (-log10(p)), eg, p=.01, thresh=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csdbasename: file to save cluster simulation data (CSD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mri_surfcluster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2360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actica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333080" y="182880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ickness study of agin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40 subjec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ge and Gend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eate QDEC table and level fi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lay with dat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4728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F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57680" y="2514600"/>
            <a:ext cx="3352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  0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00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  0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5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 15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0  1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0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0  1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0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71680" y="1295280"/>
            <a:ext cx="51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486080" y="3200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X 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494360" y="4549680"/>
            <a:ext cx="45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  0       0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621800" y="5715000"/>
            <a:ext cx="677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#Regressors = Nv+Nc = 3+2=5 </a:t>
            </a: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Fewer regressors than D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OF = #Rows - #Regresso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29600" y="220968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Male Cla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104840" y="1752480"/>
            <a:ext cx="15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emale Cla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2400480" y="2362320"/>
            <a:ext cx="609480" cy="152280"/>
            <a:chOff x="2400480" y="2362320"/>
            <a:chExt cx="609480" cy="152280"/>
          </a:xfrm>
        </p:grpSpPr>
        <p:sp>
          <p:nvSpPr>
            <p:cNvPr id="668" name=""/>
            <p:cNvSpPr/>
            <p:nvPr/>
          </p:nvSpPr>
          <p:spPr>
            <a:xfrm>
              <a:off x="3009960" y="2362320"/>
              <a:ext cx="0" cy="15228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400480" y="236232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2781360" y="1981080"/>
            <a:ext cx="609480" cy="533520"/>
            <a:chOff x="2781360" y="1981080"/>
            <a:chExt cx="609480" cy="533520"/>
          </a:xfrm>
        </p:grpSpPr>
        <p:sp>
          <p:nvSpPr>
            <p:cNvPr id="671" name=""/>
            <p:cNvSpPr/>
            <p:nvPr/>
          </p:nvSpPr>
          <p:spPr>
            <a:xfrm>
              <a:off x="3390840" y="1981080"/>
              <a:ext cx="0" cy="53352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781360" y="198108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4077000" y="1981080"/>
            <a:ext cx="609480" cy="533520"/>
            <a:chOff x="4077000" y="1981080"/>
            <a:chExt cx="609480" cy="533520"/>
          </a:xfrm>
        </p:grpSpPr>
        <p:sp>
          <p:nvSpPr>
            <p:cNvPr id="674" name=""/>
            <p:cNvSpPr/>
            <p:nvPr/>
          </p:nvSpPr>
          <p:spPr>
            <a:xfrm>
              <a:off x="4077000" y="1981080"/>
              <a:ext cx="0" cy="53352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4077000" y="198108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4818240" y="176688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ge for Males and Fema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185880" y="4738680"/>
            <a:ext cx="31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ame test, different vect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287200" y="380880"/>
            <a:ext cx="1032480" cy="1800360"/>
          </a:xfrm>
          <a:prstGeom prst="rect">
            <a:avLst/>
          </a:prstGeom>
          <a:noFill/>
          <a:ln w="38160">
            <a:solidFill>
              <a:srgbClr val="fd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781360" y="533520"/>
            <a:ext cx="38390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09760" y="1371600"/>
            <a:ext cx="70102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pecify Subjects and Surface measur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and Contrasts (GL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28280" y="0"/>
            <a:ext cx="6944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ter-Subject Averag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9480" y="1447920"/>
            <a:ext cx="1886040" cy="1673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657520" y="2133720"/>
            <a:ext cx="68580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57520" y="4191120"/>
            <a:ext cx="68580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257880" y="1828800"/>
            <a:ext cx="599760" cy="701640"/>
            <a:chOff x="6257880" y="1828800"/>
            <a:chExt cx="599760" cy="701640"/>
          </a:xfrm>
        </p:grpSpPr>
        <p:sp>
          <p:nvSpPr>
            <p:cNvPr id="61" name=""/>
            <p:cNvSpPr/>
            <p:nvPr/>
          </p:nvSpPr>
          <p:spPr>
            <a:xfrm>
              <a:off x="6257880" y="1951200"/>
              <a:ext cx="599760" cy="457200"/>
            </a:xfrm>
            <a:prstGeom prst="ellipse">
              <a:avLst/>
            </a:prstGeom>
            <a:noFill/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91360" y="1828800"/>
              <a:ext cx="1843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943680" y="2133720"/>
            <a:ext cx="60012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400720" y="2514240"/>
            <a:ext cx="942840" cy="16765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00720" y="2133720"/>
            <a:ext cx="77148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72680" y="3200400"/>
            <a:ext cx="0" cy="91440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542960" y="5334120"/>
            <a:ext cx="85320" cy="609120"/>
            <a:chOff x="1542960" y="5334120"/>
            <a:chExt cx="85320" cy="609120"/>
          </a:xfrm>
        </p:grpSpPr>
        <p:sp>
          <p:nvSpPr>
            <p:cNvPr id="68" name=""/>
            <p:cNvSpPr/>
            <p:nvPr/>
          </p:nvSpPr>
          <p:spPr>
            <a:xfrm>
              <a:off x="1542960" y="5334120"/>
              <a:ext cx="8532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42960" y="5562360"/>
              <a:ext cx="8532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42960" y="5790960"/>
              <a:ext cx="8532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286160" y="5334120"/>
            <a:ext cx="85320" cy="609120"/>
            <a:chOff x="4286160" y="5334120"/>
            <a:chExt cx="85320" cy="609120"/>
          </a:xfrm>
        </p:grpSpPr>
        <p:sp>
          <p:nvSpPr>
            <p:cNvPr id="72" name=""/>
            <p:cNvSpPr/>
            <p:nvPr/>
          </p:nvSpPr>
          <p:spPr>
            <a:xfrm>
              <a:off x="4286160" y="5334120"/>
              <a:ext cx="8532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86160" y="5562360"/>
              <a:ext cx="8532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6160" y="5790960"/>
              <a:ext cx="8532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 rot="16200000">
            <a:off x="-317880" y="195696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ubject 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-432360" y="401436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ubject 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28880" y="990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83160" y="8380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pheric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97960" y="9144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pheric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42720" y="533412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urface-to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urfa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54000" y="327672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urface-to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urfa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71680" y="1523880"/>
            <a:ext cx="2095200" cy="127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390840" y="1371600"/>
            <a:ext cx="1905120" cy="1768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71680" y="3581280"/>
            <a:ext cx="2095200" cy="127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390840" y="3352680"/>
            <a:ext cx="1905120" cy="176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7734240" y="4191120"/>
            <a:ext cx="1836720" cy="1904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54600" y="1143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L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0036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ecifying Subjec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99920" y="3581280"/>
            <a:ext cx="1447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er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09960" y="1676520"/>
            <a:ext cx="4648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$SUBJECTS_DIR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90640" y="3505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red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19440" y="3505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jenn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24560" y="3505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argaret   …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638000" y="23623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162240" y="2362320"/>
            <a:ext cx="1828800" cy="10666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762080" y="2362320"/>
            <a:ext cx="22860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91040" y="2362320"/>
            <a:ext cx="213372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19040" y="4114800"/>
            <a:ext cx="2219400" cy="990000"/>
            <a:chOff x="419040" y="4114800"/>
            <a:chExt cx="2219400" cy="990000"/>
          </a:xfrm>
        </p:grpSpPr>
        <p:sp>
          <p:nvSpPr>
            <p:cNvPr id="99" name=""/>
            <p:cNvSpPr/>
            <p:nvPr/>
          </p:nvSpPr>
          <p:spPr>
            <a:xfrm>
              <a:off x="1540800" y="4114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9040" y="4609800"/>
              <a:ext cx="22194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2388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0896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986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8832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376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3932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52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90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384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543480" y="4038480"/>
            <a:ext cx="2219040" cy="990000"/>
            <a:chOff x="3543480" y="4038480"/>
            <a:chExt cx="2219040" cy="990000"/>
          </a:xfrm>
        </p:grpSpPr>
        <p:sp>
          <p:nvSpPr>
            <p:cNvPr id="111" name=""/>
            <p:cNvSpPr/>
            <p:nvPr/>
          </p:nvSpPr>
          <p:spPr>
            <a:xfrm>
              <a:off x="4664880" y="4038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43480" y="4533480"/>
              <a:ext cx="22190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47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330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230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127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978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637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296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434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6252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286680" y="4038480"/>
            <a:ext cx="2219040" cy="990000"/>
            <a:chOff x="6286680" y="4038480"/>
            <a:chExt cx="2219040" cy="990000"/>
          </a:xfrm>
        </p:grpSpPr>
        <p:sp>
          <p:nvSpPr>
            <p:cNvPr id="123" name=""/>
            <p:cNvSpPr/>
            <p:nvPr/>
          </p:nvSpPr>
          <p:spPr>
            <a:xfrm>
              <a:off x="7408080" y="4038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86680" y="4533480"/>
              <a:ext cx="22190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2911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762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662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55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410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06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728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866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0572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 flipH="1">
            <a:off x="2836800" y="4038480"/>
            <a:ext cx="20880" cy="13338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14680" y="5372280"/>
            <a:ext cx="221904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195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35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939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843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868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353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0016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1468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337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5360" y="3429000"/>
            <a:ext cx="2057400" cy="83808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280" y="1752480"/>
            <a:ext cx="457200" cy="16002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040" y="114768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bject I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0036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eeSurfer Directory Tre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990720"/>
            <a:ext cx="921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r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m    label    morp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r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rgb  scripts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r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tiff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lab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ig    T1    brain     wm     aseg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942840" y="1371600"/>
            <a:ext cx="7972200" cy="914400"/>
            <a:chOff x="942840" y="1371600"/>
            <a:chExt cx="7972200" cy="914400"/>
          </a:xfrm>
        </p:grpSpPr>
        <p:sp>
          <p:nvSpPr>
            <p:cNvPr id="151" name=""/>
            <p:cNvSpPr/>
            <p:nvPr/>
          </p:nvSpPr>
          <p:spPr>
            <a:xfrm>
              <a:off x="4971960" y="13716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42840" y="1828800"/>
              <a:ext cx="79722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435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7208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5788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332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718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719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713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428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9150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 flipV="1">
            <a:off x="857160" y="2666880"/>
            <a:ext cx="342900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400480" y="2666880"/>
            <a:ext cx="19713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514680" y="2666880"/>
            <a:ext cx="8571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71840" y="2666880"/>
            <a:ext cx="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71840" y="2666880"/>
            <a:ext cx="11145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14200" y="5602320"/>
            <a:ext cx="5374440" cy="45972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BJECTS_DIR environment vari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2666880"/>
            <a:ext cx="0" cy="121932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9480" y="4419720"/>
            <a:ext cx="135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whi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whi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00880" y="4471920"/>
            <a:ext cx="18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12000" y="4495680"/>
            <a:ext cx="203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lh.sphere.r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sphere.r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286680" y="3885840"/>
            <a:ext cx="85716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43680" y="3885840"/>
            <a:ext cx="197136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24760" y="3886200"/>
            <a:ext cx="111420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801280" y="2666880"/>
            <a:ext cx="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15880" y="3124080"/>
            <a:ext cx="257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aparc_an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 aparc_an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52720" y="91440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bject I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448240" y="1219320"/>
            <a:ext cx="289584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Measur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62040" y="18288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rphometric (eg, thickness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nction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E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EG/EE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iffusion (?) sampled just under the surf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381560" y="4648320"/>
            <a:ext cx="2257200" cy="1371600"/>
            <a:chOff x="4381560" y="4648320"/>
            <a:chExt cx="2257200" cy="137160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4381560" y="4648320"/>
              <a:ext cx="22572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262560" y="5545800"/>
              <a:ext cx="322200" cy="3164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048440" y="4495680"/>
            <a:ext cx="2067120" cy="1843200"/>
          </a:xfrm>
          <a:prstGeom prst="rect">
            <a:avLst/>
          </a:prstGeom>
          <a:ln w="28440">
            <a:solidFill>
              <a:srgbClr val="cba033"/>
            </a:solidFill>
            <a:miter/>
          </a:ln>
        </p:spPr>
      </p:pic>
      <p:sp>
        <p:nvSpPr>
          <p:cNvPr id="185" name=""/>
          <p:cNvSpPr/>
          <p:nvPr/>
        </p:nvSpPr>
        <p:spPr>
          <a:xfrm flipV="1">
            <a:off x="6591240" y="4495680"/>
            <a:ext cx="457200" cy="1067040"/>
          </a:xfrm>
          <a:prstGeom prst="line">
            <a:avLst/>
          </a:prstGeom>
          <a:ln w="28440">
            <a:solidFill>
              <a:srgbClr val="cba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91240" y="5867280"/>
            <a:ext cx="457200" cy="457200"/>
          </a:xfrm>
          <a:prstGeom prst="line">
            <a:avLst/>
          </a:prstGeom>
          <a:ln w="28440">
            <a:solidFill>
              <a:srgbClr val="cba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720440" y="533520"/>
            <a:ext cx="59698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Manual” 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09760" y="1371600"/>
            <a:ext cx="754380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 (mris_prepro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ache In/Out with –cache-xxx opti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and Contrasts (GLM) (FSG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 (mri_glmfit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 (tksurfer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23:11:17Z</dcterms:created>
  <dc:creator>marc burock</dc:creator>
  <dc:description/>
  <cp:keywords/>
  <dc:language>en-US</dc:language>
  <cp:lastModifiedBy>greve</cp:lastModifiedBy>
  <dcterms:modified xsi:type="dcterms:W3CDTF">2002-01-08T12:57:04Z</dcterms:modified>
  <cp:revision>697</cp:revision>
  <dc:subject/>
  <dc:title>Understanding Differential Responses in fMRI Through Linear Simulation</dc:title>
</cp:coreProperties>
</file>