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288588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381560" y="646128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Applying FreeSurfer Tools to FSL fMRI Analysis                                                 </a:t>
            </a:r>
            <a:fld id="{AAE69C89-54AE-49D9-8F57-85D143A401A3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28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grating FreeSurfer and FSL FE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2476440" y="2895480"/>
            <a:ext cx="4809960" cy="811440"/>
            <a:chOff x="2476440" y="2895480"/>
            <a:chExt cx="4809960" cy="811440"/>
          </a:xfrm>
        </p:grpSpPr>
        <p:pic>
          <p:nvPicPr>
            <p:cNvPr id="41" name="" descr=""/>
            <p:cNvPicPr/>
            <p:nvPr/>
          </p:nvPicPr>
          <p:blipFill>
            <a:blip r:embed="rId1"/>
            <a:stretch/>
          </p:blipFill>
          <p:spPr>
            <a:xfrm>
              <a:off x="3286080" y="2895480"/>
              <a:ext cx="400032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2476440" y="2905200"/>
              <a:ext cx="7491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57400" y="0"/>
            <a:ext cx="6943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6671" t="18981" r="4545" b="5111"/>
          <a:stretch/>
        </p:blipFill>
        <p:spPr>
          <a:xfrm>
            <a:off x="1200240" y="990720"/>
            <a:ext cx="2914560" cy="2590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71720" y="1752480"/>
            <a:ext cx="771480" cy="60984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20045" t="13876" r="2626" b="33415"/>
          <a:stretch/>
        </p:blipFill>
        <p:spPr>
          <a:xfrm>
            <a:off x="4629240" y="914400"/>
            <a:ext cx="4543200" cy="284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2865" t="16651" r="2626" b="19539"/>
          <a:stretch/>
        </p:blipFill>
        <p:spPr>
          <a:xfrm>
            <a:off x="4971960" y="3657600"/>
            <a:ext cx="4629240" cy="28684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457280" y="3809880"/>
            <a:ext cx="2657520" cy="2590920"/>
            <a:chOff x="1457280" y="3809880"/>
            <a:chExt cx="2657520" cy="259092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1457280" y="3809880"/>
              <a:ext cx="26575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328480" y="4764240"/>
              <a:ext cx="798480" cy="6814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086520" y="1981080"/>
            <a:ext cx="771480" cy="60984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43560" y="4876920"/>
            <a:ext cx="1028880" cy="8380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60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ewing FEAT Stats on the Surfa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760" y="1219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tksurfer bert rh infl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-o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erlay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 ./f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.feat/stats/</a:t>
            </a:r>
            <a:r>
              <a:rPr b="0" lang="pl-PL" sz="2400" spc="-1" strike="noStrike">
                <a:solidFill>
                  <a:srgbClr val="fd1414"/>
                </a:solidFill>
                <a:latin typeface="Times New Roman"/>
              </a:rPr>
              <a:t>zstat1.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nii.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-overlay-reg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./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nat2exf.register.d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fthresh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.3 -fmid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.3 -fslop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201080" y="3200400"/>
            <a:ext cx="2651040" cy="2738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195680" y="2743200"/>
            <a:ext cx="26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sual, Auditory, Mo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68680" y="4114800"/>
            <a:ext cx="38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 display any functional data, eg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zstat, fzstat, cope, pe, et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pping Automatic Segment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157" t="10413" r="9517" b="14584"/>
          <a:stretch/>
        </p:blipFill>
        <p:spPr>
          <a:xfrm>
            <a:off x="3314880" y="1219320"/>
            <a:ext cx="3124080" cy="2743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36600" y="5203800"/>
            <a:ext cx="85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$FREESURFER_HOME/FreeSurferColorsLUT.tx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9040" y="1219320"/>
            <a:ext cx="2568600" cy="26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19840" y="1219320"/>
            <a:ext cx="2568600" cy="2666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97960" y="3962520"/>
            <a:ext cx="247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parc+aseg.mg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72800" y="4038480"/>
            <a:ext cx="219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aparc.a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54000" y="396252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eg.mg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pping Automatic Segment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680" y="1295280"/>
            <a:ext cx="6095880" cy="459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aseg2feat --feat fbert.fea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–aseg aparc+ase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680" y="1905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 the functional FOV, create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seg+aparc.nii.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640" y="3352680"/>
            <a:ext cx="784872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Create Text Summary Table (nvox, mean cope, std cope, etc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segstats --seg fbert1.feat/reg/freesurfer/</a:t>
            </a:r>
            <a:r>
              <a:rPr b="0" lang="en" sz="2400" spc="-1" strike="noStrike">
                <a:solidFill>
                  <a:srgbClr val="fc0128"/>
                </a:solidFill>
                <a:latin typeface="Times New Roman"/>
              </a:rPr>
              <a:t>aparc+aseg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nii.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nonempty --ctab-default --in fbert.feat/stats/</a:t>
            </a:r>
            <a:r>
              <a:rPr b="0" lang="en" sz="2400" spc="-1" strike="noStrike">
                <a:solidFill>
                  <a:srgbClr val="fc0128"/>
                </a:solidFill>
                <a:latin typeface="Times New Roman"/>
              </a:rPr>
              <a:t>cope1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nii.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m </a:t>
            </a:r>
            <a:r>
              <a:rPr b="0" lang="en" sz="2400" spc="-1" strike="noStrike">
                <a:solidFill>
                  <a:srgbClr val="fc0128"/>
                </a:solidFill>
                <a:latin typeface="Times New Roman"/>
              </a:rPr>
              <a:t>fbert1.sum.txt</a:t>
            </a:r>
            <a:r>
              <a:rPr b="0" lang="e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9360" y="5257800"/>
            <a:ext cx="42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 summarize any functional data, eg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zstat, fzstat, cope, pe, et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ke and View RO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3080" y="3886200"/>
            <a:ext cx="6476760" cy="16185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kmedit bert orig.mgz -aux brain.m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overlay ./fbert1.feat/reg/freesurfer/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lh.putamen.nii.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overlay-reg ./fbert1.feat/reg/freesurfer/anat2exf.register.da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fthresh 0.5  -seg aparc+aseg.m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48440" y="1066680"/>
            <a:ext cx="2641680" cy="2743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89240" y="1295280"/>
            <a:ext cx="582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ke a binary mask of the left putame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ote: 12 = Left Putamen,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e $FREESURFER_HOME/FreeSurferColorsLUT.tx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slmath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./fbert1.feat/reg/freesurfer/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aparc+aseg.nii.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thr 12 -uthr 12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./fbert1.feat/reg/freesurfer/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lh.putamen.nii.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ithin-Subject, Cross-Run An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8880" y="144792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each run with FEAT (dataX.feat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 runs with GFEAT (standard space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ean_func.nii.gz – avg of example_func in std spa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er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each run (not .gfeat)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with reg-feat2anat.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ataX.feat/reg/freesurfer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anat2std.register.da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ll runs (X) should be very clos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3440" y="411480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erify the regist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kregister2 –mov data.gfeat/mean_func.nii.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reg anat2std.register.dat --sur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5320" y="5562720"/>
            <a:ext cx="94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Use anat2std.register.dat the way you would anat2exf.register.da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3080" y="989280"/>
            <a:ext cx="952488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mris_preproc --out lh.cope1.nii.gz --target fsaverage --hemi lh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--iv f</a:t>
            </a:r>
            <a:r>
              <a:rPr b="0" lang="en" sz="2200" spc="-1" strike="noStrike">
                <a:solidFill>
                  <a:srgbClr val="fc0128"/>
                </a:solidFill>
                <a:latin typeface="Times New Roman"/>
              </a:rPr>
              <a:t>bert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stats/cope1.nii.gz    f</a:t>
            </a:r>
            <a:r>
              <a:rPr b="0" lang="en" sz="2200" spc="-1" strike="noStrike">
                <a:solidFill>
                  <a:srgbClr val="fc0128"/>
                </a:solidFill>
                <a:latin typeface="Times New Roman"/>
              </a:rPr>
              <a:t>bert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reg/freesurfer/anat2exf.register.dat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--iv f</a:t>
            </a:r>
            <a:r>
              <a:rPr b="0" lang="en" sz="2200" spc="-1" strike="noStrike">
                <a:solidFill>
                  <a:srgbClr val="00ff00"/>
                </a:solidFill>
                <a:latin typeface="Times New Roman"/>
              </a:rPr>
              <a:t>greg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stats/cope1.nii.gz   f</a:t>
            </a:r>
            <a:r>
              <a:rPr b="0" lang="en" sz="2200" spc="-1" strike="noStrike">
                <a:solidFill>
                  <a:srgbClr val="00ff00"/>
                </a:solidFill>
                <a:latin typeface="Times New Roman"/>
              </a:rPr>
              <a:t>greg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reg/freesurfer/anat2exf.register.dat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--iv f</a:t>
            </a:r>
            <a:r>
              <a:rPr b="0" lang="en" sz="2200" spc="-1" strike="noStrike">
                <a:solidFill>
                  <a:srgbClr val="dc0081"/>
                </a:solidFill>
                <a:latin typeface="Times New Roman"/>
              </a:rPr>
              <a:t>sally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stats/cope1.nii.gz   f</a:t>
            </a:r>
            <a:r>
              <a:rPr b="0" lang="en" sz="2200" spc="-1" strike="noStrike">
                <a:solidFill>
                  <a:srgbClr val="dc0081"/>
                </a:solidFill>
                <a:latin typeface="Times New Roman"/>
              </a:rPr>
              <a:t>sally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reg/freesurfer/anat2exf.register.dat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--iv f</a:t>
            </a:r>
            <a:r>
              <a:rPr b="0" lang="en" sz="2200" spc="-1" strike="noStrike">
                <a:solidFill>
                  <a:srgbClr val="da68ff"/>
                </a:solidFill>
                <a:latin typeface="Times New Roman"/>
              </a:rPr>
              <a:t>pat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stats/cope1.nii.gz      f</a:t>
            </a:r>
            <a:r>
              <a:rPr b="0" lang="en" sz="2200" spc="-1" strike="noStrike">
                <a:solidFill>
                  <a:srgbClr val="da68ff"/>
                </a:solidFill>
                <a:latin typeface="Times New Roman"/>
              </a:rPr>
              <a:t>pat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reg/freesurfer/anat2exf.register.dat</a:t>
            </a: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0360" y="4419720"/>
            <a:ext cx="99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h.cope1.nii.gz – “volume-encoded surface file”:  dim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1974 x 1 x 83 = 163842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dim nframes = number of su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an map any functional data, eg, zstat, fzstat, cope, pe, et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fsaverage – defines common space (spherical surface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glmfit (FreeSurfer),  randomise (FSL),  flame (FSL),  melodic (FSL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44000" y="36576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Volum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94880" y="365760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egist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52760" y="2971440"/>
            <a:ext cx="0" cy="685800"/>
          </a:xfrm>
          <a:prstGeom prst="line">
            <a:avLst/>
          </a:prstGeom>
          <a:ln w="763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58080" y="3047760"/>
            <a:ext cx="0" cy="685800"/>
          </a:xfrm>
          <a:prstGeom prst="line">
            <a:avLst/>
          </a:prstGeom>
          <a:ln w="763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actical Dat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3600" y="12193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nsory-motor study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locked Design (15sec OFF, 15 sec ON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subject – “bert”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runs (TR=3, 85 time poin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EAT has been run on both runs (FWHM=5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d with GFEA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F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-Sample Group Mean (OSGM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ctually, all analysis steps already performed!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-251"/>
          <a:stretch/>
        </p:blipFill>
        <p:spPr>
          <a:xfrm>
            <a:off x="8191440" y="3733920"/>
            <a:ext cx="1470240" cy="2666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18455" t="17777" r="19269" b="31110"/>
          <a:stretch/>
        </p:blipFill>
        <p:spPr>
          <a:xfrm>
            <a:off x="7734240" y="3049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rcRect l="2872" t="22262" r="2275" b="22087"/>
          <a:stretch/>
        </p:blipFill>
        <p:spPr>
          <a:xfrm>
            <a:off x="7505640" y="2209680"/>
            <a:ext cx="2514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360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actica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3600" y="1219320"/>
            <a:ext cx="94489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utomatic registration (&lt;5 min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FEAT results on subject’s anatomy (aparc+aseg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FEAT results with 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p aparc+aseg to Functional Spa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erify GFEAT regist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GFEAT results in volume and on surfa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igher-Level” analysis with mri_glmfi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ross-Ru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ixed-Effects (FFX), One-Sample Group Mean (osgm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71000" y="53352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52560" y="1600200"/>
            <a:ext cx="83818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gistering FEAT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FreeSurfer Anatomic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utomatic (FLIR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 (tkregister2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ewing FEAT output on Anatomic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FEAT output on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dividu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mmon Surface Space (Atlas/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saverage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pping FreeSurfer Segmentations to FE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roup Analy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028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52560" y="121932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24760" y="121140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52560" y="350532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124760" y="3506760"/>
            <a:ext cx="2203560" cy="228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1680" y="838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reeSurfer Anatomical (ori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36560" y="76212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emplate Function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076640" y="121932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076640" y="3514680"/>
            <a:ext cx="2203560" cy="228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67760" y="5881680"/>
            <a:ext cx="912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Note: Registering the template functional volume to the anatomical volume is suffici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to register the template to the surface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00480" y="609480"/>
            <a:ext cx="496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760" y="1905120"/>
            <a:ext cx="3200400" cy="264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bject-Specifi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olu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62640" y="1828800"/>
            <a:ext cx="3581640" cy="2282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our Data/Softwar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MRI (FSL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EG/M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T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8680" y="2514600"/>
            <a:ext cx="2666880" cy="1066680"/>
          </a:xfrm>
          <a:prstGeom prst="leftRightArrow">
            <a:avLst>
              <a:gd name="adj1" fmla="val 50000"/>
              <a:gd name="adj2" fmla="val 49772"/>
            </a:avLst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45280" y="4343400"/>
            <a:ext cx="491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ration Matri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ffine 4x4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 many as 12 DOF (usually 6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ext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utomatic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828440"/>
            <a:ext cx="7162920" cy="6094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-feat2anat –featdir fbert1.feat –subject ber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49320" y="2505240"/>
            <a:ext cx="56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s FLIRT to perform 6DOF registra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bert1.feat/example_func.nii.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$SUBJECTS_DIR/bert/mri/brainmask.m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41400" y="3789360"/>
            <a:ext cx="62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reates FreeSurfer registration matrix: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nat2exf.register.d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0080" y="6189840"/>
            <a:ext cx="29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reg-feat2anat --hel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08280" y="109368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First: analyze your data with FEAT (No Smoothing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73080" y="4737240"/>
            <a:ext cx="77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lso creates:  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nat2std.register.d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s matrix maps standard space to anatomical space and can be used when combining data within subject across data se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38360" y="2676600"/>
            <a:ext cx="5019480" cy="3467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81960" y="114300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581960" y="3505320"/>
            <a:ext cx="2203560" cy="2287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52560" y="617220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tkregister2 --hel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18800" y="1143000"/>
            <a:ext cx="422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eg-feat2anat –feat fbert.feat --manu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sually inspect registr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nually edit registration (6 DOF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f Manual Talairach registr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0280" y="1519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2189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igid = 6 DOF = No stretch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 CSF to get a sense of where the folds a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B0 distortion reg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ventric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Warning about “edge” of the bra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353360" y="4038480"/>
            <a:ext cx="2203560" cy="2287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53360" y="1752480"/>
            <a:ext cx="2203560" cy="2287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324160" y="419112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533840" y="4191120"/>
            <a:ext cx="2203560" cy="2287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743880" y="2057400"/>
            <a:ext cx="914400" cy="38088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43880" y="2057400"/>
            <a:ext cx="1143000" cy="27432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1400" y="3429000"/>
            <a:ext cx="43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ame Subject, Left-Right Flip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38960" y="2895480"/>
            <a:ext cx="3303360" cy="342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Viewing Functional Activation on the Volum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204840" y="1143000"/>
            <a:ext cx="858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kmedit bert orig.mgz -aux brain.m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overlay ./fbert1.feat/stats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zstat1.nii.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overlay-reg ./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nat2exf.register.d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fthresh 2.3 –fmax 4.3  -seg aparc+aseg.m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1560" y="3657600"/>
            <a:ext cx="47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s depend on the nature of the data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for zstat image, 2.3 means z &gt; 2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 be changed with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Functional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14440" y="2438280"/>
            <a:ext cx="26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sual, Auditory, Mo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20" y="5324400"/>
            <a:ext cx="38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 display any functional data, eg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zstat, fzstat, cope, pe, et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57400" y="0"/>
            <a:ext cx="6943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15080" y="533520"/>
            <a:ext cx="4872960" cy="4495680"/>
            <a:chOff x="4915080" y="533520"/>
            <a:chExt cx="4872960" cy="44956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4915080" y="533520"/>
              <a:ext cx="487296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 flipV="1">
              <a:off x="7915320" y="1752480"/>
              <a:ext cx="257040" cy="4572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88120" y="144792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White/Gray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45760" y="14479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ial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57680" y="1752480"/>
              <a:ext cx="1028520" cy="533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85800" y="685800"/>
            <a:ext cx="2914200" cy="2590920"/>
            <a:chOff x="685800" y="685800"/>
            <a:chExt cx="2914200" cy="2590920"/>
          </a:xfrm>
        </p:grpSpPr>
        <p:pic>
          <p:nvPicPr>
            <p:cNvPr id="96" name="" descr=""/>
            <p:cNvPicPr/>
            <p:nvPr/>
          </p:nvPicPr>
          <p:blipFill>
            <a:blip r:embed="rId2"/>
            <a:srcRect l="16671" t="18981" r="4545" b="5111"/>
            <a:stretch/>
          </p:blipFill>
          <p:spPr>
            <a:xfrm>
              <a:off x="685800" y="685800"/>
              <a:ext cx="29142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456920" y="1447920"/>
              <a:ext cx="771120" cy="6094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71480" y="3581280"/>
            <a:ext cx="3138120" cy="2895840"/>
            <a:chOff x="771480" y="3581280"/>
            <a:chExt cx="3138120" cy="289584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771480" y="3581280"/>
              <a:ext cx="313812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800000" y="4648320"/>
              <a:ext cx="942840" cy="76176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152960" y="5105520"/>
            <a:ext cx="531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White/Gr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i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Half W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5334120"/>
            <a:ext cx="3171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rojection Fra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-projfrac 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Douglas Greve</dc:creator>
  <dc:description/>
  <cp:keywords/>
  <dc:language>en-US</dc:language>
  <cp:lastModifiedBy>greve</cp:lastModifiedBy>
  <dcterms:modified xsi:type="dcterms:W3CDTF">2008-07-21T22:26:15Z</dcterms:modified>
  <cp:revision>579</cp:revision>
  <dc:subject/>
  <dc:title>Function-Structure Integration in FreeSurfer</dc:title>
</cp:coreProperties>
</file>