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10288588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901440" y="700200"/>
            <a:ext cx="51958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01800" y="70020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001160" y="658332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D04C-F331-4FD3-B6F9-57C30C60F3F3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1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380520"/>
            <a:ext cx="9086760" cy="20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 FreeSurfer </a:t>
            </a:r>
            <a:br>
              <a:rPr sz="4000"/>
            </a:b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857680" y="5486400"/>
            <a:ext cx="4809960" cy="810720"/>
            <a:chOff x="2857680" y="5486400"/>
            <a:chExt cx="4809960" cy="81072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3667320" y="5486400"/>
              <a:ext cx="4000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857680" y="5495760"/>
              <a:ext cx="749160" cy="80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772080" y="1752480"/>
            <a:ext cx="2739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728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680" y="1752480"/>
            <a:ext cx="9448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ray Matter-to-Gray Matter (it’s all gray matter!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yrus-to-Gyrus and Sulcus-to-Sulcus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ome minor folding patterns won’t line u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lly automated, no landmarking need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tlas registration is probabilistic, most variable regions get less weight.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one automatically in recon-all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7280" y="-24660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LM Theory: Design Matrix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52760" y="1143000"/>
            <a:ext cx="5003280" cy="2990880"/>
            <a:chOff x="2552760" y="1143000"/>
            <a:chExt cx="5003280" cy="2990880"/>
          </a:xfrm>
        </p:grpSpPr>
        <p:sp>
          <p:nvSpPr>
            <p:cNvPr id="198" name=""/>
            <p:cNvSpPr/>
            <p:nvPr/>
          </p:nvSpPr>
          <p:spPr>
            <a:xfrm>
              <a:off x="2629440" y="1400040"/>
              <a:ext cx="7156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74960" y="1143000"/>
              <a:ext cx="2809800" cy="28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G1    G2       G1*Age    G2*A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20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25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30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18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2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35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552760" y="1460520"/>
              <a:ext cx="74520" cy="2666160"/>
              <a:chOff x="2552760" y="1460520"/>
              <a:chExt cx="74520" cy="2666160"/>
            </a:xfrm>
          </p:grpSpPr>
          <p:sp>
            <p:nvSpPr>
              <p:cNvPr id="201" name=""/>
              <p:cNvSpPr/>
              <p:nvPr/>
            </p:nvSpPr>
            <p:spPr>
              <a:xfrm>
                <a:off x="2569680" y="146052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552760" y="41266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52760" y="1460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3771720" y="1460520"/>
              <a:ext cx="74520" cy="2666160"/>
              <a:chOff x="3771720" y="1460520"/>
              <a:chExt cx="74520" cy="2666160"/>
            </a:xfrm>
          </p:grpSpPr>
          <p:sp>
            <p:nvSpPr>
              <p:cNvPr id="205" name=""/>
              <p:cNvSpPr/>
              <p:nvPr/>
            </p:nvSpPr>
            <p:spPr>
              <a:xfrm>
                <a:off x="3788640" y="146052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71720" y="41266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71720" y="1460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6896160" y="1476360"/>
              <a:ext cx="659880" cy="1800360"/>
              <a:chOff x="6896160" y="1476360"/>
              <a:chExt cx="659880" cy="1800360"/>
            </a:xfrm>
          </p:grpSpPr>
          <p:sp>
            <p:nvSpPr>
              <p:cNvPr id="209" name=""/>
              <p:cNvSpPr/>
              <p:nvPr/>
            </p:nvSpPr>
            <p:spPr>
              <a:xfrm>
                <a:off x="6921000" y="1476360"/>
                <a:ext cx="63504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6896160" y="1530360"/>
                <a:ext cx="74520" cy="1698120"/>
                <a:chOff x="6896160" y="1530360"/>
                <a:chExt cx="74520" cy="16981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913080" y="1530360"/>
                  <a:ext cx="0" cy="16981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896160" y="3228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896160" y="153036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7430400" y="1530720"/>
                <a:ext cx="74520" cy="1698120"/>
                <a:chOff x="7430400" y="1530720"/>
                <a:chExt cx="74520" cy="1698120"/>
              </a:xfrm>
            </p:grpSpPr>
            <p:sp>
              <p:nvSpPr>
                <p:cNvPr id="215" name=""/>
                <p:cNvSpPr/>
                <p:nvPr/>
              </p:nvSpPr>
              <p:spPr>
                <a:xfrm flipV="1">
                  <a:off x="7488000" y="1530720"/>
                  <a:ext cx="0" cy="16981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7430400" y="15307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7430400" y="3228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8" name=""/>
            <p:cNvGrpSpPr/>
            <p:nvPr/>
          </p:nvGrpSpPr>
          <p:grpSpPr>
            <a:xfrm>
              <a:off x="6297120" y="1461240"/>
              <a:ext cx="74520" cy="2666160"/>
              <a:chOff x="6297120" y="1461240"/>
              <a:chExt cx="74520" cy="2666160"/>
            </a:xfrm>
          </p:grpSpPr>
          <p:sp>
            <p:nvSpPr>
              <p:cNvPr id="219" name=""/>
              <p:cNvSpPr/>
              <p:nvPr/>
            </p:nvSpPr>
            <p:spPr>
              <a:xfrm flipV="1">
                <a:off x="6354720" y="146124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297120" y="14612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297120" y="41274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3241440" y="1461240"/>
              <a:ext cx="76320" cy="2672640"/>
              <a:chOff x="3241440" y="1461240"/>
              <a:chExt cx="76320" cy="2672640"/>
            </a:xfrm>
          </p:grpSpPr>
          <p:sp>
            <p:nvSpPr>
              <p:cNvPr id="223" name=""/>
              <p:cNvSpPr/>
              <p:nvPr/>
            </p:nvSpPr>
            <p:spPr>
              <a:xfrm flipV="1">
                <a:off x="3300120" y="1461240"/>
                <a:ext cx="0" cy="2672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3241440" y="146124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241440" y="413388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3294720" y="251136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69120" y="11872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631600" y="4167360"/>
            <a:ext cx="73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    Design Matrix       Regression Coefficien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07200" y="4805280"/>
            <a:ext cx="272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60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6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7280" y="-24660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LM Theory: Contras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552760" y="1143000"/>
            <a:ext cx="5003280" cy="2990880"/>
            <a:chOff x="2552760" y="1143000"/>
            <a:chExt cx="5003280" cy="2990880"/>
          </a:xfrm>
        </p:grpSpPr>
        <p:sp>
          <p:nvSpPr>
            <p:cNvPr id="232" name=""/>
            <p:cNvSpPr/>
            <p:nvPr/>
          </p:nvSpPr>
          <p:spPr>
            <a:xfrm>
              <a:off x="2629440" y="1400040"/>
              <a:ext cx="7156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74960" y="1143000"/>
              <a:ext cx="2809800" cy="28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G1    G2       G1*Age    G2*A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20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25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30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18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2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35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2552760" y="1460520"/>
              <a:ext cx="74520" cy="2666160"/>
              <a:chOff x="2552760" y="1460520"/>
              <a:chExt cx="74520" cy="2666160"/>
            </a:xfrm>
          </p:grpSpPr>
          <p:sp>
            <p:nvSpPr>
              <p:cNvPr id="235" name=""/>
              <p:cNvSpPr/>
              <p:nvPr/>
            </p:nvSpPr>
            <p:spPr>
              <a:xfrm>
                <a:off x="2569680" y="146052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52760" y="41266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52760" y="1460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3771720" y="1460520"/>
              <a:ext cx="74520" cy="2666160"/>
              <a:chOff x="3771720" y="1460520"/>
              <a:chExt cx="74520" cy="2666160"/>
            </a:xfrm>
          </p:grpSpPr>
          <p:sp>
            <p:nvSpPr>
              <p:cNvPr id="239" name=""/>
              <p:cNvSpPr/>
              <p:nvPr/>
            </p:nvSpPr>
            <p:spPr>
              <a:xfrm>
                <a:off x="3788640" y="146052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71720" y="41266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71720" y="1460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6896160" y="1476360"/>
              <a:ext cx="659880" cy="1800360"/>
              <a:chOff x="6896160" y="1476360"/>
              <a:chExt cx="659880" cy="1800360"/>
            </a:xfrm>
          </p:grpSpPr>
          <p:sp>
            <p:nvSpPr>
              <p:cNvPr id="243" name=""/>
              <p:cNvSpPr/>
              <p:nvPr/>
            </p:nvSpPr>
            <p:spPr>
              <a:xfrm>
                <a:off x="6921000" y="1476360"/>
                <a:ext cx="63504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896160" y="1530360"/>
                <a:ext cx="74520" cy="1698120"/>
                <a:chOff x="6896160" y="1530360"/>
                <a:chExt cx="74520" cy="16981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913080" y="1530360"/>
                  <a:ext cx="0" cy="16981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896160" y="3228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896160" y="153036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7430400" y="1530720"/>
                <a:ext cx="74520" cy="1698120"/>
                <a:chOff x="7430400" y="1530720"/>
                <a:chExt cx="74520" cy="1698120"/>
              </a:xfrm>
            </p:grpSpPr>
            <p:sp>
              <p:nvSpPr>
                <p:cNvPr id="249" name=""/>
                <p:cNvSpPr/>
                <p:nvPr/>
              </p:nvSpPr>
              <p:spPr>
                <a:xfrm flipV="1">
                  <a:off x="7488000" y="1530720"/>
                  <a:ext cx="0" cy="16981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>
                  <a:off x="7430400" y="15307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7430400" y="3228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6297120" y="1461240"/>
              <a:ext cx="74520" cy="2666160"/>
              <a:chOff x="6297120" y="1461240"/>
              <a:chExt cx="74520" cy="266616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6354720" y="146124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297120" y="14612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6297120" y="41274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3241440" y="1461240"/>
              <a:ext cx="76320" cy="2672640"/>
              <a:chOff x="3241440" y="1461240"/>
              <a:chExt cx="76320" cy="267264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3300120" y="1461240"/>
                <a:ext cx="0" cy="2672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3241440" y="146124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3241440" y="413388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294720" y="251136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69120" y="11872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147760" y="4343400"/>
            <a:ext cx="725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Grou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= [1 -1      0    0]   Group diff=0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06800" y="5181480"/>
            <a:ext cx="7385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Ag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=   [0  0    0.5 0.5]  Mean slope=0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80880" y="5943600"/>
            <a:ext cx="885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GroupXAg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=   [0  0    +1   -1] Group/Age InterX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7280" y="-3052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ertex-wise Analysis and Inferenc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5720" y="914400"/>
            <a:ext cx="2713680" cy="1739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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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=C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152960" y="914400"/>
                <a:ext cx="44956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∗</m:t>
                        </m:r>
                        <m:r>
                          <m:t xml:space="preserve">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83360" y="2649600"/>
            <a:ext cx="67262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p-value/significan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alue between 0 and 1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oser to 0 means more significan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FreeSurfer stores p-values as –log10(p)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.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1,  0.0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.mgh fil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ned by sign of </a:t>
            </a: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-value is for an unsigned tes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012920" y="533520"/>
            <a:ext cx="1394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Need: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09760" y="1371600"/>
            <a:ext cx="70102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 (Design Matrix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 (Contrast Matrix or Matrices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y (Data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612520" y="533520"/>
            <a:ext cx="42033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pecifying X and C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09760" y="1371600"/>
            <a:ext cx="7010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nually create X – text edito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nually create C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SGD file – text edito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reeSurfer creates 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nually create C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QDEC – spread sheet, etc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reeSurfer creates X and C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Group Descriptor (FSGD) Fil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7640" y="160020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mple text file (ascii, clear tex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ist of all subjects in the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ccompanying demographic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7280" y="-206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81160" y="990720"/>
            <a:ext cx="6705720" cy="2819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5000"/>
          </a:bodyPr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Age  Weight   IQ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0      100 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5      150   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      20      200   2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      25      250   2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81160" y="4191120"/>
            <a:ext cx="7620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ne Discrete Factor (Gender) with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ree Continuous Variables: Age, Weight, IQ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36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X (Automatic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658332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pl-PL" sz="1200" spc="-1" strike="noStrike">
                <a:solidFill>
                  <a:srgbClr val="fd1414"/>
                </a:solidFill>
                <a:latin typeface="Times New Roman"/>
              </a:rPr>
              <a:t>D</a:t>
            </a: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1200" spc="-1" strike="noStrike">
                <a:solidFill>
                  <a:srgbClr val="fd1414"/>
                </a:solidFill>
                <a:latin typeface="Times New Roman"/>
              </a:rPr>
              <a:t>Different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99760" y="411480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0     0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rot="5400000">
            <a:off x="3070800" y="443412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92840" y="4890960"/>
            <a:ext cx="60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intercept/offset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951480" y="914400"/>
            <a:ext cx="8382960" cy="3218040"/>
            <a:chOff x="951480" y="914400"/>
            <a:chExt cx="8382960" cy="3218040"/>
          </a:xfrm>
        </p:grpSpPr>
        <p:sp>
          <p:nvSpPr>
            <p:cNvPr id="284" name=""/>
            <p:cNvSpPr/>
            <p:nvPr/>
          </p:nvSpPr>
          <p:spPr>
            <a:xfrm>
              <a:off x="2781360" y="1752480"/>
              <a:ext cx="65530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1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 1000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20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0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5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951480" y="914400"/>
              <a:ext cx="7771320" cy="3218040"/>
              <a:chOff x="951480" y="914400"/>
              <a:chExt cx="7771320" cy="3218040"/>
            </a:xfrm>
          </p:grpSpPr>
          <p:sp>
            <p:nvSpPr>
              <p:cNvPr id="286" name=""/>
              <p:cNvSpPr/>
              <p:nvPr/>
            </p:nvSpPr>
            <p:spPr>
              <a:xfrm>
                <a:off x="1409760" y="2438280"/>
                <a:ext cx="99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afd00"/>
                    </a:solidFill>
                    <a:latin typeface="Times New Roman"/>
                  </a:rPr>
                  <a:t>X =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951480" y="1447560"/>
                <a:ext cx="141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026720" y="990360"/>
                <a:ext cx="164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2324160" y="1600200"/>
                <a:ext cx="609480" cy="152280"/>
                <a:chOff x="2324160" y="1600200"/>
                <a:chExt cx="609480" cy="1522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293364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32416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2705040" y="1218960"/>
                <a:ext cx="609480" cy="533520"/>
                <a:chOff x="2705040" y="1218960"/>
                <a:chExt cx="609480" cy="5335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3314520" y="12189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705040" y="1218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457880" y="1600200"/>
                <a:ext cx="609480" cy="152280"/>
                <a:chOff x="4457880" y="1600200"/>
                <a:chExt cx="609480" cy="1522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45788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445788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000680" y="1152360"/>
                <a:ext cx="609480" cy="533520"/>
                <a:chOff x="4000680" y="1152360"/>
                <a:chExt cx="609480" cy="5335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000680" y="11523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>
                  <a:off x="4000680" y="11523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5067000" y="1371600"/>
                <a:ext cx="148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*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610160" y="914400"/>
                <a:ext cx="125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*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628720" y="1752480"/>
                <a:ext cx="74520" cy="2057040"/>
                <a:chOff x="2628720" y="1752480"/>
                <a:chExt cx="74520" cy="20570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64564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62872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62872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8648280" y="1752480"/>
                <a:ext cx="74520" cy="2057040"/>
                <a:chOff x="8648280" y="1752480"/>
                <a:chExt cx="74520" cy="20570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870588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864828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>
                  <a:off x="864828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3619440" y="190476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38760" y="198108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91240" y="2057400"/>
                <a:ext cx="0" cy="16761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19640" y="365760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Weight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001400" y="37335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6720" y="365760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IQ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1500120" y="5334120"/>
            <a:ext cx="73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 0  0    -1   1 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rot="5400000">
            <a:off x="4197240" y="551628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25240" y="6019920"/>
            <a:ext cx="55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age slope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9440" y="4038480"/>
            <a:ext cx="790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afd00"/>
                </a:solidFill>
                <a:latin typeface="Times New Roman"/>
              </a:rPr>
              <a:t>{</a:t>
            </a:r>
            <a:endParaRPr b="0" lang="en-US" sz="10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6200000">
            <a:off x="-333720" y="465048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Manual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Terminolog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77320" y="1143000"/>
            <a:ext cx="76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Continuous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Age, IQ, Volume, et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76600" y="1905120"/>
            <a:ext cx="868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Discrete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Gender, Handedness, Diagnos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vels of Discrete 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andedness: Left and 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ender: Male and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iagnosis: Normal, MCI, A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annot specify Discrete Factors in FSG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00280" y="4686480"/>
            <a:ext cx="783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Group or Clas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Specification of All Discrete Factor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ft-handed Male MC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ight-handed Female Norma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23280" y="45720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600200"/>
            <a:ext cx="701028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LM Theory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SGD File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ertex-wise Analysi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/Automated GUI (QDE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umber of Regressor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7640" y="129528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ach Group/Class: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Intercept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Slope (for each continuous variabl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NRegressors = NClasses*(NVariables+1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ta (y): Thickness Stud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29600" y="2033640"/>
            <a:ext cx="710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62040" y="114300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3080" y="1828800"/>
            <a:ext cx="9943920" cy="29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fsgd    FSGDFil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: Specify subjects thru FSGD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hemi  l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             : Process left 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meas thicknes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: $SUBJECTS_DIR/subjectid/surf/hemi.thickn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target fs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: common space is subject fs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o lh.thickness.mg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: output “volume-encoded surface fil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Lots of other options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ssemble Data: mris_preproc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9040" y="1057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d1414"/>
                </a:solidFill>
                <a:latin typeface="Times New Roman"/>
              </a:rPr>
              <a:t>mris_preproc --help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3280" y="5029200"/>
            <a:ext cx="7916760" cy="1068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h.thickness.mgh – file with thickness maps for all subjects 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Input to Smoother or GL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5760" y="6324480"/>
            <a:ext cx="29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e also: recon-all -qcach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33440" y="304560"/>
            <a:ext cx="69436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patial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9920" y="1752480"/>
            <a:ext cx="9249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Why should you smooth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ight Improve CN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mprove intersubject registration (functional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How much smoothing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lob-s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ypically 10-20 mm FWHM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 smoothing more forgiving than volume-bas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Volum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00880" y="11430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ing is averaging of nearby voxel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525920" cy="555444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1090440" y="1198440"/>
            <a:ext cx="2896920" cy="3299040"/>
            <a:chOff x="1090440" y="1198440"/>
            <a:chExt cx="2896920" cy="3299040"/>
          </a:xfrm>
        </p:grpSpPr>
        <p:grpSp>
          <p:nvGrpSpPr>
            <p:cNvPr id="343" name=""/>
            <p:cNvGrpSpPr/>
            <p:nvPr/>
          </p:nvGrpSpPr>
          <p:grpSpPr>
            <a:xfrm>
              <a:off x="1090440" y="1600200"/>
              <a:ext cx="2896920" cy="2897280"/>
              <a:chOff x="1090440" y="1600200"/>
              <a:chExt cx="2896920" cy="2897280"/>
            </a:xfrm>
          </p:grpSpPr>
          <p:sp>
            <p:nvSpPr>
              <p:cNvPr id="344" name=""/>
              <p:cNvSpPr/>
              <p:nvPr/>
            </p:nvSpPr>
            <p:spPr>
              <a:xfrm>
                <a:off x="1814040" y="2324160"/>
                <a:ext cx="1447200" cy="144792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2347200" y="2857680"/>
                <a:ext cx="380880" cy="380880"/>
                <a:chOff x="2347200" y="2857680"/>
                <a:chExt cx="380880" cy="3808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2347200" y="3048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V="1">
                  <a:off x="2537640" y="2857680"/>
                  <a:ext cx="0" cy="380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1090440" y="1600200"/>
                <a:ext cx="2896920" cy="289728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1927440" y="1981080"/>
              <a:ext cx="156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7mm FWH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21880" y="1198440"/>
              <a:ext cx="16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14mm FWH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Volum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524560" y="15238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5 mm apart in 3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25 mm apart on surface!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Kernel much larg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ing with other tissue types (WM, CS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ing with other functional area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525920" cy="555444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2308320" y="2857680"/>
            <a:ext cx="380880" cy="380880"/>
            <a:chOff x="2308320" y="2857680"/>
            <a:chExt cx="380880" cy="380880"/>
          </a:xfrm>
        </p:grpSpPr>
        <p:sp>
          <p:nvSpPr>
            <p:cNvPr id="356" name=""/>
            <p:cNvSpPr/>
            <p:nvPr/>
          </p:nvSpPr>
          <p:spPr>
            <a:xfrm>
              <a:off x="2308320" y="3048120"/>
              <a:ext cx="3808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498760" y="2857680"/>
              <a:ext cx="0" cy="3808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050840" y="1600200"/>
            <a:ext cx="2897280" cy="28972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62040" y="2514600"/>
            <a:ext cx="380880" cy="380880"/>
            <a:chOff x="1562040" y="2514600"/>
            <a:chExt cx="380880" cy="380880"/>
          </a:xfrm>
        </p:grpSpPr>
        <p:sp>
          <p:nvSpPr>
            <p:cNvPr id="360" name=""/>
            <p:cNvSpPr/>
            <p:nvPr/>
          </p:nvSpPr>
          <p:spPr>
            <a:xfrm>
              <a:off x="1562040" y="2705040"/>
              <a:ext cx="3808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752480" y="2514600"/>
              <a:ext cx="0" cy="3808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939960" y="2743200"/>
            <a:ext cx="1536480" cy="2019240"/>
          </a:xfrm>
          <a:custGeom>
            <a:avLst/>
            <a:gdLst/>
            <a:ahLst/>
            <a:rect l="l" t="t" r="r" b="b"/>
            <a:pathLst>
              <a:path w="968" h="1272">
                <a:moveTo>
                  <a:pt x="488" y="0"/>
                </a:moveTo>
                <a:cubicBezTo>
                  <a:pt x="488" y="164"/>
                  <a:pt x="488" y="328"/>
                  <a:pt x="440" y="432"/>
                </a:cubicBezTo>
                <a:cubicBezTo>
                  <a:pt x="392" y="536"/>
                  <a:pt x="272" y="536"/>
                  <a:pt x="200" y="624"/>
                </a:cubicBezTo>
                <a:cubicBezTo>
                  <a:pt x="128" y="712"/>
                  <a:pt x="16" y="856"/>
                  <a:pt x="8" y="960"/>
                </a:cubicBezTo>
                <a:cubicBezTo>
                  <a:pt x="0" y="1064"/>
                  <a:pt x="64" y="1224"/>
                  <a:pt x="152" y="1248"/>
                </a:cubicBezTo>
                <a:cubicBezTo>
                  <a:pt x="240" y="1272"/>
                  <a:pt x="448" y="1184"/>
                  <a:pt x="536" y="1104"/>
                </a:cubicBezTo>
                <a:cubicBezTo>
                  <a:pt x="624" y="1024"/>
                  <a:pt x="632" y="872"/>
                  <a:pt x="680" y="768"/>
                </a:cubicBezTo>
                <a:cubicBezTo>
                  <a:pt x="728" y="664"/>
                  <a:pt x="776" y="576"/>
                  <a:pt x="824" y="480"/>
                </a:cubicBezTo>
                <a:cubicBezTo>
                  <a:pt x="872" y="384"/>
                  <a:pt x="920" y="288"/>
                  <a:pt x="968" y="192"/>
                </a:cubicBezTo>
              </a:path>
            </a:pathLst>
          </a:custGeom>
          <a:noFill/>
          <a:ln w="57240">
            <a:solidFill>
              <a:srgbClr val="04e3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98560" y="120636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4mm FWHM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4480" y="3770280"/>
            <a:ext cx="4597200" cy="3017520"/>
            <a:chOff x="114480" y="3770280"/>
            <a:chExt cx="4597200" cy="3017520"/>
          </a:xfrm>
        </p:grpSpPr>
        <p:pic>
          <p:nvPicPr>
            <p:cNvPr id="366" name="" descr=""/>
            <p:cNvPicPr/>
            <p:nvPr/>
          </p:nvPicPr>
          <p:blipFill>
            <a:blip r:embed="rId1"/>
            <a:stretch/>
          </p:blipFill>
          <p:spPr>
            <a:xfrm>
              <a:off x="1079640" y="3770280"/>
              <a:ext cx="25070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248760" y="5820120"/>
              <a:ext cx="170928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uperior tempo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9880" y="626796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64440" y="5833800"/>
              <a:ext cx="91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alcarin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81720" y="3932280"/>
              <a:ext cx="73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ent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5720" y="5299920"/>
              <a:ext cx="76896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lvia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357640" y="4161960"/>
              <a:ext cx="517680" cy="346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3354840" y="5604120"/>
              <a:ext cx="373680" cy="35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830240" y="5332320"/>
              <a:ext cx="603720" cy="590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948600" y="5070600"/>
              <a:ext cx="958680" cy="39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4480" y="4680360"/>
              <a:ext cx="115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an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44480" y="513000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286680" y="3886200"/>
            <a:ext cx="2438280" cy="22654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341640" y="320040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heet: 2D Coordinate System (X,Y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46080" y="3200400"/>
            <a:ext cx="46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e: 2D Coordinate System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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486080" y="4343400"/>
            <a:ext cx="533160" cy="533520"/>
            <a:chOff x="1486080" y="4343400"/>
            <a:chExt cx="533160" cy="533520"/>
          </a:xfrm>
        </p:grpSpPr>
        <p:sp>
          <p:nvSpPr>
            <p:cNvPr id="382" name=""/>
            <p:cNvSpPr/>
            <p:nvPr/>
          </p:nvSpPr>
          <p:spPr>
            <a:xfrm>
              <a:off x="1619280" y="4476600"/>
              <a:ext cx="266400" cy="26676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717200" y="4574880"/>
              <a:ext cx="69840" cy="69840"/>
              <a:chOff x="1717200" y="4574880"/>
              <a:chExt cx="69840" cy="69840"/>
            </a:xfrm>
          </p:grpSpPr>
          <p:sp>
            <p:nvSpPr>
              <p:cNvPr id="384" name=""/>
              <p:cNvSpPr/>
              <p:nvPr/>
            </p:nvSpPr>
            <p:spPr>
              <a:xfrm>
                <a:off x="1717200" y="4609800"/>
                <a:ext cx="69840" cy="0"/>
              </a:xfrm>
              <a:prstGeom prst="line">
                <a:avLst/>
              </a:prstGeom>
              <a:ln w="57240">
                <a:solidFill>
                  <a:srgbClr val="04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1752120" y="4574880"/>
                <a:ext cx="0" cy="69840"/>
              </a:xfrm>
              <a:prstGeom prst="line">
                <a:avLst/>
              </a:prstGeom>
              <a:ln w="57240">
                <a:solidFill>
                  <a:srgbClr val="1004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1486080" y="4343400"/>
              <a:ext cx="533160" cy="53352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7124760" y="4800600"/>
            <a:ext cx="533520" cy="533520"/>
            <a:chOff x="7124760" y="4800600"/>
            <a:chExt cx="533520" cy="533520"/>
          </a:xfrm>
        </p:grpSpPr>
        <p:sp>
          <p:nvSpPr>
            <p:cNvPr id="388" name=""/>
            <p:cNvSpPr/>
            <p:nvPr/>
          </p:nvSpPr>
          <p:spPr>
            <a:xfrm>
              <a:off x="7257960" y="4933800"/>
              <a:ext cx="266400" cy="26676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7356240" y="5032080"/>
              <a:ext cx="70200" cy="69840"/>
              <a:chOff x="7356240" y="5032080"/>
              <a:chExt cx="70200" cy="69840"/>
            </a:xfrm>
          </p:grpSpPr>
          <p:sp>
            <p:nvSpPr>
              <p:cNvPr id="390" name=""/>
              <p:cNvSpPr/>
              <p:nvPr/>
            </p:nvSpPr>
            <p:spPr>
              <a:xfrm>
                <a:off x="7356240" y="5067000"/>
                <a:ext cx="70200" cy="0"/>
              </a:xfrm>
              <a:prstGeom prst="line">
                <a:avLst/>
              </a:prstGeom>
              <a:ln w="57240">
                <a:solidFill>
                  <a:srgbClr val="04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7391160" y="5032080"/>
                <a:ext cx="0" cy="69840"/>
              </a:xfrm>
              <a:prstGeom prst="line">
                <a:avLst/>
              </a:prstGeom>
              <a:ln w="57240">
                <a:solidFill>
                  <a:srgbClr val="1004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7124760" y="4800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-266760" y="99072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ing is averaging of nearby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vert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4535640" y="837720"/>
            <a:ext cx="5486040" cy="2210040"/>
            <a:chOff x="4535640" y="837720"/>
            <a:chExt cx="5486040" cy="2210040"/>
          </a:xfrm>
        </p:grpSpPr>
        <p:grpSp>
          <p:nvGrpSpPr>
            <p:cNvPr id="395" name=""/>
            <p:cNvGrpSpPr/>
            <p:nvPr/>
          </p:nvGrpSpPr>
          <p:grpSpPr>
            <a:xfrm>
              <a:off x="4535640" y="1020960"/>
              <a:ext cx="2615760" cy="1644480"/>
              <a:chOff x="4535640" y="1020960"/>
              <a:chExt cx="2615760" cy="1644480"/>
            </a:xfrm>
          </p:grpSpPr>
          <p:pic>
            <p:nvPicPr>
              <p:cNvPr id="39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35640" y="1020960"/>
                <a:ext cx="2615760" cy="16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6715080" y="2096640"/>
                <a:ext cx="373680" cy="37980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398" name="" descr=""/>
            <p:cNvPicPr/>
            <p:nvPr/>
          </p:nvPicPr>
          <p:blipFill>
            <a:blip r:embed="rId4"/>
            <a:stretch/>
          </p:blipFill>
          <p:spPr>
            <a:xfrm>
              <a:off x="7626240" y="838080"/>
              <a:ext cx="2395440" cy="220968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399" name=""/>
            <p:cNvSpPr/>
            <p:nvPr/>
          </p:nvSpPr>
          <p:spPr>
            <a:xfrm flipV="1">
              <a:off x="7096320" y="837720"/>
              <a:ext cx="529560" cy="127908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96320" y="2482560"/>
              <a:ext cx="529560" cy="54792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Smooth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23600" y="16761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ri_surf2surf --hel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oads lh.thickness.mgh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D surface-based smoothing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FWHM (eg, fwhm = 10 m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ves lh.thickness.sm10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an be slow (~10-60min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con-all -qcach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stimation and Inference: 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0800" y="13712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FSGD File and constructs X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your contrasts (C1, C2, etc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oads data (y=lh.thickness.sm10.mgh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its GLM (ie, computes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putes contrasts (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=C*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 or F ratios, significances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gnificance -log10(p) (.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2, .0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3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3080" y="1737360"/>
            <a:ext cx="4876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y lh.thickness.sm10.mgh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fsgd gender_age.tx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C </a:t>
            </a:r>
            <a:r>
              <a:rPr b="0" lang="en" sz="28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.mat –C </a:t>
            </a:r>
            <a:r>
              <a:rPr b="0" lang="en" sz="28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.ma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surf fsaverage l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corte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" sz="28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214600" y="1676520"/>
            <a:ext cx="4650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Creates: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beta.mgh –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rvar.mgh – residual error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etc …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, uncorrec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9040" y="601884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mri_glmfit --hel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2280" y="3352680"/>
            <a:ext cx="4647960" cy="76212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95960" y="1905120"/>
            <a:ext cx="2870280" cy="297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00280" y="763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Study (Thicknes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0" name="" descr="scatter_plot.jpg"/>
          <p:cNvPicPr/>
          <p:nvPr/>
        </p:nvPicPr>
        <p:blipFill>
          <a:blip r:embed="rId2"/>
          <a:stretch/>
        </p:blipFill>
        <p:spPr>
          <a:xfrm>
            <a:off x="952560" y="1523880"/>
            <a:ext cx="3647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7640" y="-12384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00880" y="5562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ew-&gt;Configure-&gt;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13" name="" descr="group_results.jpg"/>
          <p:cNvPicPr/>
          <p:nvPr/>
        </p:nvPicPr>
        <p:blipFill>
          <a:blip r:embed="rId1"/>
          <a:stretch/>
        </p:blipFill>
        <p:spPr>
          <a:xfrm>
            <a:off x="190440" y="790560"/>
            <a:ext cx="3463920" cy="54799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configure_overlay.jpg"/>
          <p:cNvPicPr/>
          <p:nvPr/>
        </p:nvPicPr>
        <p:blipFill>
          <a:blip r:embed="rId2"/>
          <a:stretch/>
        </p:blipFill>
        <p:spPr>
          <a:xfrm>
            <a:off x="5676840" y="914400"/>
            <a:ext cx="2624040" cy="45752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590544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5143680" y="1904760"/>
            <a:ext cx="838080" cy="19810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30760" y="1233360"/>
            <a:ext cx="128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hreshold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2=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9616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7429680" y="1523880"/>
            <a:ext cx="1447560" cy="22860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493840" y="533520"/>
            <a:ext cx="15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aturation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5=.000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972480" y="4800600"/>
            <a:ext cx="685800" cy="38088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572680" y="2819520"/>
            <a:ext cx="114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icove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7505640" y="4114440"/>
            <a:ext cx="1295640" cy="6858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3080" y="62485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le-&gt;Load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7640" y="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22440" y="5486400"/>
            <a:ext cx="34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-&gt;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ad Group Descriptor File …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28" name="" descr="scatter_plot.jpg"/>
          <p:cNvPicPr/>
          <p:nvPr/>
        </p:nvPicPr>
        <p:blipFill>
          <a:blip r:embed="rId1"/>
          <a:stretch/>
        </p:blipFill>
        <p:spPr>
          <a:xfrm>
            <a:off x="4381560" y="1066680"/>
            <a:ext cx="3806640" cy="41148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group_results.jpg"/>
          <p:cNvPicPr/>
          <p:nvPr/>
        </p:nvPicPr>
        <p:blipFill>
          <a:blip r:embed="rId2"/>
          <a:stretch/>
        </p:blipFill>
        <p:spPr>
          <a:xfrm>
            <a:off x="114480" y="990720"/>
            <a:ext cx="34639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blem of Multiple Compariso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rcRect l="11224" t="13511" r="10229" b="9897"/>
          <a:stretch/>
        </p:blipFill>
        <p:spPr>
          <a:xfrm>
            <a:off x="190440" y="1371600"/>
            <a:ext cx="3162240" cy="320040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432" name="" descr=""/>
          <p:cNvPicPr/>
          <p:nvPr/>
        </p:nvPicPr>
        <p:blipFill>
          <a:blip r:embed="rId2"/>
          <a:srcRect l="11274" t="13491" r="10186" b="9987"/>
          <a:stretch/>
        </p:blipFill>
        <p:spPr>
          <a:xfrm>
            <a:off x="3527280" y="1371600"/>
            <a:ext cx="3160800" cy="319896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433" name="" descr=""/>
          <p:cNvPicPr/>
          <p:nvPr/>
        </p:nvPicPr>
        <p:blipFill>
          <a:blip r:embed="rId3"/>
          <a:srcRect l="11274" t="13491" r="10186" b="9987"/>
          <a:stretch/>
        </p:blipFill>
        <p:spPr>
          <a:xfrm>
            <a:off x="6864480" y="1371600"/>
            <a:ext cx="3159000" cy="319392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sp>
        <p:nvSpPr>
          <p:cNvPr id="434" name=""/>
          <p:cNvSpPr/>
          <p:nvPr/>
        </p:nvSpPr>
        <p:spPr>
          <a:xfrm>
            <a:off x="11059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10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777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01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4240" y="4559400"/>
            <a:ext cx="17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10</a:t>
            </a:r>
            <a:r>
              <a:rPr b="0" lang="en-US" sz="4000" spc="-1" strike="noStrike" baseline="30000">
                <a:solidFill>
                  <a:srgbClr val="fafd00"/>
                </a:solidFill>
                <a:latin typeface="Times New Roman"/>
              </a:rPr>
              <a:t>-7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-bas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onte Carlo simulation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ermutation Te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 Gaussian Random Fields (GRF)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-21240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ere but not fully test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alse Discovery Rate (FDR) – built into tksurfer and QDEC. (Genovese, et al, NI 2002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lustering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28880" y="8380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hoose a vertex-wise threshold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g, 2 (p&lt;.01), or 3 (p&lt;.001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gn (pos, neg, ab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 cluster is a group of connected (neighboring) vertices above threshol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 has a size (area in mm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41" name="" descr="groupana.lat.cor.th2.gif"/>
          <p:cNvPicPr/>
          <p:nvPr/>
        </p:nvPicPr>
        <p:blipFill>
          <a:blip r:embed="rId1"/>
          <a:stretch/>
        </p:blipFill>
        <p:spPr>
          <a:xfrm>
            <a:off x="3530520" y="3657600"/>
            <a:ext cx="3200400" cy="23083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groupana.lat.clusters.gif"/>
          <p:cNvPicPr/>
          <p:nvPr/>
        </p:nvPicPr>
        <p:blipFill>
          <a:blip r:embed="rId2"/>
          <a:stretch/>
        </p:blipFill>
        <p:spPr>
          <a:xfrm>
            <a:off x="6997680" y="3657600"/>
            <a:ext cx="3289320" cy="22147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groupana.lat.uncor.th2.gif"/>
          <p:cNvPicPr/>
          <p:nvPr/>
        </p:nvPicPr>
        <p:blipFill>
          <a:blip r:embed="rId3"/>
          <a:stretch/>
        </p:blipFill>
        <p:spPr>
          <a:xfrm>
            <a:off x="419040" y="3733920"/>
            <a:ext cx="3048120" cy="21826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098000" y="5867280"/>
            <a:ext cx="224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1 (-log10(p)=2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87840" y="586728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001 (-log10(p)=4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uster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ulate data under Null Hypothesi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ynthesize Gaussian noise and then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smooth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(Monte Carlo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ermute rows of design matrix (Permutation, orthog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, threshold, cluster, max cluster siz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peat 10,000 tim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 real data, get cluster siz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(cluster) = #MaxClusterSize &gt; ClusterSize/10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1680" y="510552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rcRect l="1690" t="15238" r="1690" b="952"/>
          <a:stretch/>
        </p:blipFill>
        <p:spPr>
          <a:xfrm>
            <a:off x="4533840" y="4041720"/>
            <a:ext cx="48006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210680" y="231840"/>
            <a:ext cx="70149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mmand-line 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9360" y="1371600"/>
            <a:ext cx="944856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(X, FSGD) and Contrasts (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 (mris_prepro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 (mri_surf2surf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 (mri_glmfi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 (mri_glmfit-si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 (tksurfer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12760" y="58500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econ-all -qcach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576720" y="304920"/>
            <a:ext cx="875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An Interactive Statistical Engine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00280" y="1066680"/>
            <a:ext cx="92962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Query – Select subjects based on Match Criter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 – Specify discrete and continuous factor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stimate – Fit Mod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rast – Automatically Generat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 – Makes easy things easy (that used to be har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work in progr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 Query y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Discrete Factors (Two Level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Continuous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urface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402640" y="304920"/>
            <a:ext cx="40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DEC – Spreadshe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7640" y="1833840"/>
            <a:ext cx="8915400" cy="22284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sid                        gender     age    diagnosis         Left-Cerebral-White-Matter-V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1121_vc8048    Female     70     Demented                    202291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62313-2   Female     71    Demented                     21018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0607_vc7017    Female     73    Nondemented               170653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vc10557  Male        75     Demented                     142029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718_62545      Male        76     Demented                     186087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322_vc8817    Male        77      Nondemented              14981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9040" y="1295280"/>
            <a:ext cx="84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dec.table.dat – spreadsheet with subject information – spreadsheet can be huge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28880" y="4958280"/>
            <a:ext cx="114300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Male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74440" y="44956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der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90840" y="4958280"/>
            <a:ext cx="190512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Demented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Nondemen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12360" y="449568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00480" y="1828800"/>
            <a:ext cx="121896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76640" y="1828800"/>
            <a:ext cx="121932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562040" y="2209680"/>
            <a:ext cx="1067040" cy="23623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4076280" y="2133720"/>
            <a:ext cx="228600" cy="23619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43560" y="481500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rete Factors need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torname.level fi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Tutorial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reate an FSGD File for a thickness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ge and Gend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un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s_prepro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surf2surf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ksurf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same data s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Meas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62040" y="18288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rphometric (eg, thickness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nction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E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EG/EE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iffusion (?) sampled just under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381560" y="4495680"/>
            <a:ext cx="4734000" cy="1843200"/>
            <a:chOff x="4381560" y="4495680"/>
            <a:chExt cx="4734000" cy="1843200"/>
          </a:xfrm>
        </p:grpSpPr>
        <p:grpSp>
          <p:nvGrpSpPr>
            <p:cNvPr id="94" name=""/>
            <p:cNvGrpSpPr/>
            <p:nvPr/>
          </p:nvGrpSpPr>
          <p:grpSpPr>
            <a:xfrm>
              <a:off x="4381560" y="4648320"/>
              <a:ext cx="2257200" cy="1371600"/>
              <a:chOff x="4381560" y="4648320"/>
              <a:chExt cx="2257200" cy="1371600"/>
            </a:xfrm>
          </p:grpSpPr>
          <p:pic>
            <p:nvPicPr>
              <p:cNvPr id="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81560" y="4648320"/>
                <a:ext cx="22572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6262560" y="5545800"/>
                <a:ext cx="322200" cy="31644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7048440" y="4495680"/>
              <a:ext cx="2067120" cy="184320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98" name=""/>
            <p:cNvSpPr/>
            <p:nvPr/>
          </p:nvSpPr>
          <p:spPr>
            <a:xfrm flipV="1">
              <a:off x="6591240" y="4495680"/>
              <a:ext cx="457200" cy="106704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91240" y="5867280"/>
              <a:ext cx="457200" cy="45720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FSGD 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28880" y="2895480"/>
            <a:ext cx="6858000" cy="35053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         Age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Left           1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Right         1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Right     2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Left       2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48520" y="5715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76240" y="9144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8000"/>
          </a:bodyPr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ne Continuous Variable: Ag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teraction Contras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1680" y="3429000"/>
            <a:ext cx="3886200" cy="2819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7000"/>
          </a:bodyPr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040" y="8380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2000"/>
          </a:bodyPr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 (no continuous, for now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our Regressors (Offset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M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6364080" y="1295280"/>
            <a:ext cx="2642760" cy="2608560"/>
            <a:chOff x="6364080" y="1295280"/>
            <a:chExt cx="2642760" cy="2608560"/>
          </a:xfrm>
        </p:grpSpPr>
        <p:sp>
          <p:nvSpPr>
            <p:cNvPr id="477" name=""/>
            <p:cNvSpPr/>
            <p:nvPr/>
          </p:nvSpPr>
          <p:spPr>
            <a:xfrm flipV="1">
              <a:off x="7581600" y="1665000"/>
              <a:ext cx="914400" cy="4032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6667200" y="1523880"/>
              <a:ext cx="2057400" cy="2058840"/>
              <a:chOff x="6667200" y="1523880"/>
              <a:chExt cx="2057400" cy="2058840"/>
            </a:xfrm>
          </p:grpSpPr>
          <p:sp>
            <p:nvSpPr>
              <p:cNvPr id="479" name=""/>
              <p:cNvSpPr/>
              <p:nvPr/>
            </p:nvSpPr>
            <p:spPr>
              <a:xfrm>
                <a:off x="6895800" y="1523880"/>
                <a:ext cx="0" cy="20588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667200" y="3352320"/>
                <a:ext cx="20574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 flipV="1">
              <a:off x="7581600" y="2699640"/>
              <a:ext cx="838440" cy="22860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05640" y="28954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05640" y="20570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96000" y="1599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20040" y="26668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54440" y="350496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45160" y="3504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64440" y="2819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64080" y="19047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31240" y="274284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655480" y="12952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502840" y="236196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07560" y="17524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529480" y="1676160"/>
              <a:ext cx="0" cy="380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62880" y="2742840"/>
              <a:ext cx="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503200" y="266688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503200" y="167616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448240" y="3809880"/>
            <a:ext cx="4419360" cy="2894760"/>
            <a:chOff x="5448240" y="3809880"/>
            <a:chExt cx="4419360" cy="2894760"/>
          </a:xfrm>
        </p:grpSpPr>
        <p:sp>
          <p:nvSpPr>
            <p:cNvPr id="499" name=""/>
            <p:cNvSpPr/>
            <p:nvPr/>
          </p:nvSpPr>
          <p:spPr>
            <a:xfrm>
              <a:off x="5448240" y="3971520"/>
              <a:ext cx="4419360" cy="27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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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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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-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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C = [-1 +1 +1 -1]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11880" y="38098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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4728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57680" y="2514600"/>
            <a:ext cx="3352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0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 1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1680" y="1295280"/>
            <a:ext cx="51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486080" y="3200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X 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94360" y="4549680"/>
            <a:ext cx="45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  0       0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21800" y="5715000"/>
            <a:ext cx="677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#Regressors = Nv+Nc = 3+2=5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Fewer regressors than D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OF = #Rows - #Regresso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29600" y="220968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04840" y="175248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e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2400480" y="2362320"/>
            <a:ext cx="609480" cy="152280"/>
            <a:chOff x="2400480" y="2362320"/>
            <a:chExt cx="609480" cy="152280"/>
          </a:xfrm>
        </p:grpSpPr>
        <p:sp>
          <p:nvSpPr>
            <p:cNvPr id="510" name=""/>
            <p:cNvSpPr/>
            <p:nvPr/>
          </p:nvSpPr>
          <p:spPr>
            <a:xfrm>
              <a:off x="3009960" y="2362320"/>
              <a:ext cx="0" cy="15228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400480" y="236232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781360" y="1981080"/>
            <a:ext cx="609480" cy="533520"/>
            <a:chOff x="2781360" y="1981080"/>
            <a:chExt cx="609480" cy="533520"/>
          </a:xfrm>
        </p:grpSpPr>
        <p:sp>
          <p:nvSpPr>
            <p:cNvPr id="513" name=""/>
            <p:cNvSpPr/>
            <p:nvPr/>
          </p:nvSpPr>
          <p:spPr>
            <a:xfrm>
              <a:off x="339084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8136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077000" y="1981080"/>
            <a:ext cx="609480" cy="533520"/>
            <a:chOff x="4077000" y="1981080"/>
            <a:chExt cx="609480" cy="533520"/>
          </a:xfrm>
        </p:grpSpPr>
        <p:sp>
          <p:nvSpPr>
            <p:cNvPr id="516" name=""/>
            <p:cNvSpPr/>
            <p:nvPr/>
          </p:nvSpPr>
          <p:spPr>
            <a:xfrm>
              <a:off x="407700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407700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818240" y="176688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ge for Males and Fema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85880" y="4738680"/>
            <a:ext cx="31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 test, different vec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287200" y="380880"/>
            <a:ext cx="1032480" cy="1800360"/>
          </a:xfrm>
          <a:prstGeom prst="rect">
            <a:avLst/>
          </a:prstGeom>
          <a:noFill/>
          <a:ln w="38160">
            <a:solidFill>
              <a:srgbClr val="fd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3440" y="304560"/>
            <a:ext cx="69436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11560" y="304920"/>
            <a:ext cx="793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ordinate Systems: 3D (Volumetric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360" y="1523880"/>
            <a:ext cx="670572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D Coordinate Syste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Y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AS (Right-Anterior-Superior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S (Column-Row-Slice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rigin (XYZ=0, eg, AC)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 Intensity at each XY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753160" y="1071720"/>
            <a:ext cx="4265280" cy="4491000"/>
            <a:chOff x="5753160" y="1071720"/>
            <a:chExt cx="4265280" cy="44910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rcRect l="22305" t="14601" r="26077" b="17284"/>
            <a:stretch/>
          </p:blipFill>
          <p:spPr>
            <a:xfrm>
              <a:off x="6324480" y="1981080"/>
              <a:ext cx="2941920" cy="358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"/>
            <p:cNvGrpSpPr/>
            <p:nvPr/>
          </p:nvGrpSpPr>
          <p:grpSpPr>
            <a:xfrm>
              <a:off x="5753160" y="1295280"/>
              <a:ext cx="4014360" cy="3885840"/>
              <a:chOff x="5753160" y="1295280"/>
              <a:chExt cx="4014360" cy="3885840"/>
            </a:xfrm>
          </p:grpSpPr>
          <p:sp>
            <p:nvSpPr>
              <p:cNvPr id="106" name=""/>
              <p:cNvSpPr/>
              <p:nvPr/>
            </p:nvSpPr>
            <p:spPr>
              <a:xfrm>
                <a:off x="7810200" y="1295280"/>
                <a:ext cx="0" cy="388584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53160" y="3252240"/>
                <a:ext cx="4014360" cy="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6396120" y="1865880"/>
                <a:ext cx="2928960" cy="274464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9532800" y="249084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82480" y="4267080"/>
              <a:ext cx="45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07400" y="107172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ordinate Systems: 2D (Surfac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2520" y="1544760"/>
            <a:ext cx="4597200" cy="3017520"/>
            <a:chOff x="182520" y="1544760"/>
            <a:chExt cx="4597200" cy="301752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1147680" y="1544760"/>
              <a:ext cx="25070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16800" y="3594600"/>
              <a:ext cx="17096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uperior tempo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7920" y="404244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33200" y="3608280"/>
              <a:ext cx="91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alcarin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49760" y="1706760"/>
              <a:ext cx="73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ent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3760" y="3074400"/>
              <a:ext cx="76896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lvia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425680" y="1936440"/>
              <a:ext cx="517680" cy="346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423240" y="3378600"/>
              <a:ext cx="373680" cy="35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898640" y="3106800"/>
              <a:ext cx="604080" cy="590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016640" y="2845080"/>
              <a:ext cx="958680" cy="39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520" y="2454840"/>
              <a:ext cx="11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an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12520" y="290448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876240" y="4794120"/>
            <a:ext cx="8975880" cy="1905120"/>
            <a:chOff x="876240" y="4794120"/>
            <a:chExt cx="8975880" cy="1905120"/>
          </a:xfrm>
        </p:grpSpPr>
        <p:grpSp>
          <p:nvGrpSpPr>
            <p:cNvPr id="127" name=""/>
            <p:cNvGrpSpPr/>
            <p:nvPr/>
          </p:nvGrpSpPr>
          <p:grpSpPr>
            <a:xfrm>
              <a:off x="876240" y="4890960"/>
              <a:ext cx="2743200" cy="1582560"/>
              <a:chOff x="876240" y="4890960"/>
              <a:chExt cx="2743200" cy="1582560"/>
            </a:xfrm>
          </p:grpSpPr>
          <p:pic>
            <p:nvPicPr>
              <p:cNvPr id="1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76240" y="4890960"/>
                <a:ext cx="2743200" cy="158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992160" y="5991120"/>
                <a:ext cx="63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Times New Roman"/>
                  </a:rPr>
                  <a:t>pial</a:t>
                </a:r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194720" y="4794120"/>
              <a:ext cx="3201480" cy="1905120"/>
              <a:chOff x="4194720" y="4794120"/>
              <a:chExt cx="3201480" cy="1905120"/>
            </a:xfrm>
          </p:grpSpPr>
          <p:pic>
            <p:nvPicPr>
              <p:cNvPr id="13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272120" y="4794120"/>
                <a:ext cx="3124080" cy="19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4194720" y="6051600"/>
                <a:ext cx="111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Times New Roman"/>
                  </a:rPr>
                  <a:t>inflated</a:t>
                </a:r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8164440" y="5168880"/>
              <a:ext cx="16876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Curvature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buClr>
                  <a:srgbClr val="fd141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ULCUS (+)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buClr>
                  <a:srgbClr val="00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GYRUS (-)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09680" y="97488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heet: 2D Coordinate System (X,Y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29440" y="853920"/>
            <a:ext cx="45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e: 2D Coordinate Syste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atitude and Longitude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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ontinuous, no cu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alue at each point (eg, thickn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87320" y="1355760"/>
            <a:ext cx="3047760" cy="3048120"/>
            <a:chOff x="787320" y="1355760"/>
            <a:chExt cx="3047760" cy="3048120"/>
          </a:xfrm>
        </p:grpSpPr>
        <p:sp>
          <p:nvSpPr>
            <p:cNvPr id="137" name=""/>
            <p:cNvSpPr/>
            <p:nvPr/>
          </p:nvSpPr>
          <p:spPr>
            <a:xfrm>
              <a:off x="2349360" y="1355760"/>
              <a:ext cx="0" cy="304812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2891160"/>
              <a:ext cx="304776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650760" y="2381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1960" y="1193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372360" y="2405160"/>
            <a:ext cx="2438280" cy="2743200"/>
            <a:chOff x="6372360" y="2405160"/>
            <a:chExt cx="2438280" cy="2743200"/>
          </a:xfrm>
        </p:grpSpPr>
        <p:sp>
          <p:nvSpPr>
            <p:cNvPr id="142" name=""/>
            <p:cNvSpPr/>
            <p:nvPr/>
          </p:nvSpPr>
          <p:spPr>
            <a:xfrm>
              <a:off x="7591320" y="4295880"/>
              <a:ext cx="0" cy="852480"/>
            </a:xfrm>
            <a:prstGeom prst="line">
              <a:avLst/>
            </a:prstGeom>
            <a:ln w="38160">
              <a:solidFill>
                <a:srgbClr val="1004f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4"/>
            <a:srcRect l="0" t="2105" r="0" b="0"/>
            <a:stretch/>
          </p:blipFill>
          <p:spPr>
            <a:xfrm>
              <a:off x="6372360" y="2604960"/>
              <a:ext cx="2438280" cy="22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524640" y="3548160"/>
              <a:ext cx="2133000" cy="38088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91320" y="2405160"/>
              <a:ext cx="0" cy="1052280"/>
            </a:xfrm>
            <a:prstGeom prst="line">
              <a:avLst/>
            </a:prstGeom>
            <a:ln w="38160">
              <a:solidFill>
                <a:srgbClr val="1004f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5"/>
            <a:srcRect l="0" t="6316" r="0" b="48421"/>
            <a:stretch/>
          </p:blipFill>
          <p:spPr>
            <a:xfrm>
              <a:off x="6372360" y="2698560"/>
              <a:ext cx="2438280" cy="10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8200800" y="3298680"/>
              <a:ext cx="101160" cy="540000"/>
            </a:xfrm>
            <a:custGeom>
              <a:avLst/>
              <a:gdLst/>
              <a:ahLst/>
              <a:rect l="l" t="t" r="r" b="b"/>
              <a:pathLst>
                <a:path w="352" h="720">
                  <a:moveTo>
                    <a:pt x="0" y="0"/>
                  </a:moveTo>
                  <a:cubicBezTo>
                    <a:pt x="52" y="28"/>
                    <a:pt x="104" y="56"/>
                    <a:pt x="144" y="96"/>
                  </a:cubicBezTo>
                  <a:cubicBezTo>
                    <a:pt x="184" y="136"/>
                    <a:pt x="208" y="160"/>
                    <a:pt x="240" y="240"/>
                  </a:cubicBezTo>
                  <a:cubicBezTo>
                    <a:pt x="272" y="320"/>
                    <a:pt x="320" y="496"/>
                    <a:pt x="336" y="576"/>
                  </a:cubicBezTo>
                  <a:cubicBezTo>
                    <a:pt x="352" y="656"/>
                    <a:pt x="344" y="688"/>
                    <a:pt x="336" y="72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67640" y="3832200"/>
              <a:ext cx="609120" cy="88920"/>
            </a:xfrm>
            <a:custGeom>
              <a:avLst/>
              <a:gdLst/>
              <a:ahLst/>
              <a:rect l="l" t="t" r="r" b="b"/>
              <a:pathLst>
                <a:path w="384" h="56">
                  <a:moveTo>
                    <a:pt x="0" y="48"/>
                  </a:moveTo>
                  <a:cubicBezTo>
                    <a:pt x="88" y="52"/>
                    <a:pt x="176" y="56"/>
                    <a:pt x="240" y="48"/>
                  </a:cubicBezTo>
                  <a:cubicBezTo>
                    <a:pt x="304" y="40"/>
                    <a:pt x="344" y="20"/>
                    <a:pt x="384" y="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29520" y="3203640"/>
              <a:ext cx="7560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439040" y="3651120"/>
              <a:ext cx="456840" cy="530280"/>
              <a:chOff x="7439040" y="3651120"/>
              <a:chExt cx="456840" cy="530280"/>
            </a:xfrm>
          </p:grpSpPr>
          <p:sp>
            <p:nvSpPr>
              <p:cNvPr id="151" name=""/>
              <p:cNvSpPr/>
              <p:nvPr/>
            </p:nvSpPr>
            <p:spPr>
              <a:xfrm>
                <a:off x="7673040" y="3651120"/>
                <a:ext cx="0" cy="53028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439040" y="3918240"/>
                <a:ext cx="456840" cy="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7897680" y="38322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73880" y="32986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470320" y="304920"/>
            <a:ext cx="61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lumetric Intersubject Registr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000680" y="1143000"/>
            <a:ext cx="6174360" cy="3657600"/>
            <a:chOff x="4000680" y="1143000"/>
            <a:chExt cx="6174360" cy="365760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rcRect l="22305" t="14601" r="26077" b="17284"/>
            <a:stretch/>
          </p:blipFill>
          <p:spPr>
            <a:xfrm>
              <a:off x="4000680" y="1218960"/>
              <a:ext cx="2941200" cy="358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" name=""/>
            <p:cNvGrpSpPr/>
            <p:nvPr/>
          </p:nvGrpSpPr>
          <p:grpSpPr>
            <a:xfrm>
              <a:off x="7073640" y="1143000"/>
              <a:ext cx="3101400" cy="3627000"/>
              <a:chOff x="7073640" y="1143000"/>
              <a:chExt cx="3101400" cy="3627000"/>
            </a:xfrm>
          </p:grpSpPr>
          <p:pic>
            <p:nvPicPr>
              <p:cNvPr id="159" name="" descr=""/>
              <p:cNvPicPr/>
              <p:nvPr/>
            </p:nvPicPr>
            <p:blipFill>
              <a:blip r:embed="rId2"/>
              <a:srcRect l="22026" t="14601" r="24109" b="17284"/>
              <a:stretch/>
            </p:blipFill>
            <p:spPr>
              <a:xfrm>
                <a:off x="7105320" y="1143000"/>
                <a:ext cx="3069720" cy="35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7073640" y="1652040"/>
                <a:ext cx="1078920" cy="89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289280" y="3879360"/>
                <a:ext cx="1078920" cy="89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66760" y="1066680"/>
            <a:ext cx="6705720" cy="52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ffine/Linear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ransl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ot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tretc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hea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12 DO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tch Intensity, Voxel-by-Vox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roblem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an use nonlinear volumetric (cf CV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24360" y="1219320"/>
            <a:ext cx="3048120" cy="3047760"/>
            <a:chOff x="3924360" y="1219320"/>
            <a:chExt cx="3048120" cy="3047760"/>
          </a:xfrm>
        </p:grpSpPr>
        <p:sp>
          <p:nvSpPr>
            <p:cNvPr id="164" name=""/>
            <p:cNvSpPr/>
            <p:nvPr/>
          </p:nvSpPr>
          <p:spPr>
            <a:xfrm>
              <a:off x="5486400" y="1219320"/>
              <a:ext cx="0" cy="304776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24360" y="2754360"/>
              <a:ext cx="304812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412520" y="1701360"/>
              <a:ext cx="2224080" cy="208368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048440" y="1066680"/>
            <a:ext cx="3048120" cy="3047760"/>
            <a:chOff x="7048440" y="1066680"/>
            <a:chExt cx="3048120" cy="3047760"/>
          </a:xfrm>
        </p:grpSpPr>
        <p:sp>
          <p:nvSpPr>
            <p:cNvPr id="168" name=""/>
            <p:cNvSpPr/>
            <p:nvPr/>
          </p:nvSpPr>
          <p:spPr>
            <a:xfrm>
              <a:off x="8610480" y="1066680"/>
              <a:ext cx="0" cy="304776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48440" y="2601720"/>
              <a:ext cx="304812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536600" y="1548720"/>
              <a:ext cx="2224080" cy="208368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152960" y="838080"/>
            <a:ext cx="3047760" cy="3504960"/>
            <a:chOff x="4152960" y="838080"/>
            <a:chExt cx="3047760" cy="3504960"/>
          </a:xfrm>
        </p:grpSpPr>
        <p:grpSp>
          <p:nvGrpSpPr>
            <p:cNvPr id="174" name=""/>
            <p:cNvGrpSpPr/>
            <p:nvPr/>
          </p:nvGrpSpPr>
          <p:grpSpPr>
            <a:xfrm>
              <a:off x="4152960" y="1295280"/>
              <a:ext cx="3047760" cy="3047760"/>
              <a:chOff x="4152960" y="1295280"/>
              <a:chExt cx="3047760" cy="3047760"/>
            </a:xfrm>
          </p:grpSpPr>
          <p:pic>
            <p:nvPicPr>
              <p:cNvPr id="1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13320" y="1483920"/>
                <a:ext cx="2506680" cy="2449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6" name=""/>
              <p:cNvGrpSpPr/>
              <p:nvPr/>
            </p:nvGrpSpPr>
            <p:grpSpPr>
              <a:xfrm>
                <a:off x="4152960" y="1295280"/>
                <a:ext cx="3047760" cy="3047760"/>
                <a:chOff x="4152960" y="1295280"/>
                <a:chExt cx="3047760" cy="3047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715000" y="1295280"/>
                  <a:ext cx="0" cy="304776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152960" y="2830320"/>
                  <a:ext cx="3047760" cy="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9" name=""/>
            <p:cNvSpPr/>
            <p:nvPr/>
          </p:nvSpPr>
          <p:spPr>
            <a:xfrm>
              <a:off x="5219280" y="83808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Subject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60560" y="685800"/>
            <a:ext cx="3933360" cy="3414240"/>
            <a:chOff x="160560" y="685800"/>
            <a:chExt cx="3933360" cy="3414240"/>
          </a:xfrm>
        </p:grpSpPr>
        <p:grpSp>
          <p:nvGrpSpPr>
            <p:cNvPr id="181" name=""/>
            <p:cNvGrpSpPr/>
            <p:nvPr/>
          </p:nvGrpSpPr>
          <p:grpSpPr>
            <a:xfrm>
              <a:off x="160560" y="1310040"/>
              <a:ext cx="3933360" cy="2790000"/>
              <a:chOff x="160560" y="1310040"/>
              <a:chExt cx="3933360" cy="2790000"/>
            </a:xfrm>
          </p:grpSpPr>
          <p:pic>
            <p:nvPicPr>
              <p:cNvPr id="1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200" y="1405440"/>
                <a:ext cx="3491280" cy="241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3" name=""/>
              <p:cNvGrpSpPr/>
              <p:nvPr/>
            </p:nvGrpSpPr>
            <p:grpSpPr>
              <a:xfrm>
                <a:off x="160560" y="1310040"/>
                <a:ext cx="3933360" cy="2790000"/>
                <a:chOff x="160560" y="1310040"/>
                <a:chExt cx="3933360" cy="27900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604880" y="1310040"/>
                  <a:ext cx="1134000" cy="279000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160560" y="1935720"/>
                  <a:ext cx="3933360" cy="159876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" name=""/>
            <p:cNvSpPr/>
            <p:nvPr/>
          </p:nvSpPr>
          <p:spPr>
            <a:xfrm>
              <a:off x="1828440" y="68580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Subject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27120" y="45720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ranslate,  Rotate,  Stretch,  Shear (12 DO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tch Curvature, Vertex-by-Ve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nlinear Stretching (“Morphing”) allowed (area regularization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ctually done on 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ical Morph”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50480" y="1905120"/>
            <a:ext cx="2818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urvature “Intensity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ULCUS (+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GYRUS (-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des folding patter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757760" y="5769000"/>
            <a:ext cx="4800600" cy="1089000"/>
            <a:chOff x="4757760" y="5769000"/>
            <a:chExt cx="4800600" cy="1089000"/>
          </a:xfrm>
        </p:grpSpPr>
        <p:pic>
          <p:nvPicPr>
            <p:cNvPr id="190" name="" descr=""/>
            <p:cNvPicPr/>
            <p:nvPr/>
          </p:nvPicPr>
          <p:blipFill>
            <a:blip r:embed="rId3"/>
            <a:stretch/>
          </p:blipFill>
          <p:spPr>
            <a:xfrm>
              <a:off x="8415360" y="5796000"/>
              <a:ext cx="1143000" cy="10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4"/>
            <a:stretch/>
          </p:blipFill>
          <p:spPr>
            <a:xfrm>
              <a:off x="6510240" y="5769000"/>
              <a:ext cx="178596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5"/>
            <a:stretch/>
          </p:blipFill>
          <p:spPr>
            <a:xfrm>
              <a:off x="4757760" y="5846760"/>
              <a:ext cx="1752480" cy="101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marc burock</dc:creator>
  <dc:description/>
  <cp:keywords/>
  <dc:language>en-US</dc:language>
  <cp:lastModifiedBy>greve</cp:lastModifiedBy>
  <dcterms:modified xsi:type="dcterms:W3CDTF">2009-05-28T20:08:28Z</dcterms:modified>
  <cp:revision>982</cp:revision>
  <dc:subject/>
  <dc:title>Understanding Differential Responses in fMRI Through Linear Simulation</dc:title>
</cp:coreProperties>
</file>