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37.png" ContentType="image/png"/>
  <Override PartName="/ppt/media/image49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24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C23959D-2FD3-47BA-A110-3DE9194E1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23CA6B-251F-478C-8A9C-A1ED68F78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66B47B-FB40-4CCD-B922-4EA67B4B2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9080" y="70020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0DEC5C-D624-48CA-951D-0C072479C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A56970-C7D0-47EA-BCCF-07C9F84E2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ampling puts ces into voxel-for-voxel registration with aseg.m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3186EA-8389-426F-BCBF-AE080A32F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6504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0214AB-2487-45EC-AFCE-B4F26683F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C42-717C-4CE2-B2A8-03D4D4FC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318-A9DB-4C23-91EE-73ACBA22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85E-E3ED-485C-8693-B3DB53BE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310-68E3-4990-8735-81AE8EC6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3787E-46A9-4C7C-9E8F-C8BA40631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9FD02-7827-4225-8312-7B685D434A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4F2E2-14DC-46C6-A754-2CBB8E4EF0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FA066-1DB4-4C5A-BDAB-CDFD8F6E1A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8FAAF-16D9-4BA8-A14C-BB5E10869C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564CC-C0D4-4E43-A382-D725A83A56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85B6E-7404-4FBB-AA47-FBE556A185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7AC-6455-4919-B120-87B750B6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6B8FE-5AE9-4B99-8778-C52C3FDD87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C395E-ACBD-492B-A6CA-3145049DF1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8A25A-3FC2-4A0F-ACF3-27F2A0CF0C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0C94D-F631-4F1A-AC98-01E4BB2A9F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07808-A821-4F8B-8C03-03C521043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9E0-B0BF-4C5A-815D-EECB3309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749-DAA4-4778-8172-55D69ACB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623-87F4-432A-9473-519DF44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88B-D35F-484B-8DC8-DA045476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5F0-0392-4E36-8D1D-335BE68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B31-7E80-41E5-9CCA-4E57C3AF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188-6178-4094-AA15-7B91FFBB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62904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7886-0670-41D9-BEA3-8FE11F11656E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236E-AE44-4339-A5B7-B47809632038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ultimodal Integration</a:t>
            </a:r>
            <a:br>
              <a:rPr sz="44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urfer.nmr.mgh.harvard.edu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2798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tomatic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bbregister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–subject bert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mov mmtemplate.nii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bold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nit-fsl \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reg register.dat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228680"/>
            <a:ext cx="43052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FreeSurfer subject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template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contr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Initialize with FSL-FLI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Output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50532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B = Boundary-based, about 5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ers template to conformed anatomical of given subject (b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ration is initialized with FSL-FL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6 D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itialization also with --init-spm and --init-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bout 5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48010-1A30-4900-BB9D-420F9E8C65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tkregister2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mov mmtemplate.nii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–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reg register.dat \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surf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1560" y="1228680"/>
            <a:ext cx="4267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Multimodal template vol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Display white su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5053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ote similarity to bbregister com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 not needed (alread in register.dat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552C0-311E-4FFB-80F4-60F89039E1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55840" y="2676600"/>
            <a:ext cx="4462200" cy="3467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738840" y="11430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738840" y="350532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10440" y="990720"/>
            <a:ext cx="465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isually inspect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nually edit registration (6 D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f Manual Talairach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een line is whit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912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E6BF3-C3B1-4180-B056-17BD5017C9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igid = 6 DOF = No stretc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CSF to get a sense of where the folds a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B0 distortion reg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ventric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arning about “edge” of the bra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e Subject, Left-Right Flip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535800" y="4038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35800" y="1752480"/>
            <a:ext cx="1958760" cy="2287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65320" y="41911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30560" y="4191120"/>
            <a:ext cx="1957320" cy="2287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994360" y="2057400"/>
            <a:ext cx="812880" cy="38088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94360" y="2057400"/>
            <a:ext cx="1015920" cy="2743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57013-78E0-44FB-940A-91C2A9CE32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33720" y="1066680"/>
            <a:ext cx="51051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utomatic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bbregister --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slregister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pmregister –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-feat2anat –help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anual Registr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kregister2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ransformation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surf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vo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label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_surf2vol --hel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mmand-lin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1295280"/>
            <a:ext cx="64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afd00"/>
                </a:solidFill>
                <a:latin typeface="Times New Roman"/>
              </a:rPr>
              <a:t>}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20280" y="2209680"/>
            <a:ext cx="25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reeSurfer Scri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371600"/>
            <a:ext cx="8686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isualize individual fMRI results o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Volume Study: Count number of voxels above threshold in an anatomical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ROI Intensity Study: Average HRF inside of an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urface-based fMRI group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AD4D8-E677-4A31-9FA1-B0E7CFF79F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72960" y="1143000"/>
            <a:ext cx="8255160" cy="5305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modynamic Response (BOLD)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84960" y="463392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384960" y="417672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711840" y="416376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73392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 (~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30560" y="2055960"/>
            <a:ext cx="812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5440" y="158580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to-Peak (~6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551400" y="2576520"/>
            <a:ext cx="1614960" cy="2057400"/>
            <a:chOff x="3551400" y="2576520"/>
            <a:chExt cx="1614960" cy="2057400"/>
          </a:xfrm>
        </p:grpSpPr>
        <p:sp>
          <p:nvSpPr>
            <p:cNvPr id="217" name=""/>
            <p:cNvSpPr/>
            <p:nvPr/>
          </p:nvSpPr>
          <p:spPr>
            <a:xfrm>
              <a:off x="3551400" y="2576520"/>
              <a:ext cx="745200" cy="2057400"/>
            </a:xfrm>
            <a:custGeom>
              <a:avLst/>
              <a:gdLst/>
              <a:ahLst/>
              <a:rect l="l" t="t" r="r" b="b"/>
              <a:pathLst>
                <a:path w="528" h="1296">
                  <a:moveTo>
                    <a:pt x="0" y="0"/>
                  </a:moveTo>
                  <a:cubicBezTo>
                    <a:pt x="24" y="204"/>
                    <a:pt x="48" y="408"/>
                    <a:pt x="96" y="576"/>
                  </a:cubicBezTo>
                  <a:cubicBezTo>
                    <a:pt x="144" y="744"/>
                    <a:pt x="216" y="888"/>
                    <a:pt x="288" y="1008"/>
                  </a:cubicBezTo>
                  <a:cubicBezTo>
                    <a:pt x="360" y="1128"/>
                    <a:pt x="444" y="1212"/>
                    <a:pt x="528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0800" y="2971800"/>
              <a:ext cx="1285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p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90800" y="4659480"/>
            <a:ext cx="1372320" cy="761400"/>
            <a:chOff x="4690800" y="4659480"/>
            <a:chExt cx="1372320" cy="761400"/>
          </a:xfrm>
        </p:grpSpPr>
        <p:sp>
          <p:nvSpPr>
            <p:cNvPr id="220" name=""/>
            <p:cNvSpPr/>
            <p:nvPr/>
          </p:nvSpPr>
          <p:spPr>
            <a:xfrm>
              <a:off x="4690800" y="4659480"/>
              <a:ext cx="137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dersho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703760" y="5040000"/>
              <a:ext cx="40608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184520" y="3809880"/>
            <a:ext cx="1412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~16-3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7560" y="5397480"/>
            <a:ext cx="271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0120" y="541008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(~1-2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416360" y="4495680"/>
            <a:ext cx="3380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4C4-0EFA-43E5-B111-C011E70449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48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ltiple Presentations/Averaging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387600" cy="2176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84920" y="6039000"/>
            <a:ext cx="79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Output: HRF Amp, HRF Var, p/z/t/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31280" cy="2741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185840" y="3886200"/>
            <a:ext cx="3387600" cy="21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5F0-9048-4EA8-9C60-C3C2410A2C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Preprocessing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990720"/>
            <a:ext cx="79246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otion Correction (MC Templat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Use for registration templ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bregister --mov mctemplate.nii --s subject --init-fsl --reg register.d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kregister2 --mov mctemplate.nii --reg register.dat --su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use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nonlinear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ampling to talairach/MNI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o not spatially smooth (3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E1646-DE26-4571-B9D4-F588EC16A3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MRI Analysis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219320"/>
            <a:ext cx="79246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irst-Level (Individual)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HRF Amplitude (or Contrast of Amplitud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pe (FSL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ON (SPM)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es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iance of Amplitu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arcope (FSL), ??? (SPM), cesvar (FSF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ctivation/Significance Ma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 (-log10(p)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ll in alignment with MC Template!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23C62-3BFC-46F7-9DAF-36789CD152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990720"/>
            <a:ext cx="79250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ffine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, Automatic and Man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Analysis In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iewing on Volume and Su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Analysis Int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isual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with WM Parcel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12C-63ED-492F-A057-2DD8B2D917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mplate and Ma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08280" y="838080"/>
            <a:ext cx="7251480" cy="5129280"/>
            <a:chOff x="1808280" y="838080"/>
            <a:chExt cx="7251480" cy="5129280"/>
          </a:xfrm>
        </p:grpSpPr>
        <p:grpSp>
          <p:nvGrpSpPr>
            <p:cNvPr id="237" name=""/>
            <p:cNvGrpSpPr/>
            <p:nvPr/>
          </p:nvGrpSpPr>
          <p:grpSpPr>
            <a:xfrm>
              <a:off x="1808280" y="838080"/>
              <a:ext cx="7250040" cy="2665440"/>
              <a:chOff x="1808280" y="838080"/>
              <a:chExt cx="7250040" cy="26654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1"/>
              <a:srcRect l="14770" t="21294" r="14770" b="21294"/>
              <a:stretch/>
            </p:blipFill>
            <p:spPr>
              <a:xfrm>
                <a:off x="180828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2"/>
              <a:srcRect l="14770" t="8872" r="14770" b="14196"/>
              <a:stretch/>
            </p:blipFill>
            <p:spPr>
              <a:xfrm>
                <a:off x="6711840" y="838080"/>
                <a:ext cx="234648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3"/>
              <a:srcRect l="14770" t="21294" r="14770" b="21294"/>
              <a:stretch/>
            </p:blipFill>
            <p:spPr>
              <a:xfrm>
                <a:off x="4213440" y="117648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"/>
            <p:cNvGrpSpPr/>
            <p:nvPr/>
          </p:nvGrpSpPr>
          <p:grpSpPr>
            <a:xfrm>
              <a:off x="1808280" y="3301920"/>
              <a:ext cx="7251480" cy="2665440"/>
              <a:chOff x="1808280" y="3301920"/>
              <a:chExt cx="7251480" cy="2665440"/>
            </a:xfrm>
          </p:grpSpPr>
          <p:pic>
            <p:nvPicPr>
              <p:cNvPr id="242" name="" descr=""/>
              <p:cNvPicPr/>
              <p:nvPr/>
            </p:nvPicPr>
            <p:blipFill>
              <a:blip r:embed="rId4"/>
              <a:srcRect l="14770" t="21294" r="14770" b="21294"/>
              <a:stretch/>
            </p:blipFill>
            <p:spPr>
              <a:xfrm>
                <a:off x="421344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" descr=""/>
              <p:cNvPicPr/>
              <p:nvPr/>
            </p:nvPicPr>
            <p:blipFill>
              <a:blip r:embed="rId5"/>
              <a:srcRect l="14770" t="8872" r="14770" b="14196"/>
              <a:stretch/>
            </p:blipFill>
            <p:spPr>
              <a:xfrm>
                <a:off x="6713640" y="3301920"/>
                <a:ext cx="2346120" cy="266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6"/>
              <a:srcRect l="14770" t="21294" r="14770" b="21294"/>
              <a:stretch/>
            </p:blipFill>
            <p:spPr>
              <a:xfrm>
                <a:off x="1808280" y="3640320"/>
                <a:ext cx="2346120" cy="198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5" name=""/>
          <p:cNvSpPr/>
          <p:nvPr/>
        </p:nvSpPr>
        <p:spPr>
          <a:xfrm>
            <a:off x="456840" y="198108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5760" y="4343400"/>
            <a:ext cx="150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emplate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11639-BF86-4994-88CC-DDF582025D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29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871560"/>
            <a:ext cx="89154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tkmedit subject orig.mgz –aux brain.mgz –aparc+aseg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overlay sig.nii –reg register.da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fthresh 2 –fmax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sig.nii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significance map in native functional space. could have been z, t, or F map as we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register.dat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freesurfer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fthresh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lower threshold (value depends on map). You can change this in the interf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afd00"/>
                </a:solidFill>
                <a:uFillTx/>
                <a:latin typeface="Arial"/>
              </a:rPr>
              <a:t>fmax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– saturation threshold. (value depends on map). You can change this in the interf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aparc+aseg – display aparc+aseg.mgz. Can load this from the interface too</a:t>
            </a:r>
            <a:r>
              <a:rPr b="0" lang="en-US" sz="22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00C5F-1803-47E5-96EF-D39871384B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819520" y="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6600" y="609480"/>
            <a:ext cx="5846760" cy="5915160"/>
            <a:chOff x="66600" y="609480"/>
            <a:chExt cx="5846760" cy="59151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13846" t="8872" r="13846" b="17745"/>
            <a:stretch/>
          </p:blipFill>
          <p:spPr>
            <a:xfrm>
              <a:off x="66600" y="609480"/>
              <a:ext cx="300384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rcRect l="13846" t="8872" r="13846" b="17745"/>
            <a:stretch/>
          </p:blipFill>
          <p:spPr>
            <a:xfrm>
              <a:off x="2909880" y="6094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rcRect l="13846" t="8872" r="13846" b="17745"/>
            <a:stretch/>
          </p:blipFill>
          <p:spPr>
            <a:xfrm>
              <a:off x="2909880" y="3352680"/>
              <a:ext cx="300348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rcRect l="13846" t="8872" r="13846" b="17745"/>
            <a:stretch/>
          </p:blipFill>
          <p:spPr>
            <a:xfrm>
              <a:off x="66600" y="3352680"/>
              <a:ext cx="3003840" cy="31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>
            <a:off x="6095880" y="14479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8000"/>
          </a:bodyPr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d/Yellow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ue/Cyan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g O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to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038480" y="685800"/>
            <a:ext cx="4332240" cy="4495680"/>
            <a:chOff x="4038480" y="685800"/>
            <a:chExt cx="4332240" cy="44956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4038480" y="685800"/>
              <a:ext cx="433224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flipV="1">
              <a:off x="6705720" y="1904760"/>
              <a:ext cx="22860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9800" y="160020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5400" y="1600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10080" y="1904760"/>
              <a:ext cx="91440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480" y="685800"/>
            <a:ext cx="2590920" cy="2590920"/>
            <a:chOff x="609480" y="685800"/>
            <a:chExt cx="2590920" cy="259092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rcRect l="16671" t="18981" r="4545" b="5111"/>
            <a:stretch/>
          </p:blipFill>
          <p:spPr>
            <a:xfrm>
              <a:off x="609480" y="685800"/>
              <a:ext cx="25909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295280" y="1447920"/>
              <a:ext cx="685800" cy="609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800" y="3581280"/>
            <a:ext cx="2789280" cy="2895840"/>
            <a:chOff x="685800" y="3581280"/>
            <a:chExt cx="2789280" cy="289584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685800" y="3581280"/>
              <a:ext cx="27892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600200" y="4648320"/>
              <a:ext cx="838080" cy="76176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to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267080" y="762120"/>
            <a:ext cx="3916080" cy="3352680"/>
            <a:chOff x="4267080" y="762120"/>
            <a:chExt cx="3916080" cy="33526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rcRect l="5276" t="10173" r="5018" b="15256"/>
            <a:stretch/>
          </p:blipFill>
          <p:spPr>
            <a:xfrm>
              <a:off x="4267080" y="762120"/>
              <a:ext cx="388620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 flipV="1">
              <a:off x="6705360" y="1523880"/>
              <a:ext cx="22860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9440" y="121932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5400" y="12193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10080" y="1523880"/>
              <a:ext cx="91440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20" y="3809880"/>
            <a:ext cx="2895480" cy="2362320"/>
            <a:chOff x="533520" y="3809880"/>
            <a:chExt cx="2895480" cy="2362320"/>
          </a:xfrm>
        </p:grpSpPr>
        <p:sp>
          <p:nvSpPr>
            <p:cNvPr id="277" name=""/>
            <p:cNvSpPr/>
            <p:nvPr/>
          </p:nvSpPr>
          <p:spPr>
            <a:xfrm>
              <a:off x="533520" y="3809880"/>
              <a:ext cx="25146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White/G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Half W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afd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A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9480" y="5410080"/>
              <a:ext cx="281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Projection F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--projfrac 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2"/>
          <a:srcRect l="10530" t="39430" r="2629" b="19871"/>
          <a:stretch/>
        </p:blipFill>
        <p:spPr>
          <a:xfrm>
            <a:off x="3733920" y="4191120"/>
            <a:ext cx="5029200" cy="2438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rcRect l="1318" t="20352" r="2629" b="16056"/>
          <a:stretch/>
        </p:blipFill>
        <p:spPr>
          <a:xfrm>
            <a:off x="304920" y="990720"/>
            <a:ext cx="3429000" cy="2347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flipV="1">
            <a:off x="6151680" y="2361960"/>
            <a:ext cx="457200" cy="2819160"/>
          </a:xfrm>
          <a:prstGeom prst="line">
            <a:avLst/>
          </a:prstGeom>
          <a:ln w="38160">
            <a:solidFill>
              <a:srgbClr val="f10d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828800" y="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16671" t="18981" r="4545" b="5111"/>
          <a:stretch/>
        </p:blipFill>
        <p:spPr>
          <a:xfrm>
            <a:off x="1066680" y="9907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752480" y="17524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20045" t="13876" r="2626" b="33415"/>
          <a:stretch/>
        </p:blipFill>
        <p:spPr>
          <a:xfrm>
            <a:off x="4114800" y="914400"/>
            <a:ext cx="4038480" cy="2843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2865" t="16651" r="2626" b="19539"/>
          <a:stretch/>
        </p:blipFill>
        <p:spPr>
          <a:xfrm>
            <a:off x="4419720" y="3657600"/>
            <a:ext cx="4114800" cy="286848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1295280" y="3809880"/>
            <a:ext cx="2362320" cy="2590920"/>
            <a:chOff x="1295280" y="3809880"/>
            <a:chExt cx="2362320" cy="2590920"/>
          </a:xfrm>
        </p:grpSpPr>
        <p:pic>
          <p:nvPicPr>
            <p:cNvPr id="288" name="" descr=""/>
            <p:cNvPicPr/>
            <p:nvPr/>
          </p:nvPicPr>
          <p:blipFill>
            <a:blip r:embed="rId4"/>
            <a:stretch/>
          </p:blipFill>
          <p:spPr>
            <a:xfrm>
              <a:off x="1295280" y="3809880"/>
              <a:ext cx="23623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069640" y="4764240"/>
              <a:ext cx="709560" cy="681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410080" y="1981080"/>
            <a:ext cx="68580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876920"/>
            <a:ext cx="914400" cy="8380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1262" t="21674" r="1262" b="19841"/>
          <a:stretch/>
        </p:blipFill>
        <p:spPr>
          <a:xfrm>
            <a:off x="41904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rcRect l="1262" t="21674" r="1262" b="19841"/>
          <a:stretch/>
        </p:blipFill>
        <p:spPr>
          <a:xfrm>
            <a:off x="339084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rcRect l="1262" t="21674" r="1262" b="19841"/>
          <a:stretch/>
        </p:blipFill>
        <p:spPr>
          <a:xfrm>
            <a:off x="6326280" y="98892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rcRect l="1262" t="21674" r="1262" b="19841"/>
          <a:stretch/>
        </p:blipFill>
        <p:spPr>
          <a:xfrm>
            <a:off x="41904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rcRect l="1262" t="21674" r="1262" b="19841"/>
          <a:stretch/>
        </p:blipFill>
        <p:spPr>
          <a:xfrm>
            <a:off x="339084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1262" t="21674" r="1262" b="19841"/>
          <a:stretch/>
        </p:blipFill>
        <p:spPr>
          <a:xfrm>
            <a:off x="6324480" y="30272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rcRect l="1262" t="21674" r="1262" b="19841"/>
          <a:stretch/>
        </p:blipFill>
        <p:spPr>
          <a:xfrm>
            <a:off x="419040" y="5084640"/>
            <a:ext cx="2594160" cy="16099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rcRect l="1262" t="21674" r="1262" b="19841"/>
          <a:stretch/>
        </p:blipFill>
        <p:spPr>
          <a:xfrm>
            <a:off x="3392640" y="508464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9"/>
          <a:srcRect l="1262" t="21674" r="1262" b="19841"/>
          <a:stretch/>
        </p:blipFill>
        <p:spPr>
          <a:xfrm>
            <a:off x="6326280" y="5084640"/>
            <a:ext cx="2592360" cy="1609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280880" y="590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448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2040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64000" y="5904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0240" y="59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 (wh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6360" y="46656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1.0 (p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6360" y="46656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4000" y="2608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39960" y="46656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19160" y="-3816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: Projection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960" y="-135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2280" y="1646280"/>
            <a:ext cx="9460080" cy="1923480"/>
            <a:chOff x="152280" y="1646280"/>
            <a:chExt cx="9460080" cy="1923480"/>
          </a:xfrm>
        </p:grpSpPr>
        <p:sp>
          <p:nvSpPr>
            <p:cNvPr id="313" name=""/>
            <p:cNvSpPr/>
            <p:nvPr/>
          </p:nvSpPr>
          <p:spPr>
            <a:xfrm>
              <a:off x="15228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mri_vol2surf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mov sig.nii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reg register.dat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hemi lh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projfrac 0.5 \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--o lh.sig.m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92440" y="1646280"/>
              <a:ext cx="6019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map in native functional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freesurfer registration f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hemisp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projection fraction (hal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cc00"/>
                  </a:solidFill>
                  <a:latin typeface="Arial"/>
                </a:rPr>
                <a:t>output (Nvertices-x-1 mgh form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28600" y="53341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ksurfer subject lh inflated -aparc   –overlay lh.sig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720" y="1219320"/>
            <a:ext cx="69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ficance to left hemi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5000" y="48769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Load HRF Contrast Significance as over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480" y="3809880"/>
            <a:ext cx="70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 and tkregister2 command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97A78-2077-4373-8ACE-0F83EA4819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rcRect l="1579" t="23657" r="1579" b="19679"/>
          <a:stretch/>
        </p:blipFill>
        <p:spPr>
          <a:xfrm>
            <a:off x="1143000" y="1274760"/>
            <a:ext cx="33973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4952880" y="1219320"/>
            <a:ext cx="3397320" cy="5410080"/>
            <a:chOff x="4952880" y="1219320"/>
            <a:chExt cx="3397320" cy="5410080"/>
          </a:xfrm>
        </p:grpSpPr>
        <p:pic>
          <p:nvPicPr>
            <p:cNvPr id="321" name="" descr=""/>
            <p:cNvPicPr/>
            <p:nvPr/>
          </p:nvPicPr>
          <p:blipFill>
            <a:blip r:embed="rId2"/>
            <a:srcRect l="1579" t="23657" r="1579" b="19679"/>
            <a:stretch/>
          </p:blipFill>
          <p:spPr>
            <a:xfrm>
              <a:off x="4952880" y="3200400"/>
              <a:ext cx="339732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3"/>
            <a:srcRect l="1579" t="32051" r="1579" b="30171"/>
            <a:stretch/>
          </p:blipFill>
          <p:spPr>
            <a:xfrm>
              <a:off x="4952880" y="5257800"/>
              <a:ext cx="3397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4"/>
            <a:srcRect l="1579" t="23657" r="1579" b="21776"/>
            <a:stretch/>
          </p:blipFill>
          <p:spPr>
            <a:xfrm>
              <a:off x="4952880" y="1219320"/>
              <a:ext cx="339732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" descr=""/>
          <p:cNvPicPr/>
          <p:nvPr/>
        </p:nvPicPr>
        <p:blipFill>
          <a:blip r:embed="rId5"/>
          <a:srcRect l="10269" t="19463" r="22397" b="36468"/>
          <a:stretch/>
        </p:blipFill>
        <p:spPr>
          <a:xfrm>
            <a:off x="1447920" y="327672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094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Vie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4952880"/>
            <a:ext cx="4267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d/Yellow +,Blue/Cyan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arcellation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OI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057400" y="914400"/>
            <a:ext cx="617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ROI fMRI Analy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ten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 Anatomical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ly Constrained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83320" y="2273400"/>
            <a:ext cx="3680280" cy="2909520"/>
            <a:chOff x="283320" y="2273400"/>
            <a:chExt cx="3680280" cy="2909520"/>
          </a:xfrm>
        </p:grpSpPr>
        <p:sp>
          <p:nvSpPr>
            <p:cNvPr id="93" name=""/>
            <p:cNvSpPr/>
            <p:nvPr/>
          </p:nvSpPr>
          <p:spPr>
            <a:xfrm rot="21573600">
              <a:off x="677160" y="2666520"/>
              <a:ext cx="327672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056800">
              <a:off x="380520" y="2944440"/>
              <a:ext cx="3371760" cy="121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68440" y="2413800"/>
              <a:ext cx="3028680" cy="2765160"/>
              <a:chOff x="568440" y="2413800"/>
              <a:chExt cx="3028680" cy="2765160"/>
            </a:xfrm>
          </p:grpSpPr>
          <p:sp>
            <p:nvSpPr>
              <p:cNvPr id="96" name=""/>
              <p:cNvSpPr/>
              <p:nvPr/>
            </p:nvSpPr>
            <p:spPr>
              <a:xfrm rot="19354800">
                <a:off x="2930760" y="279684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9354800">
                <a:off x="760320" y="304272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9354800">
                <a:off x="1847880" y="314316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2495880" y="368604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029200" y="4986360"/>
            <a:ext cx="3379320" cy="2023200"/>
            <a:chOff x="5029200" y="4986360"/>
            <a:chExt cx="3379320" cy="2023200"/>
          </a:xfrm>
        </p:grpSpPr>
        <p:sp>
          <p:nvSpPr>
            <p:cNvPr id="101" name=""/>
            <p:cNvSpPr/>
            <p:nvPr/>
          </p:nvSpPr>
          <p:spPr>
            <a:xfrm>
              <a:off x="5036760" y="5153040"/>
              <a:ext cx="3371760" cy="121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193000" y="4986360"/>
              <a:ext cx="3128400" cy="2023200"/>
              <a:chOff x="5193000" y="4986360"/>
              <a:chExt cx="3128400" cy="2023200"/>
            </a:xfrm>
          </p:grpSpPr>
          <p:sp>
            <p:nvSpPr>
              <p:cNvPr id="103" name=""/>
              <p:cNvSpPr/>
              <p:nvPr/>
            </p:nvSpPr>
            <p:spPr>
              <a:xfrm rot="20859000">
                <a:off x="7701480" y="55630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859000">
                <a:off x="5324040" y="5244480"/>
                <a:ext cx="258084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859000">
                <a:off x="6626880" y="5430240"/>
                <a:ext cx="57420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01280" y="6221880"/>
                <a:ext cx="612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029200" y="6369120"/>
              <a:ext cx="337176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919760" y="1316880"/>
            <a:ext cx="3395160" cy="2769120"/>
            <a:chOff x="4919760" y="1316880"/>
            <a:chExt cx="3395160" cy="2769120"/>
          </a:xfrm>
        </p:grpSpPr>
        <p:sp>
          <p:nvSpPr>
            <p:cNvPr id="109" name=""/>
            <p:cNvSpPr/>
            <p:nvPr/>
          </p:nvSpPr>
          <p:spPr>
            <a:xfrm rot="21573600">
              <a:off x="5028840" y="1569600"/>
              <a:ext cx="3276360" cy="2503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919760" y="1316880"/>
              <a:ext cx="3028680" cy="2765160"/>
              <a:chOff x="4919760" y="1316880"/>
              <a:chExt cx="3028680" cy="2765160"/>
            </a:xfrm>
          </p:grpSpPr>
          <p:sp>
            <p:nvSpPr>
              <p:cNvPr id="111" name=""/>
              <p:cNvSpPr/>
              <p:nvPr/>
            </p:nvSpPr>
            <p:spPr>
              <a:xfrm rot="19354800">
                <a:off x="7282080" y="16999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9354800">
                <a:off x="5111640" y="19458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9354800">
                <a:off x="6199200" y="20462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847200" y="25891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5257800" y="73188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(1x1x1.1mm, 256x256x128, S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0020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canner Acqui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4419720"/>
            <a:ext cx="28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unctional (3x3x5mm, 64x64x30, Ax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027-A454-4C66-AE9B-07F193A085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1371600"/>
            <a:ext cx="56386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vol2vol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mov ces.nii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reg register.da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nterp nearest \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fstarg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o ces.anat.m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6440" y="43434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ces.aseg.st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6200" y="1395360"/>
            <a:ext cx="5375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Command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HRF map in functional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FreeSurfer Registration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Nearest neighbor interpo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Specify anatomical output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Output file in anatomical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320" y="38098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, tkregister2, and mri_vol2surf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17BE2-3999-4782-A1A8-C236E21DB9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HRF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12952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ces.aseg.st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88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seg is the segmentation (eg, aseg.mgz, aparc+aseg.mgz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ctab is matching color lookup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4724280"/>
            <a:ext cx="830556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utput File: ces.aseg.st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mple text file with same format aseg.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ultiple subjects can be combined with asegstats2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19701-0290-47DD-8A5F-56BDDED422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6440" y="4341960"/>
            <a:ext cx="87631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functionally constrained ROI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ces.aseg.mask.stats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--mask sig.anat.mgh --mask-thresh 2 --mask-sign 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3716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Significance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ri_vol2vol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mov </a:t>
            </a:r>
            <a:r>
              <a:rPr b="0" lang="en-US" sz="2400" spc="-1" strike="noStrike">
                <a:solidFill>
                  <a:srgbClr val="f10de1"/>
                </a:solidFill>
                <a:latin typeface="Arial"/>
              </a:rPr>
              <a:t>sig.nii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reg 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nterp nearest \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fstar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o </a:t>
            </a:r>
            <a:r>
              <a:rPr b="0" lang="en-US" sz="2400" spc="-1" strike="noStrike">
                <a:solidFill>
                  <a:srgbClr val="f10de1"/>
                </a:solidFill>
                <a:latin typeface="Arial"/>
              </a:rPr>
              <a:t>sig.anat.m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C9FD6-50F8-4D32-9B85-4374F3713B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5960" y="87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e HRF only within the Functionally Active Area of an Anatomical ROI, Count Voxels above threshold in each RO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295280"/>
            <a:ext cx="87631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functionally constrained ROI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segstats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seg $SUBJECTS_DIR/subject/mri/aseg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ctab $FREESURFER_HOME/FreeSurferColorLUT.tx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i ces.anat.mgh --sum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ces.aseg.mask.stats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10de1"/>
                </a:solidFill>
                <a:latin typeface="Arial"/>
              </a:rPr>
              <a:t>--mask sig.anat.mgh --mask-thresh 2 --mask-sign 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3276720"/>
            <a:ext cx="85341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in stats file is volume above threshold (may be 0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ign is important for Average!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abs, pos, or ne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pos will </a:t>
            </a:r>
            <a:r>
              <a:rPr b="0" lang="en-US" sz="26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result in positive HRF a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eg will </a:t>
            </a: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lway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result in negative HRF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bs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reful to avoid circula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Can use a different contrast to ma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CB83C-97F8-49C2-A7B2-F3C520DD57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1371600"/>
            <a:ext cx="830592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mris_preproc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hemi lh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o lh.fsaverage.ces.mgh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1/ces.nii subject1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2/ces.nii subject2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--iv subject3/ces.nii subject3func/register.dat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fter that, everything else is the same as a thickness study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s_fwhm --i lh.fsaverage.ces.mgh --fwhm 10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o lh.fsaverage.ces.sm10.mgh --cortex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mri_glmfit --surf fsaverage lh –cortex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-y lh.fsaverage.ces.sm10.mgh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252BD-C82E-432D-85E5-F3FFD7B313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TI Integ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1371600"/>
            <a:ext cx="7925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iew FA, etc, on subject’s anatomical volum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Intensity ROI Study: Average FA, etc,  inside of White Matter Parcellation ROIs (wmparc.mgz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3EF3B-E80C-4A70-ACFF-DB6BDB983E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TI Analysis Over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44280" y="1143000"/>
            <a:ext cx="9677160" cy="40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otion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Eddy Current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Correction (MC Template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ually a low-b volum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e for registration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bbregister --mov mctemplate.nii --s subject --init-fsl --reg register.d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tkregister2 --mov mctemplate.nii --reg register.dat --su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irst-Level (Individual)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it Tensor 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aps: FA (0-1), ADC, Eigenvectors, et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All in alignment with MC Template!!!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33404-ADDF-46BA-A6E1-FFBEDEBAC2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olume View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1371600"/>
            <a:ext cx="8305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A as an overlay on vol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tkmedit subject orig.mgz –aux brain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wmaparc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overlay fa.nii –reg register.dat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fthresh .1 –fmax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3352680"/>
            <a:ext cx="8305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ADC as an overlay on volu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tkmedit subject orig.mgz –aux brain.mgz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–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wmaparc 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-overlay adc.nii –reg register.d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D5D59-70DC-46EB-A950-DBE0DC7D86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verage FA within Full Anatomical RO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1371600"/>
            <a:ext cx="56386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sample HRF Contrast to anatomic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vol2vol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mov fa.nii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reg register.da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nterp nearest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fstarg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o fa.anat.m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6440" y="4343400"/>
            <a:ext cx="83059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Average HRF Contrast within R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mri_segstats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seg $SUBJECTS_DIR/subject/mri/wmparc.mgz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ctab $FREESURFER_HOME/FreeSurferColorLUT.txt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Lucida Sans Typewriter"/>
              </a:rPr>
              <a:t>--i fa.anat.mgh --sum fa.aseg.s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16200" y="1395360"/>
            <a:ext cx="5375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Comman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FA map in DTI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FreeSurfer Registratio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Nearest neighbor interp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Specify anatomical output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Lucida Sans Typewriter"/>
              </a:rPr>
              <a:t>Output file in anatomical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9320" y="3809880"/>
            <a:ext cx="88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Note similarity to bbregister, tkregister2, and mri_vol2surf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EFC90-31EA-4D05-965F-DEAFC6A45B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990720"/>
            <a:ext cx="85341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/Crossmodal map (HRF Amplitude, F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Multimodal Integration requires a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A Template i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Same size as multimodal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In Voxel-to-voxel alignment with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Has better anatomical contr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Baseline funct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Low-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Usually a MC templ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Volume and Intensity ROI Analy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Times New Roman"/>
              </a:rPr>
              <a:t>Functionally-constrained RO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1B1FF-3E52-448A-BB34-A62612777F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71440" y="1880640"/>
            <a:ext cx="3395160" cy="2769120"/>
            <a:chOff x="271440" y="1880640"/>
            <a:chExt cx="3395160" cy="2769120"/>
          </a:xfrm>
        </p:grpSpPr>
        <p:sp>
          <p:nvSpPr>
            <p:cNvPr id="120" name=""/>
            <p:cNvSpPr/>
            <p:nvPr/>
          </p:nvSpPr>
          <p:spPr>
            <a:xfrm rot="21573600">
              <a:off x="380520" y="2133360"/>
              <a:ext cx="3276360" cy="250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71440" y="1880640"/>
              <a:ext cx="3028680" cy="2765160"/>
              <a:chOff x="271440" y="1880640"/>
              <a:chExt cx="3028680" cy="2765160"/>
            </a:xfrm>
          </p:grpSpPr>
          <p:sp>
            <p:nvSpPr>
              <p:cNvPr id="122" name=""/>
              <p:cNvSpPr/>
              <p:nvPr/>
            </p:nvSpPr>
            <p:spPr>
              <a:xfrm rot="19354800">
                <a:off x="2633760" y="226368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9354800">
                <a:off x="463320" y="250956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354800">
                <a:off x="1550880" y="261000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2198880" y="315288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304920" y="1295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Anatomical Space 1x1x1.1mm, 256x256x128, 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843800" y="1804320"/>
            <a:ext cx="3086640" cy="2765160"/>
            <a:chOff x="4843800" y="1804320"/>
            <a:chExt cx="3086640" cy="2765160"/>
          </a:xfrm>
        </p:grpSpPr>
        <p:sp>
          <p:nvSpPr>
            <p:cNvPr id="128" name=""/>
            <p:cNvSpPr/>
            <p:nvPr/>
          </p:nvSpPr>
          <p:spPr>
            <a:xfrm rot="21573600">
              <a:off x="5103720" y="205560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843800" y="1804320"/>
              <a:ext cx="3028680" cy="2765160"/>
              <a:chOff x="4843800" y="1804320"/>
              <a:chExt cx="3028680" cy="2765160"/>
            </a:xfrm>
          </p:grpSpPr>
          <p:sp>
            <p:nvSpPr>
              <p:cNvPr id="130" name=""/>
              <p:cNvSpPr/>
              <p:nvPr/>
            </p:nvSpPr>
            <p:spPr>
              <a:xfrm rot="19354800">
                <a:off x="7206120" y="218736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9354800">
                <a:off x="5035680" y="243324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9354800">
                <a:off x="6123240" y="253368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6771240" y="307656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4876920" y="12193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8954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41972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orig.mg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arc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g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A65-C536-4658-A9D1-AD45AEA8BD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1143000"/>
            <a:ext cx="85345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egistration – manual and automatic regist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fMRI Integration (Sensorimotor Paradig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Individ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Volum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Surface view s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with and without functional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ROI analysis (asegstats2tab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</a:rPr>
              <a:t>DTI Individual Analys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EB005-4201-43D3-B831-287E754B29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00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ory of Affine Spatial Trans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81480" y="2532240"/>
            <a:ext cx="3380040" cy="2023560"/>
            <a:chOff x="5181480" y="2532240"/>
            <a:chExt cx="3380040" cy="2023560"/>
          </a:xfrm>
        </p:grpSpPr>
        <p:sp>
          <p:nvSpPr>
            <p:cNvPr id="139" name=""/>
            <p:cNvSpPr/>
            <p:nvPr/>
          </p:nvSpPr>
          <p:spPr>
            <a:xfrm>
              <a:off x="5189400" y="2698920"/>
              <a:ext cx="3372120" cy="121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346000" y="2532240"/>
              <a:ext cx="3128400" cy="2023560"/>
              <a:chOff x="5346000" y="2532240"/>
              <a:chExt cx="3128400" cy="2023560"/>
            </a:xfrm>
          </p:grpSpPr>
          <p:sp>
            <p:nvSpPr>
              <p:cNvPr id="141" name=""/>
              <p:cNvSpPr/>
              <p:nvPr/>
            </p:nvSpPr>
            <p:spPr>
              <a:xfrm rot="20859000">
                <a:off x="7854120" y="3109320"/>
                <a:ext cx="57312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0859000">
                <a:off x="5477040" y="2790720"/>
                <a:ext cx="2581200" cy="1506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859000">
                <a:off x="6779880" y="2976120"/>
                <a:ext cx="574560" cy="250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4280" y="3767760"/>
                <a:ext cx="61308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181480" y="3915000"/>
              <a:ext cx="3372120" cy="48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81480" y="19051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ative Functional Space 3x3x5mm, 64x64x30, Ax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76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natomical Spa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7600" y="2110680"/>
            <a:ext cx="3086640" cy="2765160"/>
            <a:chOff x="417600" y="2110680"/>
            <a:chExt cx="3086640" cy="2765160"/>
          </a:xfrm>
        </p:grpSpPr>
        <p:sp>
          <p:nvSpPr>
            <p:cNvPr id="149" name=""/>
            <p:cNvSpPr/>
            <p:nvPr/>
          </p:nvSpPr>
          <p:spPr>
            <a:xfrm rot="21573600">
              <a:off x="677520" y="2361960"/>
              <a:ext cx="2818080" cy="220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17600" y="2110680"/>
              <a:ext cx="3028680" cy="2765160"/>
              <a:chOff x="417600" y="2110680"/>
              <a:chExt cx="3028680" cy="2765160"/>
            </a:xfrm>
          </p:grpSpPr>
          <p:sp>
            <p:nvSpPr>
              <p:cNvPr id="151" name=""/>
              <p:cNvSpPr/>
              <p:nvPr/>
            </p:nvSpPr>
            <p:spPr>
              <a:xfrm rot="19354800">
                <a:off x="2779920" y="2493720"/>
                <a:ext cx="572760" cy="501480"/>
              </a:xfrm>
              <a:prstGeom prst="rtTriangl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354800">
                <a:off x="609480" y="2739600"/>
                <a:ext cx="2581560" cy="1506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9354800">
                <a:off x="1697040" y="2840040"/>
                <a:ext cx="574560" cy="250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345040" y="3382920"/>
                <a:ext cx="60768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3733920" y="2895480"/>
            <a:ext cx="1066680" cy="838440"/>
          </a:xfrm>
          <a:prstGeom prst="leftRightArrow">
            <a:avLst>
              <a:gd name="adj1" fmla="val 50000"/>
              <a:gd name="adj2" fmla="val 253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7242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nformed Anatomical Space 1x1x1mm, 256x256x256, C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0B4-DABD-459E-933B-9B5E7320C8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46000" y="1219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32400" y="121140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46000" y="3505320"/>
            <a:ext cx="1959120" cy="228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332400" y="3506760"/>
            <a:ext cx="1959120" cy="228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2280" y="7621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Anatomical (or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26840" y="7621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mplate Fun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624120" y="1219320"/>
            <a:ext cx="1957680" cy="228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3624120" y="3514680"/>
            <a:ext cx="1957680" cy="228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50760" y="5881680"/>
            <a:ext cx="793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Note: Registering the template functional volume to the anatomical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is sufficient to register the template to the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093C4-4985-49EB-BD46-5CC851CB59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1000" y="6480"/>
            <a:ext cx="59544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447920"/>
            <a:ext cx="2844720" cy="264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-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1447920"/>
            <a:ext cx="3183120" cy="2466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mplat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M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1981080"/>
            <a:ext cx="2371680" cy="1067040"/>
          </a:xfrm>
          <a:prstGeom prst="leftRightArrow">
            <a:avLst>
              <a:gd name="adj1" fmla="val 50000"/>
              <a:gd name="adj2" fmla="val 44247"/>
            </a:avLst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3320" y="4572000"/>
            <a:ext cx="765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Template Volum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 voxel-for-voxel registration with paramete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est gray-white contra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308B9-863B-41A2-A7B4-81517A3DEA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0BF41-DD07-4A51-879D-365366560A0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5560" y="609480"/>
            <a:ext cx="647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657600"/>
            <a:ext cx="7543800" cy="22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mgh-02407836-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3.437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5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.15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9.999985e-01 -1.428481e-03 -8.293565e-04 5.281680e-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4.641568e-04 -2.388080e-01 9.710670e-01 -4.041043e+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1.585159e-03 9.710652e-01 2.388064e-01 -1.376212e+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0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Typewriter"/>
              </a:rPr>
              <a:t>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4120" y="3657600"/>
            <a:ext cx="5257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reeSurfer subjec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I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Functional Between-plane resolution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Intensity (for visua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 </a:t>
            </a:r>
            <a:r>
              <a:rPr b="0" lang="en-US" sz="1600" spc="-1" strike="noStrike">
                <a:solidFill>
                  <a:srgbClr val="ffcc00"/>
                </a:solidFill>
                <a:latin typeface="Lucida Sans Typewriter"/>
              </a:rPr>
              <a:t>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3640" y="1676520"/>
            <a:ext cx="581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4x4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ordinate system not easy to 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AB317-2639-4BA5-954A-2222D62DE4E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0:15:13Z</dcterms:created>
  <dc:creator>Douglas Greve</dc:creator>
  <dc:description/>
  <dc:language>en-US</dc:language>
  <cp:lastModifiedBy>greve</cp:lastModifiedBy>
  <dcterms:modified xsi:type="dcterms:W3CDTF">2010-02-02T20:47:28Z</dcterms:modified>
  <cp:revision>850</cp:revision>
  <dc:subject/>
  <dc:title>Multimodal Integration in FreeSurfer</dc:title>
</cp:coreProperties>
</file>