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8C9F-BF28-4165-AA89-1C71450A4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richer information in the data. One way to represent it is to draw streamlines / tractography relying on directiona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ool to manually isolate certain fi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s DTI reconstruction from the DWI in the input dicom file. Gets gradient directions and bvalues from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dicom file see $FREESURFER_HOME/diffusion/mgh-dti-seqpack/READ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to all other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ncoded by diffusion matric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TI if Gaussian assumption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nterest: anisotropy and diffus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: fiber density, axonal diameter, myeleination in 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: magnitude of diffusion (of water molecules) within cerebral tissue. A low value for ADC indicates that the cortical white matter tracts are organized (good), while a high value for ADC indicates that these tracts are disorganized (b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C: This is the degree to which diffusion in neighboring voxels has a common orientation (Pfefferbaum et al. 2000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This measure is similar to FA but views coherence on a larger spatial, voxel–to–voxel scale (in contrast with FA’s intravoxel sca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5C35-D2EE-4EEC-BE65-660C6D02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08F3-8778-4978-B6CC-499EB4D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B2D3-31D0-4501-944D-CBBFB993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E110-3FD4-430B-A40E-091F5458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478-8684-4B28-90B0-7CBA147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71A3-CC6D-4E85-B133-0775CEFE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3530-20AB-4A32-8965-F26E60CB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73D-E40B-4EF5-81D0-5545E5D5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91B9-B2BD-489B-9E9D-94EA2A2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267E-8921-4A51-A841-DC3D03F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0468-6A75-4FD6-8B6B-821EA70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AD7B-B7CF-4879-BC4D-25D62EB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A502-6F8A-41B3-B44D-F721E32F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B62-4B7E-4831-B61A-A03DF49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97EE-9516-4F08-85E9-3FAEE75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81E9-9EDF-431F-9030-F042B9EE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624E-F520-436C-94C8-011D466F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9AF4-B023-4285-AF61-67C6BA6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2154-882B-4E55-A248-C7ADE98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31DD-C9DA-48DA-910F-19014384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D8E7-A0BA-4C15-B16F-A545A36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E6C8-B101-4C7D-97A9-5E2A10B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E376-43AC-49CF-BF1E-8596F3C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7935-AF39-4FBC-9121-0A998D1C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FFDB-7F60-4280-AC1C-CE5B3ADE3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E08-15AA-494B-BC6C-AF32606CB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roduction to Diffusion MRI proces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lla Z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öl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tography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vis and Diffusion Toolki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trackvis.org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A135-43A7-4BB9-895E-7F85B1CF5A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36840" y="60948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24280" y="3710160"/>
            <a:ext cx="4268880" cy="2614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52280" y="3710160"/>
            <a:ext cx="4268880" cy="261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8D0D-798E-454D-8176-BC243BAC959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4268880" cy="261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268880" cy="2614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 on (color) F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6D21-D7D2-4E1B-8782-47D7E7FDED4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D92A4-2E89-4E6F-BF63-C778081E57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onvert dicom to nifti (creates dwi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Eddy current and motion correction using FSLs eddy_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 dwi-ec.nii. Can take 1-2 ho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TI GLM Fit and tensor construction. Includes creation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sor.nii -- maps of the tensor (9 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als.nii -- maps of the eigen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gvec?.nii -- maps of the eigenv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.nii -- apparent diffusion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.nii -- fractional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.nii -- relative anisotr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.nii -- volume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c.nii -- intervoxel corre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b.nii -- Low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als.dat -- b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vecs.dat -- 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creates glm-related 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.nii - regression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es.nii - residual error (log of 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var.nii - residual variance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td.nii - residual stddev (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es.nii - residual error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irvar.nii - residual variance (dwi int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gistration of lowb to same-subject anatomical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SLs flirt (creates mask.nii and register.d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Map FA to talairach space (creates fa-tal.n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 us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_recon --i 6-1025.dcm --s M87102113 --o d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9AA3C-3874-455E-833D-2B4753E063B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heck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register2 --mov dti/lowb.nii --reg dti/register.dat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urf orig --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the subject's an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 M87102113 orig.mgz -overlay dti/fa.nii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erlay-reg dti/register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View FA on fs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kmedit fsaverage orig.mgz -overlay dti/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roup/Higher level GLM analy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oncatenate fa from individuals into on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 Make sure the order agrees with the fsgd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fa-tal.nii --o group-fa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Create a mas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concat */mask-tal.nii --o group-masksum-tal.nii --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binarize --i group-masksum-tal.nii --min .999 --o group-mask-tal.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GLM 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i_glmfit --y group-fa-tal.nii --mask group-mask-tal.nii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fsgd your.fsgd --C contrast --glm groupan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2197-3A45-45EA-A440-BC31C6229A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t_re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i inv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s subject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o output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t_recon --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t_recon --i 6-1025.dcm --s M111 --o d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B4FA-5E47-4FC1-8C5B-27895A28DE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cess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ddy current and mo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ddy_cor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ensor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or.nii, eigvals.nii. eigvec?.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calar maps: adc, fa, ra, vr, i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Registration to anatomic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S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i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ow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#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laira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745C-779B-481E-9FD2-7841853BEC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guments (Optio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b bvals bv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fo-dump infodump.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fo dump created by unpacksdcmdir or dcmun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cref 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P as 0-based reference time points for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off eddy/motion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gister to subject or resample to talair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no-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resample FA to talairch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d subjects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subjects dir (default env SUBJECTS_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eres-s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resdidual error (dwires and 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PCA/SVD analysis on eres (saves in pca-eres d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prune_thr t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reshold for masking (default is FLT_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b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lots of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version of this scrip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inous bits of 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AFE8-79BD-48DD-82EA-39EBD2B995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us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9120" y="6095880"/>
            <a:ext cx="61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ubs.niaaa.nih.gov/publications/arh27-2/146-15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040" y="2438280"/>
            <a:ext cx="857412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FA6F-B783-40EF-ACE0-77EF4168DDB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calar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: fractional anisotrop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ber density, axonal diameter, myelination in W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: relative anisotr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: volum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C: inter-voxel correl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ffusion orientation agreement in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: apparent diffusion coefficien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gnitude of diffusion; low value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rganized tra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: rad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: axial diffu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486400" y="1854360"/>
                <a:ext cx="2413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3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λ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324480" y="5099040"/>
                <a:ext cx="297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4618080"/>
                <a:ext cx="1257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38680" y="4084560"/>
                <a:ext cx="2079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943600" y="2514600"/>
                <a:ext cx="132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</m:e>
                    </m:rad>
                    <m:r>
                      <m:t xml:space="preserve">/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3600" y="2994120"/>
                <a:ext cx="13492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/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5315-DB78-4FF9-8CA1-B8FF3DF226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8924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114560"/>
            <a:ext cx="5054760" cy="286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031840" y="3962520"/>
            <a:ext cx="5054760" cy="28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DF52-1FF1-4062-A96E-2741D2494AE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BA12-4819-4BB1-BD90-E7D42C062A2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1114560"/>
            <a:ext cx="5027760" cy="284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028960" y="3962520"/>
            <a:ext cx="5027400" cy="284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0" y="1114560"/>
            <a:ext cx="5027760" cy="2844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7233-3CD3-4A94-A9C0-4B742CB0A82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 1,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5:54:58Z</dcterms:created>
  <dc:creator>Lilla Zollei</dc:creator>
  <dc:description/>
  <dc:language>en-US</dc:language>
  <cp:lastModifiedBy>Lilla Zollei</cp:lastModifiedBy>
  <dcterms:modified xsi:type="dcterms:W3CDTF">2010-02-01T06:26:17Z</dcterms:modified>
  <cp:revision>47</cp:revision>
  <dc:subject/>
  <dc:title>Slide 1</dc:title>
</cp:coreProperties>
</file>