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31.jpeg" ContentType="image/jpeg"/>
  <Override PartName="/ppt/media/image30.jpeg" ContentType="image/jpeg"/>
  <Override PartName="/ppt/media/image1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3.pct" ContentType="image/x-pict"/>
  <Override PartName="/ppt/media/image16.png" ContentType="image/png"/>
  <Override PartName="/ppt/media/image32.jpeg" ContentType="image/jpeg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move the slid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A286-E3FB-4B3A-80E0-2EF09732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T goes from motor cortex through capsule to brainstem, lateral to thalamus, medial to palli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078-D20A-4093-A093-96A1EEE5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5C1-3A0C-4F57-8549-E37880B9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D5E-6585-47E8-BBFD-E7B4544D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8C8-99BD-48B8-B7E9-009835FD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3EC-1387-4892-B150-7AD6D8BE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E03-91D6-425A-9C93-0F8B274E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1E7-579C-49FD-B2FE-3FEB6AD7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616-9DB4-4429-8F6D-493630A5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11000" y="90360"/>
            <a:ext cx="607860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877-6CFC-48A6-B570-2AC765C0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485-EB57-4E99-90FF-26FB3E7D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801-C628-4343-992E-D1611063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412-0CCF-4A42-B54D-BBF4B720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1000" y="90360"/>
            <a:ext cx="60786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896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date/time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02/02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29920" y="6400800"/>
            <a:ext cx="449604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&lt;footer&gt;</a:t>
            </a:r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Future directions: TRAC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10200" y="6400800"/>
            <a:ext cx="155412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ff9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DA08-1250-4E45-99BC-91A5E0C38B16}" type="slidenum">
              <a:rPr b="0" lang="en-US" sz="1200" spc="-1" strike="noStrike">
                <a:solidFill>
                  <a:srgbClr val="99ff99"/>
                </a:solidFill>
                <a:latin typeface="Georgia"/>
              </a:rPr>
              <a:t>&lt;number&gt;</a:t>
            </a:fld>
            <a:r>
              <a:rPr b="0" lang="en-US" sz="1200" spc="-1" strike="noStrike">
                <a:solidFill>
                  <a:srgbClr val="99ff99"/>
                </a:solidFill>
                <a:latin typeface="Georgia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762120"/>
            <a:ext cx="380880" cy="57402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8458200" y="762120"/>
            <a:ext cx="371520" cy="5740200"/>
          </a:xfrm>
          <a:custGeom>
            <a:avLst/>
            <a:gdLst>
              <a:gd name="textAreaLeft" fmla="*/ 109080 w 371520"/>
              <a:gd name="textAreaRight" fmla="*/ 371880 w 371520"/>
              <a:gd name="textAreaTop" fmla="*/ 171360 h 5740200"/>
              <a:gd name="textAreaBottom" fmla="*/ 5568840 h 574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46"/>
                  <a:pt x="0" y="1291"/>
                </a:cubicBezTo>
                <a:lnTo>
                  <a:pt x="0" y="20309"/>
                </a:lnTo>
                <a:cubicBezTo>
                  <a:pt x="0" y="20955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1000" y="1538280"/>
            <a:ext cx="7475400" cy="22885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Future directions:</a:t>
            </a:r>
            <a:br>
              <a:rPr sz="3600"/>
            </a:b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RActs Constrained by UnderLying </a:t>
            </a:r>
            <a:br>
              <a:rPr sz="3600"/>
            </a:b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natomy (TRACULA) 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3960" y="-760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1760" y="43434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stasia Yendiki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HMS/MGH/MIT Athinoula A. Martinos Center for Biomedical Imag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55F-8712-410F-A268-8982F1E712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29960" y="90360"/>
            <a:ext cx="54356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robabilistic 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9800" y="2971440"/>
            <a:ext cx="7988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termine the most probable path based on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the images tell us about th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ssume a multi-compartment model of diffusion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Jbabdi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et al.,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 NeuroImage ‘07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we already know about th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Incorporate prior knowledge on path anatomy from training subject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70360" y="1523880"/>
            <a:ext cx="89820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2165" t="0" r="0" b="0"/>
          <a:stretch/>
        </p:blipFill>
        <p:spPr>
          <a:xfrm>
            <a:off x="2368440" y="1614600"/>
            <a:ext cx="89064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735200" y="1690560"/>
            <a:ext cx="91260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2085" t="0" r="4816" b="0"/>
          <a:stretch/>
        </p:blipFill>
        <p:spPr>
          <a:xfrm>
            <a:off x="1120680" y="1766880"/>
            <a:ext cx="908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990720" y="1066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ave set of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0932800">
            <a:off x="3843000" y="169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91600" y="1136520"/>
            <a:ext cx="4386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ant most probabl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15504" t="0" r="15181" b="0"/>
          <a:stretch/>
        </p:blipFill>
        <p:spPr>
          <a:xfrm>
            <a:off x="6288120" y="1600200"/>
            <a:ext cx="137160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7037280" y="1676520"/>
            <a:ext cx="165240" cy="91440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w="475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99A-A88C-4AD8-A96F-755796AAC4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19080" y="90360"/>
            <a:ext cx="55832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ulti-compartment model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7760" y="1447920"/>
            <a:ext cx="5715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ultiple diffusion compartments in each voxel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nisotropic compartments that model fibers (1, 2, …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ne isotropic compartment that models everything left over (0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"/>
          <p:cNvSpPr/>
          <p:nvPr/>
        </p:nvSpPr>
        <p:spPr>
          <a:xfrm>
            <a:off x="5408640" y="914400"/>
            <a:ext cx="371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Behrens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t al.,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MRM ‘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Jbabdi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t al.,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NeuroImage ‘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e infer from the 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rientation angles of anisotropic com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Volumes of all compar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verall diffusivity in the vox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ultiple fibers only if they are supported b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523880"/>
            <a:ext cx="1905120" cy="17528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523880"/>
            <a:ext cx="1905120" cy="1524240"/>
          </a:xfrm>
          <a:custGeom>
            <a:avLst/>
            <a:gdLst/>
            <a:ahLst/>
            <a:rect l="l" t="t" r="r" b="b"/>
            <a:pathLst>
              <a:path w="1200" h="768">
                <a:moveTo>
                  <a:pt x="384" y="0"/>
                </a:moveTo>
                <a:lnTo>
                  <a:pt x="1200" y="384"/>
                </a:lnTo>
                <a:lnTo>
                  <a:pt x="1200" y="768"/>
                </a:lnTo>
                <a:lnTo>
                  <a:pt x="0" y="192"/>
                </a:lnTo>
                <a:lnTo>
                  <a:pt x="0" y="0"/>
                </a:lnTo>
                <a:lnTo>
                  <a:pt x="384" y="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371240" y="1752480"/>
            <a:ext cx="1219320" cy="74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432" y="0"/>
                </a:moveTo>
                <a:lnTo>
                  <a:pt x="0" y="1104"/>
                </a:lnTo>
                <a:lnTo>
                  <a:pt x="240" y="1104"/>
                </a:lnTo>
                <a:lnTo>
                  <a:pt x="672" y="0"/>
                </a:lnTo>
                <a:lnTo>
                  <a:pt x="432" y="0"/>
                </a:lnTo>
                <a:close/>
              </a:path>
            </a:pathLst>
          </a:custGeom>
          <a:solidFill>
            <a:srgbClr val="809ea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49080" y="1879560"/>
            <a:ext cx="406440" cy="102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6696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060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7680" y="274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76D-DCD9-46D9-9082-F04036D5D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87000" y="90360"/>
            <a:ext cx="6721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natomical priors for WM path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ources of prior anatomical information: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hape of the path in a set of training subjects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tomical regions around the path in the training subject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ther types of anatomical constraints often used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WM mask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nstraints on path angl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onstraints on path length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5504" t="0" r="15181" b="0"/>
          <a:stretch/>
        </p:blipFill>
        <p:spPr>
          <a:xfrm>
            <a:off x="6781680" y="1219320"/>
            <a:ext cx="1600200" cy="144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662960" y="1295280"/>
            <a:ext cx="172800" cy="104472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w="4752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14300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M pathways are well-constrained by surrounding ana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1EC-29F1-422A-8688-5560B5F56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90920" y="364680"/>
            <a:ext cx="2316240" cy="642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RACUL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380988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Manual labeling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of paths on a set of training subjects, performed by an exper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876920"/>
            <a:ext cx="518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Anatomical segmentation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aps of the training subjects, produced by FreeSur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6120" y="1143000"/>
            <a:ext cx="7912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TRA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ts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onstrained by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der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ying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ato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lobal probabilistic tract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ior info on tract anatomy from training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No manual intervention in new su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obustness w.r.t. initialization and ROI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Anatomically plausible sol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15000" y="4849920"/>
          <a:ext cx="4419720" cy="117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849920"/>
                    <a:ext cx="44197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201080" y="3497400"/>
            <a:ext cx="1347480" cy="12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E1C-F0F4-4CF1-B14C-12C629344E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30520" y="90360"/>
            <a:ext cx="40514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Preliminary resul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nual labeling of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rticospinal tract (CST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perior longitudinal fasciculus (SLF) 1, 2, 3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ingulum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TI reliability data set from Mental Illness and Neuroscience Discovery (MIND) Institut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10 healthy volunteers scanned twic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WI: 2x2x2 mm resolution, 60 gradient direc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: 1x1x1 mm resolu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Use manual labeling of 9 subjects to obtain path priors and path initialization for 10th subjec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"/>
          <p:cNvSpPr/>
          <p:nvPr/>
        </p:nvSpPr>
        <p:spPr>
          <a:xfrm>
            <a:off x="4719960" y="914400"/>
            <a:ext cx="44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ata courtesy of Dr. R. Gollub, M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063-CAA8-4EC2-9E13-9BFC300957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914200" y="90360"/>
            <a:ext cx="34750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Reliability stud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07" name=""/>
          <p:cNvSpPr/>
          <p:nvPr/>
        </p:nvSpPr>
        <p:spPr>
          <a:xfrm>
            <a:off x="3146040" y="942840"/>
            <a:ext cx="627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Manual labeling by Allison Stevens and Cibu Tho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Visualization tool by Ruopeng Wa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95840" y="1384200"/>
            <a:ext cx="2142720" cy="2210760"/>
            <a:chOff x="1095840" y="1384200"/>
            <a:chExt cx="2142720" cy="221076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22584" t="11150" r="19661" b="0"/>
            <a:stretch/>
          </p:blipFill>
          <p:spPr>
            <a:xfrm>
              <a:off x="1116000" y="1384200"/>
              <a:ext cx="212256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095840" y="32576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C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36560" y="3733920"/>
            <a:ext cx="2502000" cy="2224080"/>
            <a:chOff x="736560" y="3733920"/>
            <a:chExt cx="2502000" cy="2224080"/>
          </a:xfrm>
        </p:grpSpPr>
        <p:pic>
          <p:nvPicPr>
            <p:cNvPr id="212" name="" descr=""/>
            <p:cNvPicPr/>
            <p:nvPr/>
          </p:nvPicPr>
          <p:blipFill>
            <a:blip r:embed="rId2"/>
            <a:srcRect l="23882" t="18344" r="16700" b="5398"/>
            <a:stretch/>
          </p:blipFill>
          <p:spPr>
            <a:xfrm>
              <a:off x="736560" y="3733920"/>
              <a:ext cx="25020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652480" y="55929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SL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365640" y="1957320"/>
            <a:ext cx="509256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861-AB0D-4CE6-8CFB-EA79929373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49440" y="90360"/>
            <a:ext cx="4408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est-retest reliabilit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16" name=""/>
          <p:cNvSpPr/>
          <p:nvPr/>
        </p:nvSpPr>
        <p:spPr>
          <a:xfrm>
            <a:off x="8785080" y="355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69140" b="62900"/>
          <a:stretch/>
        </p:blipFill>
        <p:spPr>
          <a:xfrm>
            <a:off x="1587600" y="1752480"/>
            <a:ext cx="2313000" cy="1865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0" t="50838" r="69140" b="11873"/>
          <a:stretch/>
        </p:blipFill>
        <p:spPr>
          <a:xfrm>
            <a:off x="1589040" y="3809880"/>
            <a:ext cx="2313000" cy="1874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68803" t="0" r="508" b="62900"/>
          <a:stretch/>
        </p:blipFill>
        <p:spPr>
          <a:xfrm>
            <a:off x="5334120" y="1754280"/>
            <a:ext cx="2300040" cy="18651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607600" y="51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rcRect l="68124" t="50838" r="1187" b="11873"/>
          <a:stretch/>
        </p:blipFill>
        <p:spPr>
          <a:xfrm>
            <a:off x="5334120" y="3814920"/>
            <a:ext cx="2300040" cy="1874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5880" y="13096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o info from training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56560" y="1309680"/>
            <a:ext cx="45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ith info from training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03760" y="326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5080" y="3263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31120" y="53355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40920" y="5334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Visi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D75-1D8F-4371-9F03-866FF7DD5E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38320" y="90360"/>
            <a:ext cx="70279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pplication: Huntington’s diseas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29" name=""/>
          <p:cNvSpPr/>
          <p:nvPr/>
        </p:nvSpPr>
        <p:spPr>
          <a:xfrm>
            <a:off x="2574720" y="3422520"/>
            <a:ext cx="1037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eal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3422520"/>
            <a:ext cx="2116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untington’s 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86960" y="2719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505" t="5217" r="1516" b="3062"/>
          <a:stretch/>
        </p:blipFill>
        <p:spPr>
          <a:xfrm>
            <a:off x="1878120" y="1231920"/>
            <a:ext cx="2463840" cy="2235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91040" y="6000840"/>
            <a:ext cx="2116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untington’s 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rcRect l="507" t="529" r="1511" b="2667"/>
          <a:stretch/>
        </p:blipFill>
        <p:spPr>
          <a:xfrm>
            <a:off x="4800600" y="1238400"/>
            <a:ext cx="2470320" cy="2239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043000" y="6006960"/>
            <a:ext cx="2116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Huntington’s 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rcRect l="511" t="1115" r="2042" b="2218"/>
          <a:stretch/>
        </p:blipFill>
        <p:spPr>
          <a:xfrm>
            <a:off x="1878120" y="3822840"/>
            <a:ext cx="2465280" cy="2239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rcRect l="1907" t="2562" r="5237" b="4087"/>
          <a:stretch/>
        </p:blipFill>
        <p:spPr>
          <a:xfrm>
            <a:off x="4808520" y="3809880"/>
            <a:ext cx="2468520" cy="2246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749120" y="914400"/>
            <a:ext cx="43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ata courtesy of Dr. D. Rosas, M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A8A-1EF5-46ED-8ED7-FBAA0CE807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20605" t="27798" r="22777" b="22731"/>
          <a:stretch/>
        </p:blipFill>
        <p:spPr>
          <a:xfrm>
            <a:off x="1752480" y="1298520"/>
            <a:ext cx="5626080" cy="4581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57120" y="91080"/>
            <a:ext cx="4987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MD changes in pati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483320" y="4403880"/>
            <a:ext cx="330480" cy="145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723440" y="5546880"/>
            <a:ext cx="94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01480" y="425124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1520" y="14320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1736640"/>
            <a:ext cx="99036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54800" y="1508040"/>
            <a:ext cx="457200" cy="3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27320" y="118728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45680" y="118728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1560" y="150804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52720" y="2346480"/>
            <a:ext cx="41436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56600" y="20257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4632480"/>
            <a:ext cx="129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ingu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098880" y="4114440"/>
            <a:ext cx="3301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533520" y="5987880"/>
            <a:ext cx="101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-values for T-test on mean MD of Huntington’s patients (N=33) and controls (N=2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611-A922-4F78-A08B-F545AD679F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1440" y="91080"/>
            <a:ext cx="6280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orrelation with disease stage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1189080"/>
          <a:ext cx="7772400" cy="3459240"/>
        </p:xfrm>
        <a:graphic>
          <a:graphicData uri="http://schemas.openxmlformats.org/drawingml/2006/table">
            <a:tbl>
              <a:tblPr/>
              <a:tblGrid>
                <a:gridCol w="609480"/>
                <a:gridCol w="944640"/>
                <a:gridCol w="777960"/>
                <a:gridCol w="776160"/>
                <a:gridCol w="777960"/>
                <a:gridCol w="777960"/>
                <a:gridCol w="776160"/>
                <a:gridCol w="777960"/>
                <a:gridCol w="776160"/>
                <a:gridCol w="777960"/>
              </a:tblGrid>
              <a:tr h="396000">
                <a:tc rowSpan="2"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F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-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M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7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7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 </a:t>
                      </a: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p&lt;10</a:t>
                      </a:r>
                      <a:r>
                        <a:rPr b="0" lang="en-US" sz="1600" spc="-1" strike="noStrike" baseline="30000">
                          <a:solidFill>
                            <a:srgbClr val="ff6600"/>
                          </a:solidFill>
                          <a:latin typeface="Georgia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720" rIns="9072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Georgia"/>
                        </a:rPr>
                        <a:t>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720" rIns="9072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419720" y="4784760"/>
          <a:ext cx="4572000" cy="1095120"/>
        </p:xfrm>
        <a:graphic>
          <a:graphicData uri="http://schemas.openxmlformats.org/drawingml/2006/table">
            <a:tbl>
              <a:tblPr/>
              <a:tblGrid>
                <a:gridCol w="673200"/>
                <a:gridCol w="3898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ticospinal tr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SLF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uperior longitudinal fascicul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Georgia"/>
                        </a:rPr>
                        <a:t>CB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ingulum bo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4788000"/>
          <a:ext cx="3505320" cy="1460520"/>
        </p:xfrm>
        <a:graphic>
          <a:graphicData uri="http://schemas.openxmlformats.org/drawingml/2006/table">
            <a:tbl>
              <a:tblPr/>
              <a:tblGrid>
                <a:gridCol w="647640"/>
                <a:gridCol w="2857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F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ractional anisotro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M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Mean diff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R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adial diff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b6a"/>
                          </a:solidFill>
                          <a:latin typeface="Georgia"/>
                        </a:rPr>
                        <a:t>A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xial diffus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A1C-3866-4ECE-BB00-EA3D496640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97160" y="90360"/>
            <a:ext cx="28987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14640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dentify fiber bundles in cerebral white matter (WM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haracterizing these WM pathways is important for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nferring connections b/w brain reg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Understanding effects of neurodegenerative diseases, stroke, aging, development …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6087960"/>
            <a:ext cx="297180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eorgia"/>
              </a:rPr>
              <a:t>From </a:t>
            </a:r>
            <a:r>
              <a:rPr b="0" i="1" lang="en-US" sz="900" spc="-1" strike="noStrike">
                <a:solidFill>
                  <a:srgbClr val="ffffff"/>
                </a:solidFill>
                <a:latin typeface="Georgia"/>
              </a:rPr>
              <a:t>Gray's Anatomy: IX. Neurolog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9EC-86B2-405E-8302-8D5408F8FE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5200" y="90360"/>
            <a:ext cx="56610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pplication: Schizophrenia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260" name=""/>
          <p:cNvSpPr/>
          <p:nvPr/>
        </p:nvSpPr>
        <p:spPr>
          <a:xfrm>
            <a:off x="4719960" y="914400"/>
            <a:ext cx="44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Data courtesy of Dr. R. Gollub, M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886960" y="2719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595440" y="5987880"/>
            <a:ext cx="10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-values for T-test on mean RD of schizophrenia patients (N=25) and controls (N=1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8562" t="26943" r="20823" b="18854"/>
          <a:stretch/>
        </p:blipFill>
        <p:spPr>
          <a:xfrm>
            <a:off x="2057400" y="1371600"/>
            <a:ext cx="5027760" cy="4533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254720" y="4429080"/>
            <a:ext cx="330480" cy="1457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494840" y="5572080"/>
            <a:ext cx="94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72880" y="427680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0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5200" y="144792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1752480"/>
            <a:ext cx="9907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26200" y="1660680"/>
            <a:ext cx="457200" cy="3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98720" y="13399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17080" y="133992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22960" y="166068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324120" y="2301840"/>
            <a:ext cx="41436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8000" y="1981080"/>
            <a:ext cx="79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LF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7984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Cingu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51160" y="3962160"/>
            <a:ext cx="3301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70F-94D1-4F28-91F9-38FD94EB0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169760" y="4919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p&lt;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° p&lt;.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1334" r="204" b="0"/>
          <a:stretch/>
        </p:blipFill>
        <p:spPr>
          <a:xfrm>
            <a:off x="919080" y="1011240"/>
            <a:ext cx="6151680" cy="369108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7078680" y="1015920"/>
            <a:ext cx="1399680" cy="647640"/>
            <a:chOff x="7078680" y="1015920"/>
            <a:chExt cx="1399680" cy="647640"/>
          </a:xfrm>
        </p:grpSpPr>
        <p:pic>
          <p:nvPicPr>
            <p:cNvPr id="280" name="" descr=""/>
            <p:cNvPicPr/>
            <p:nvPr/>
          </p:nvPicPr>
          <p:blipFill>
            <a:blip r:embed="rId2"/>
            <a:srcRect l="56796" t="23277" r="0" b="0"/>
            <a:stretch/>
          </p:blipFill>
          <p:spPr>
            <a:xfrm>
              <a:off x="7488360" y="1015920"/>
              <a:ext cx="9900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3"/>
            <a:srcRect l="0" t="23277" r="81907" b="0"/>
            <a:stretch/>
          </p:blipFill>
          <p:spPr>
            <a:xfrm>
              <a:off x="7078680" y="1015920"/>
              <a:ext cx="4147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"/>
          <p:cNvSpPr/>
          <p:nvPr/>
        </p:nvSpPr>
        <p:spPr>
          <a:xfrm>
            <a:off x="1784520" y="3119400"/>
            <a:ext cx="52815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41320" y="3071880"/>
            <a:ext cx="53197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rcRect l="0" t="0" r="0" b="16938"/>
          <a:stretch/>
        </p:blipFill>
        <p:spPr>
          <a:xfrm>
            <a:off x="914400" y="3186000"/>
            <a:ext cx="6164280" cy="31435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3144960" y="1738440"/>
            <a:ext cx="363600" cy="459720"/>
            <a:chOff x="3144960" y="1738440"/>
            <a:chExt cx="363600" cy="459720"/>
          </a:xfrm>
        </p:grpSpPr>
        <p:sp>
          <p:nvSpPr>
            <p:cNvPr id="286" name=""/>
            <p:cNvSpPr/>
            <p:nvPr/>
          </p:nvSpPr>
          <p:spPr>
            <a:xfrm rot="5400000">
              <a:off x="3256200" y="193752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44960" y="1738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691080" y="1368360"/>
            <a:ext cx="363600" cy="459720"/>
            <a:chOff x="3691080" y="1368360"/>
            <a:chExt cx="363600" cy="459720"/>
          </a:xfrm>
        </p:grpSpPr>
        <p:sp>
          <p:nvSpPr>
            <p:cNvPr id="289" name=""/>
            <p:cNvSpPr/>
            <p:nvPr/>
          </p:nvSpPr>
          <p:spPr>
            <a:xfrm rot="5400000">
              <a:off x="3802680" y="1567440"/>
              <a:ext cx="119160" cy="28872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8720"/>
                <a:gd name="textAreaBottom" fmla="*/ 276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91080" y="1368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9560" y="1417680"/>
            <a:ext cx="363600" cy="459720"/>
            <a:chOff x="4219560" y="1417680"/>
            <a:chExt cx="363600" cy="459720"/>
          </a:xfrm>
        </p:grpSpPr>
        <p:sp>
          <p:nvSpPr>
            <p:cNvPr id="292" name=""/>
            <p:cNvSpPr/>
            <p:nvPr/>
          </p:nvSpPr>
          <p:spPr>
            <a:xfrm rot="5400000">
              <a:off x="4331160" y="161676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9560" y="1417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139920" y="3297240"/>
            <a:ext cx="363600" cy="459720"/>
            <a:chOff x="3139920" y="3297240"/>
            <a:chExt cx="363600" cy="459720"/>
          </a:xfrm>
        </p:grpSpPr>
        <p:sp>
          <p:nvSpPr>
            <p:cNvPr id="295" name=""/>
            <p:cNvSpPr/>
            <p:nvPr/>
          </p:nvSpPr>
          <p:spPr>
            <a:xfrm rot="5400000">
              <a:off x="3251520" y="3496320"/>
              <a:ext cx="118800" cy="289080"/>
            </a:xfrm>
            <a:custGeom>
              <a:avLst/>
              <a:gdLst>
                <a:gd name="textAreaLeft" fmla="*/ 34920 w 118800"/>
                <a:gd name="textAreaRight" fmla="*/ 119160 w 11880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9920" y="3297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322320" y="3349800"/>
            <a:ext cx="363600" cy="459720"/>
            <a:chOff x="6322320" y="3349800"/>
            <a:chExt cx="363600" cy="459720"/>
          </a:xfrm>
        </p:grpSpPr>
        <p:sp>
          <p:nvSpPr>
            <p:cNvPr id="298" name=""/>
            <p:cNvSpPr/>
            <p:nvPr/>
          </p:nvSpPr>
          <p:spPr>
            <a:xfrm rot="5400000">
              <a:off x="6445440" y="354924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2320" y="3349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203000" y="3454560"/>
            <a:ext cx="363600" cy="459720"/>
            <a:chOff x="4203000" y="3454560"/>
            <a:chExt cx="363600" cy="459720"/>
          </a:xfrm>
        </p:grpSpPr>
        <p:sp>
          <p:nvSpPr>
            <p:cNvPr id="301" name=""/>
            <p:cNvSpPr/>
            <p:nvPr/>
          </p:nvSpPr>
          <p:spPr>
            <a:xfrm rot="5400000">
              <a:off x="4326480" y="3653640"/>
              <a:ext cx="119160" cy="28872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8720"/>
                <a:gd name="textAreaBottom" fmla="*/ 276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03000" y="34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694320" y="3576600"/>
            <a:ext cx="363600" cy="459720"/>
            <a:chOff x="3694320" y="3576600"/>
            <a:chExt cx="363600" cy="459720"/>
          </a:xfrm>
        </p:grpSpPr>
        <p:sp>
          <p:nvSpPr>
            <p:cNvPr id="304" name=""/>
            <p:cNvSpPr/>
            <p:nvPr/>
          </p:nvSpPr>
          <p:spPr>
            <a:xfrm rot="5400000">
              <a:off x="3805560" y="3775680"/>
              <a:ext cx="119160" cy="289080"/>
            </a:xfrm>
            <a:custGeom>
              <a:avLst/>
              <a:gdLst>
                <a:gd name="textAreaLeft" fmla="*/ 34920 w 119160"/>
                <a:gd name="textAreaRight" fmla="*/ 119520 w 119160"/>
                <a:gd name="textAreaTop" fmla="*/ 11880 h 289080"/>
                <a:gd name="textAreaBottom" fmla="*/ 277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94320" y="35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789520" y="3297240"/>
            <a:ext cx="363600" cy="459720"/>
            <a:chOff x="5789520" y="3297240"/>
            <a:chExt cx="363600" cy="459720"/>
          </a:xfrm>
        </p:grpSpPr>
        <p:sp>
          <p:nvSpPr>
            <p:cNvPr id="307" name=""/>
            <p:cNvSpPr/>
            <p:nvPr/>
          </p:nvSpPr>
          <p:spPr>
            <a:xfrm rot="5400000">
              <a:off x="5901480" y="3496680"/>
              <a:ext cx="118800" cy="288720"/>
            </a:xfrm>
            <a:custGeom>
              <a:avLst/>
              <a:gdLst>
                <a:gd name="textAreaLeft" fmla="*/ 34920 w 118800"/>
                <a:gd name="textAreaRight" fmla="*/ 119160 w 118800"/>
                <a:gd name="textAreaTop" fmla="*/ 11880 h 288720"/>
                <a:gd name="textAreaBottom" fmla="*/ 276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89520" y="3297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83000" y="90360"/>
            <a:ext cx="41479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FA and RD chang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3306600" y="5397480"/>
            <a:ext cx="1752840" cy="914400"/>
          </a:xfrm>
          <a:prstGeom prst="parallelogram">
            <a:avLst>
              <a:gd name="adj" fmla="val 8113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8843600">
            <a:off x="3292200" y="56368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cing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8843600">
            <a:off x="3701160" y="5681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cingul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26A-5489-4344-9DCE-846287542B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05160" y="90360"/>
            <a:ext cx="449568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Current development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RACULA: A method for diffusion tractography that combines a global probabilistic approach with prior knowledge on path anatom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ore detailed models of tract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mproved inter-subject registr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ming soon to a FreeSurfer near you!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949-6107-463A-AEE6-892C53EEA7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4114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cknowledgem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upport provided in part by: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Center for Research Resources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P41 RR14075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RR16594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The NCRR BIRN Morphometric Project BIRN002, U24 RR021382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Institute for Biomedical Imaging and Bioengineer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K99 EB008129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EB001550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EB006758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Institute for Neurological Disorders and Strok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R01 NS052585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Mental Illness and Neuroscience Discovery (MIND) Institute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99"/>
                </a:solidFill>
                <a:latin typeface="Georgia"/>
              </a:rPr>
              <a:t>National Alliance for Medical Image Computing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unded by the NIH Roadmap for Medical Research, grant U54 EB005149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944-6AD5-464A-B818-E2A10C9052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85800" y="762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4600" y="90360"/>
            <a:ext cx="41148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Acknowledgement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58680" y="1317600"/>
            <a:ext cx="1581480" cy="183024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556000" y="1320840"/>
            <a:ext cx="137160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389560" y="1319040"/>
            <a:ext cx="137160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6781680" y="1320840"/>
            <a:ext cx="137160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5"/>
          <a:srcRect l="0" t="4167" r="0" b="0"/>
          <a:stretch/>
        </p:blipFill>
        <p:spPr>
          <a:xfrm>
            <a:off x="3940200" y="1322280"/>
            <a:ext cx="143028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6"/>
          <a:stretch/>
        </p:blipFill>
        <p:spPr>
          <a:xfrm>
            <a:off x="961920" y="3960720"/>
            <a:ext cx="2440080" cy="18306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2622600" y="3114720"/>
            <a:ext cx="55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Lilla Zöllei     Allison Stevens    David Salat       Bruce Fisch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575928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Saad Jbabdi      Tim Behr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36360" y="10587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Georgia"/>
              </a:rPr>
              <a:t>MGH/Marti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33120" y="3705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99"/>
                </a:solidFill>
                <a:latin typeface="Georgia"/>
              </a:rPr>
              <a:t>Oxford/FMR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7"/>
          <a:srcRect l="68608" t="5166" r="2160" b="36054"/>
          <a:stretch/>
        </p:blipFill>
        <p:spPr>
          <a:xfrm>
            <a:off x="3422520" y="3962520"/>
            <a:ext cx="1363680" cy="18288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5410080" y="34131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&amp; Jean Augustin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52AE-B92D-4D2A-8EE1-91A73FABC9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9960" y="364680"/>
            <a:ext cx="7038720" cy="642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in brain tis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362320"/>
            <a:ext cx="4191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ray matter: Diffusion is unrestricte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ite matter: Diffusion is restricte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ifferentiate tissues based on the diffusion (random motion) of water molecules withi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2705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765760" y="2260080"/>
            <a:ext cx="266760" cy="4064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42080" y="2806560"/>
            <a:ext cx="5331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965480" y="2806560"/>
            <a:ext cx="5331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295960" y="2971800"/>
            <a:ext cx="2793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03920" y="2945520"/>
            <a:ext cx="30492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83360" y="2286000"/>
            <a:ext cx="304560" cy="3808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5181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969160" y="5079600"/>
            <a:ext cx="482400" cy="15228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94360" y="5295960"/>
            <a:ext cx="482760" cy="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18120" y="5219280"/>
            <a:ext cx="5335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117760" y="5346000"/>
            <a:ext cx="546120" cy="5076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733920"/>
            <a:ext cx="2514600" cy="140976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4191120"/>
            <a:ext cx="2590920" cy="1371600"/>
          </a:xfrm>
          <a:custGeom>
            <a:avLst/>
            <a:gdLst/>
            <a:ahLst/>
            <a:rect l="l" t="t" r="r" b="b"/>
            <a:pathLst>
              <a:path w="1392" h="744">
                <a:moveTo>
                  <a:pt x="0" y="720"/>
                </a:moveTo>
                <a:cubicBezTo>
                  <a:pt x="316" y="732"/>
                  <a:pt x="632" y="744"/>
                  <a:pt x="864" y="624"/>
                </a:cubicBezTo>
                <a:cubicBezTo>
                  <a:pt x="1096" y="504"/>
                  <a:pt x="1304" y="104"/>
                  <a:pt x="13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4760" y="43815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89640" y="3949200"/>
            <a:ext cx="228600" cy="38124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53360" y="4076280"/>
            <a:ext cx="304920" cy="304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06880" y="4584600"/>
            <a:ext cx="291960" cy="3049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997680" y="4648320"/>
            <a:ext cx="177840" cy="342720"/>
          </a:xfrm>
          <a:prstGeom prst="line">
            <a:avLst/>
          </a:prstGeom>
          <a:ln w="19080">
            <a:solidFill>
              <a:srgbClr val="ffcc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3429000" cy="1306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70480" y="5130720"/>
            <a:ext cx="75960" cy="76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59400" y="5105520"/>
            <a:ext cx="3175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33840" y="5194440"/>
            <a:ext cx="57168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569-FC5E-434A-8C45-08B23EFE2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96720" y="90360"/>
            <a:ext cx="31021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iffusion MRI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gnetic resonance imaging can provide “diffusion encoding”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Magnetic field strength is varied by gradients in different direc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Image intensity is attenuated depending on water diffusion in each direc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mpare with baseline images to infer on diffusion proc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085" t="0" r="4816" b="0"/>
          <a:stretch/>
        </p:blipFill>
        <p:spPr>
          <a:xfrm>
            <a:off x="5181480" y="4724280"/>
            <a:ext cx="1096920" cy="132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65640" y="1338120"/>
            <a:ext cx="104796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rcRect l="2165" t="0" r="0" b="0"/>
          <a:stretch/>
        </p:blipFill>
        <p:spPr>
          <a:xfrm>
            <a:off x="6172200" y="1719360"/>
            <a:ext cx="1038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164360" y="2143080"/>
            <a:ext cx="106524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rcRect l="3744" t="0" r="0" b="0"/>
          <a:stretch/>
        </p:blipFill>
        <p:spPr>
          <a:xfrm>
            <a:off x="5165640" y="2701800"/>
            <a:ext cx="1063800" cy="12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0" r="2334" b="0"/>
          <a:stretch/>
        </p:blipFill>
        <p:spPr>
          <a:xfrm>
            <a:off x="6138720" y="3063960"/>
            <a:ext cx="106380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7"/>
          <a:srcRect l="2967" t="0" r="2967" b="0"/>
          <a:stretch/>
        </p:blipFill>
        <p:spPr>
          <a:xfrm>
            <a:off x="7170840" y="3506760"/>
            <a:ext cx="1058760" cy="127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732720" y="5630760"/>
            <a:ext cx="1371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No diffusion encod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936720"/>
            <a:ext cx="15242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Diffusion encoding in direction 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291360" y="5824440"/>
            <a:ext cx="457200" cy="18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154620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229520" y="1744560"/>
            <a:ext cx="35712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05920" y="175248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981920" y="192564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72080" y="408636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00680" y="40096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10160" y="4267080"/>
            <a:ext cx="380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38760" y="419076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76840" y="4572000"/>
            <a:ext cx="381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99"/>
                </a:solidFill>
                <a:latin typeface="Georgia"/>
              </a:rPr>
              <a:t>g</a:t>
            </a:r>
            <a:r>
              <a:rPr b="1" lang="en-US" sz="1200" spc="-1" strike="noStrike" baseline="-25000">
                <a:solidFill>
                  <a:srgbClr val="ff9999"/>
                </a:solidFill>
                <a:latin typeface="Georgi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805440" y="4495680"/>
            <a:ext cx="357480" cy="16056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248520" y="1270080"/>
            <a:ext cx="357120" cy="160200"/>
          </a:xfrm>
          <a:prstGeom prst="line">
            <a:avLst/>
          </a:prstGeom>
          <a:ln w="2844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97760" y="5869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F28-E9EA-45B7-A330-C0514B22E9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5680" y="90360"/>
            <a:ext cx="6253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Deterministic vs. probabilistic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83920" y="1066680"/>
            <a:ext cx="4203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termine “best” pathway between two brain reg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91600" indent="-29160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hallenge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-242640"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oisy, distorted image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-242640"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athway crossing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-242640">
              <a:buClr>
                <a:srgbClr val="ffffff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igh-dimensional spac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631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Deterministic methods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odel geometry of diffusion data, 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e.g.,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ensor/eigenvectors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Conturo ‘99, Jones ‘99, Mori ‘99, Basser ‘00, Catani ‘02, Parker ‘02, O’Donnell ‘02, Lazar ‘03, Jackowski ‘04, Pichon ‘05, Fletcher ‘07, Melonakos ‘07, …]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1066680"/>
            <a:ext cx="3809880" cy="3429000"/>
            <a:chOff x="4800600" y="1066680"/>
            <a:chExt cx="3809880" cy="3429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15504" t="0" r="15181" b="0"/>
            <a:stretch/>
          </p:blipFill>
          <p:spPr>
            <a:xfrm>
              <a:off x="4800600" y="1066680"/>
              <a:ext cx="38098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29200" y="1139400"/>
              <a:ext cx="219600" cy="218520"/>
            </a:xfrm>
            <a:prstGeom prst="ellipse">
              <a:avLst/>
            </a:prstGeom>
            <a:solidFill>
              <a:srgbClr val="00ccff">
                <a:alpha val="71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55760" y="3620160"/>
              <a:ext cx="219600" cy="218520"/>
            </a:xfrm>
            <a:prstGeom prst="ellipse">
              <a:avLst/>
            </a:prstGeom>
            <a:solidFill>
              <a:srgbClr val="00ccff">
                <a:alpha val="71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5520" y="1336320"/>
              <a:ext cx="927000" cy="223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59" y="919"/>
                  </a:moveTo>
                  <a:arcTo wR="10800" hR="10800" stAng="-3971581" swAng="86316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59" y="919"/>
                  </a:moveTo>
                  <a:arcTo wR="10800" hR="10800" stAng="-3971581" swAng="8631630"/>
                </a:path>
              </a:pathLst>
            </a:custGeom>
            <a:noFill/>
            <a:ln w="69840">
              <a:solidFill>
                <a:srgbClr val="33c1e5">
                  <a:alpha val="71000"/>
                </a:srgbClr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7480" y="1796040"/>
              <a:ext cx="55260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c1e5"/>
                  </a:solidFill>
                  <a:latin typeface="Arial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724280" y="4788000"/>
            <a:ext cx="4038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Probabilistic methods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Also model statistics of diffusion data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[Behrens ‘03, Hagmann ‘03, Pajevic ‘03, Jones ‘05, Lazar ‘05, Parker ‘05, Friman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‘06, Jbabdi ‘07, …]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9BC-418C-40F0-B374-3A68ECE94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4626" t="0" r="14074" b="0"/>
          <a:stretch/>
        </p:blipFill>
        <p:spPr>
          <a:xfrm>
            <a:off x="574560" y="1219320"/>
            <a:ext cx="396252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4280" y="90360"/>
            <a:ext cx="327204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cal vs. global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868" t="0" r="14866" b="1349"/>
          <a:stretch/>
        </p:blipFill>
        <p:spPr>
          <a:xfrm>
            <a:off x="4613400" y="1219320"/>
            <a:ext cx="3962160" cy="3484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594480" y="129528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96000" y="389412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31960" y="130644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800000">
            <a:off x="2752200" y="1534680"/>
            <a:ext cx="22860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00000">
            <a:off x="2885760" y="177300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220000">
            <a:off x="3014280" y="199044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9720" y="1384200"/>
            <a:ext cx="516240" cy="261648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Local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Uses local information to determine next step, errors propagate from areas of high uncertaint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Global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Integrates information along the entir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576480" y="1208160"/>
            <a:ext cx="823320" cy="2970000"/>
            <a:chOff x="6576480" y="1208160"/>
            <a:chExt cx="823320" cy="2970000"/>
          </a:xfrm>
        </p:grpSpPr>
        <p:sp>
          <p:nvSpPr>
            <p:cNvPr id="130" name=""/>
            <p:cNvSpPr/>
            <p:nvPr/>
          </p:nvSpPr>
          <p:spPr>
            <a:xfrm>
              <a:off x="6705720" y="1371600"/>
              <a:ext cx="579240" cy="2616120"/>
            </a:xfrm>
            <a:custGeom>
              <a:avLst/>
              <a:gdLst/>
              <a:ahLst/>
              <a:rect l="l" t="t" r="r" b="b"/>
              <a:pathLst>
                <a:path w="365" h="1648">
                  <a:moveTo>
                    <a:pt x="0" y="0"/>
                  </a:moveTo>
                  <a:cubicBezTo>
                    <a:pt x="114" y="148"/>
                    <a:pt x="228" y="296"/>
                    <a:pt x="288" y="432"/>
                  </a:cubicBezTo>
                  <a:cubicBezTo>
                    <a:pt x="348" y="568"/>
                    <a:pt x="365" y="675"/>
                    <a:pt x="360" y="816"/>
                  </a:cubicBezTo>
                  <a:cubicBezTo>
                    <a:pt x="355" y="957"/>
                    <a:pt x="307" y="1141"/>
                    <a:pt x="256" y="1280"/>
                  </a:cubicBezTo>
                  <a:cubicBezTo>
                    <a:pt x="205" y="1419"/>
                    <a:pt x="89" y="1587"/>
                    <a:pt x="56" y="16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33680" y="19051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35200" y="249084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920" y="321300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1520" y="380988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76480" y="12081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2B9-0A9A-4743-A507-D9FEC367C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0760" y="90360"/>
            <a:ext cx="397656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Local 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14626" t="0" r="14074" b="0"/>
          <a:stretch/>
        </p:blipFill>
        <p:spPr>
          <a:xfrm>
            <a:off x="574560" y="1219320"/>
            <a:ext cx="3962520" cy="3484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31960" y="130644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800000">
            <a:off x="2752200" y="1534680"/>
            <a:ext cx="22860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800000">
            <a:off x="2885760" y="177300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220000">
            <a:off x="3014280" y="199044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24280" y="12189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e a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“seed”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voxel or ROI to start the tract from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race the tract by small steps, determine “best” direction at each step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Determin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Only one possible direction at each step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8769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Probabil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any possible directions at each step (because of noise), some more likely tha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9720" y="1384200"/>
            <a:ext cx="516240" cy="261648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74F-4007-40E2-BB61-06236E5AB4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33600" y="90360"/>
            <a:ext cx="263232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Some issues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4626" t="0" r="14074" b="0"/>
          <a:stretch/>
        </p:blipFill>
        <p:spPr>
          <a:xfrm>
            <a:off x="574560" y="1219320"/>
            <a:ext cx="3962520" cy="3484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631960" y="130644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800000">
            <a:off x="2752200" y="1534680"/>
            <a:ext cx="228600" cy="219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00000">
            <a:off x="2885760" y="177300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220000">
            <a:off x="3014280" y="1990440"/>
            <a:ext cx="228600" cy="218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2428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ot constrained to a connection of the seed to a target reg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How do we isolate a specific connection? We can set a threshold, but how?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What if we want a non-dominant connection? We can define waypoints, but there’s no guarantee that we’ll reach them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7848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Not symmetric between tract “start” and “end”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9720" y="1384200"/>
            <a:ext cx="516240" cy="2616480"/>
          </a:xfrm>
          <a:custGeom>
            <a:avLst/>
            <a:gdLst/>
            <a:ahLst/>
            <a:rect l="l" t="t" r="r" b="b"/>
            <a:pathLst>
              <a:path w="365" h="1648">
                <a:moveTo>
                  <a:pt x="0" y="0"/>
                </a:moveTo>
                <a:cubicBezTo>
                  <a:pt x="114" y="148"/>
                  <a:pt x="228" y="296"/>
                  <a:pt x="288" y="432"/>
                </a:cubicBezTo>
                <a:cubicBezTo>
                  <a:pt x="348" y="568"/>
                  <a:pt x="365" y="675"/>
                  <a:pt x="360" y="816"/>
                </a:cubicBezTo>
                <a:cubicBezTo>
                  <a:pt x="355" y="957"/>
                  <a:pt x="307" y="1141"/>
                  <a:pt x="256" y="1280"/>
                </a:cubicBezTo>
                <a:cubicBezTo>
                  <a:pt x="205" y="1419"/>
                  <a:pt x="89" y="1587"/>
                  <a:pt x="56" y="1648"/>
                </a:cubicBez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309-431F-4B4F-9A6E-8F60B798D2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23600" y="90360"/>
            <a:ext cx="4210200" cy="1191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Georgia"/>
              </a:rPr>
              <a:t>Global tractography</a:t>
            </a:r>
            <a:endParaRPr b="0" lang="en-US" sz="3600" spc="-1" strike="noStrike">
              <a:solidFill>
                <a:srgbClr val="99ff99"/>
              </a:solidFill>
              <a:latin typeface="Georg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4868" t="0" r="14866" b="1349"/>
          <a:stretch/>
        </p:blipFill>
        <p:spPr>
          <a:xfrm>
            <a:off x="584280" y="1219320"/>
            <a:ext cx="3962160" cy="3484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65360" y="129528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3894120"/>
            <a:ext cx="228600" cy="228600"/>
          </a:xfrm>
          <a:prstGeom prst="ellipse">
            <a:avLst/>
          </a:prstGeom>
          <a:solidFill>
            <a:srgbClr val="00ccff">
              <a:alpha val="71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" y="458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23920" y="119340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e a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“seed”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voxel or ROI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Define a </a:t>
            </a: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“target”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voxel or ROI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Determin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Only one possible path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fffb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b6a"/>
                </a:solidFill>
                <a:latin typeface="Georgia"/>
              </a:rPr>
              <a:t>Probabilistic: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Many possible paths, find their probability distribu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87692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onstrained to a specific conn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ymmetric between seed and targe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50600" y="1208160"/>
            <a:ext cx="823320" cy="2970000"/>
            <a:chOff x="2550600" y="1208160"/>
            <a:chExt cx="823320" cy="2970000"/>
          </a:xfrm>
        </p:grpSpPr>
        <p:sp>
          <p:nvSpPr>
            <p:cNvPr id="162" name=""/>
            <p:cNvSpPr/>
            <p:nvPr/>
          </p:nvSpPr>
          <p:spPr>
            <a:xfrm>
              <a:off x="2679840" y="1371600"/>
              <a:ext cx="579240" cy="2616120"/>
            </a:xfrm>
            <a:custGeom>
              <a:avLst/>
              <a:gdLst/>
              <a:ahLst/>
              <a:rect l="l" t="t" r="r" b="b"/>
              <a:pathLst>
                <a:path w="365" h="1648">
                  <a:moveTo>
                    <a:pt x="0" y="0"/>
                  </a:moveTo>
                  <a:cubicBezTo>
                    <a:pt x="114" y="148"/>
                    <a:pt x="228" y="296"/>
                    <a:pt x="288" y="432"/>
                  </a:cubicBezTo>
                  <a:cubicBezTo>
                    <a:pt x="348" y="568"/>
                    <a:pt x="365" y="675"/>
                    <a:pt x="360" y="816"/>
                  </a:cubicBezTo>
                  <a:cubicBezTo>
                    <a:pt x="355" y="957"/>
                    <a:pt x="307" y="1141"/>
                    <a:pt x="256" y="1280"/>
                  </a:cubicBezTo>
                  <a:cubicBezTo>
                    <a:pt x="205" y="1419"/>
                    <a:pt x="89" y="1587"/>
                    <a:pt x="56" y="16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7800" y="190512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9320" y="249084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57040" y="321300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5640" y="380988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600" y="1208160"/>
              <a:ext cx="2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E43-884E-452C-ACBC-00420F504F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57:04Z</dcterms:created>
  <dc:creator>Anastasia Yendiki</dc:creator>
  <dc:description/>
  <dc:language>en-US</dc:language>
  <cp:lastModifiedBy>Anastasia Yendiki</cp:lastModifiedBy>
  <dcterms:modified xsi:type="dcterms:W3CDTF">2010-02-02T15:03:35Z</dcterms:modified>
  <cp:revision>26</cp:revision>
  <dc:subject/>
  <dc:title>Future directions: TRActs Constrained by UnderLying  Anatomy (TRACULA) </dc:title>
</cp:coreProperties>
</file>