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9561-7A3E-4F32-B62B-B718F7A9FE1E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9086760" cy="20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Analysis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 an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772080" y="18478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195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196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208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212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234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236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240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242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247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2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251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294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Neighborhood is 2D, not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3240" indent="-453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duced search space (corrections for multiple comparison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5" name="" descr="groupana.lat.clusters.gif"/>
          <p:cNvPicPr/>
          <p:nvPr/>
        </p:nvPicPr>
        <p:blipFill>
          <a:blip r:embed="rId1"/>
          <a:stretch/>
        </p:blipFill>
        <p:spPr>
          <a:xfrm>
            <a:off x="4457880" y="4191120"/>
            <a:ext cx="32889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56920" y="0"/>
            <a:ext cx="71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5560" y="990720"/>
            <a:ext cx="762948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urface-based Analysis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unction has surface-based organiz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ter-subject registration: anatomy, not intens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moot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ustering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ike 3D, but 2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8986" t="6171" r="4119" b="11536"/>
          <a:stretch/>
        </p:blipFill>
        <p:spPr>
          <a:xfrm>
            <a:off x="1371600" y="4648320"/>
            <a:ext cx="3257640" cy="1996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714920" y="4724280"/>
            <a:ext cx="3429000" cy="1920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100240" y="426708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FreeSurf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0720" y="42991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 Happ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86080" y="1295280"/>
            <a:ext cx="70102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tivatio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ordinate System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3D (Volumetri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(Surface-based)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-based cluster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1480" y="180720"/>
            <a:ext cx="8809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a Model of the Cortical Surface Useful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9560" y="1822320"/>
            <a:ext cx="943632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2514600"/>
                <a:tab algn="l" pos="3718080"/>
                <a:tab algn="l" pos="5576760"/>
                <a:tab algn="l" pos="7435800"/>
                <a:tab algn="l" pos="9294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unctional organization of cortex is largely 2-dimensional! Eg, functional mapping of primary visual area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4760" y="2863800"/>
            <a:ext cx="9354960" cy="272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3080" y="62485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(Sereno et al, 1995, Science)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1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97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18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28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33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42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1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56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0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66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8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73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5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3-19T16:35:35Z</dcterms:modified>
  <cp:revision>958</cp:revision>
  <dc:subject/>
  <dc:title>Understanding Differential Responses in fMRI Through Linear Simulation</dc:title>
</cp:coreProperties>
</file>