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17640" y="696600"/>
            <a:ext cx="517680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how many data points you have, there is still only one slope and one inter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09720" y="69228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SUBJECTS_DIR, issue a command (mksubjdirs) to create directory structure. Convert (using mri_convert) data to COR format and store in mri/RRR, run recon-all. Typically, we acquire 3 high-quality T1 volumes to use as input to reconstruction (128-slice sagital, 1 mm in-plane resolu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7640" y="696960"/>
            <a:ext cx="5176800" cy="345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387680"/>
            <a:ext cx="5140440" cy="4158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199C-1478-4DFD-B06E-8AC6A772DEAA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re than Two Data Poin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8680" y="4267080"/>
            <a:ext cx="3000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3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3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4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4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676840" y="1600200"/>
            <a:ext cx="3049200" cy="1834920"/>
            <a:chOff x="5676840" y="1600200"/>
            <a:chExt cx="3049200" cy="1834920"/>
          </a:xfrm>
        </p:grpSpPr>
        <p:sp>
          <p:nvSpPr>
            <p:cNvPr id="290" name=""/>
            <p:cNvSpPr/>
            <p:nvPr/>
          </p:nvSpPr>
          <p:spPr>
            <a:xfrm>
              <a:off x="5754240" y="1616040"/>
              <a:ext cx="5374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97600" y="1616040"/>
              <a:ext cx="8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x4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69560" y="1600200"/>
              <a:ext cx="456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676840" y="1676520"/>
              <a:ext cx="74520" cy="1752120"/>
              <a:chOff x="5676840" y="1676520"/>
              <a:chExt cx="74520" cy="1752120"/>
            </a:xfrm>
          </p:grpSpPr>
          <p:sp>
            <p:nvSpPr>
              <p:cNvPr id="294" name=""/>
              <p:cNvSpPr/>
              <p:nvPr/>
            </p:nvSpPr>
            <p:spPr>
              <a:xfrm>
                <a:off x="5693760" y="1676520"/>
                <a:ext cx="0" cy="17521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676840" y="3428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7684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896160" y="1676520"/>
              <a:ext cx="74520" cy="1758600"/>
              <a:chOff x="6896160" y="1676520"/>
              <a:chExt cx="74520" cy="1758600"/>
            </a:xfrm>
          </p:grpSpPr>
          <p:sp>
            <p:nvSpPr>
              <p:cNvPr id="298" name=""/>
              <p:cNvSpPr/>
              <p:nvPr/>
            </p:nvSpPr>
            <p:spPr>
              <a:xfrm>
                <a:off x="6913080" y="167652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96160" y="34351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96160" y="1676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8267760" y="1654200"/>
              <a:ext cx="74520" cy="838440"/>
              <a:chOff x="8267760" y="1654200"/>
              <a:chExt cx="74520" cy="838440"/>
            </a:xfrm>
          </p:grpSpPr>
          <p:sp>
            <p:nvSpPr>
              <p:cNvPr id="302" name=""/>
              <p:cNvSpPr/>
              <p:nvPr/>
            </p:nvSpPr>
            <p:spPr>
              <a:xfrm>
                <a:off x="8284680" y="165420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267760" y="24926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267760" y="16542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8648280" y="1653840"/>
              <a:ext cx="74520" cy="838440"/>
              <a:chOff x="8648280" y="1653840"/>
              <a:chExt cx="74520" cy="83844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8705880" y="1653840"/>
                <a:ext cx="0" cy="838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8648280" y="1653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8648280" y="24922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734240" y="1670400"/>
              <a:ext cx="76320" cy="1758600"/>
              <a:chOff x="7734240" y="1670400"/>
              <a:chExt cx="76320" cy="1758600"/>
            </a:xfrm>
          </p:grpSpPr>
          <p:sp>
            <p:nvSpPr>
              <p:cNvPr id="310" name=""/>
              <p:cNvSpPr/>
              <p:nvPr/>
            </p:nvSpPr>
            <p:spPr>
              <a:xfrm flipV="1">
                <a:off x="779292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7734240" y="16704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7734240" y="342900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210000" y="1670400"/>
              <a:ext cx="75960" cy="1758600"/>
              <a:chOff x="6210000" y="1670400"/>
              <a:chExt cx="75960" cy="175860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6268680" y="1670400"/>
                <a:ext cx="0" cy="175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6210000" y="16704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210000" y="342900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363360" y="180684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11640" y="1806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988600" y="36576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960" y="1828800"/>
            <a:ext cx="2971800" cy="22860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7480" y="1752480"/>
            <a:ext cx="1676160" cy="457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 rot="21465000">
            <a:off x="2247120" y="2895120"/>
            <a:ext cx="457200" cy="381240"/>
          </a:xfrm>
          <a:prstGeom prst="rtTriangle">
            <a:avLst/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3480" y="129528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Intercept: 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39640" y="213372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Slope: 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000" y="114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01400" y="3505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81160" y="1828800"/>
            <a:ext cx="0" cy="2133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6240" y="3733920"/>
            <a:ext cx="3048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62040" y="22096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34290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705040" y="2590920"/>
            <a:ext cx="914400" cy="3045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86280" y="29718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43280" y="3124080"/>
            <a:ext cx="15228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95560" y="2514600"/>
            <a:ext cx="152280" cy="15228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33440" y="2666880"/>
            <a:ext cx="152640" cy="152640"/>
          </a:xfrm>
          <a:prstGeom prst="ellipse">
            <a:avLst/>
          </a:prstGeom>
          <a:solidFill>
            <a:srgbClr val="da68ff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28400" y="4343400"/>
            <a:ext cx="244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odel Err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Uncertaint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rvar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409760" y="236232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19240" y="283860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71880" y="2567160"/>
            <a:ext cx="0" cy="38088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162240" y="3047760"/>
            <a:ext cx="0" cy="6858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38360" y="2257560"/>
            <a:ext cx="0" cy="30456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705040" y="3352320"/>
            <a:ext cx="0" cy="149400"/>
          </a:xfrm>
          <a:prstGeom prst="line">
            <a:avLst/>
          </a:prstGeom>
          <a:ln w="28440">
            <a:solidFill>
              <a:srgbClr val="fd141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-Test and p-val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9320" y="1676520"/>
            <a:ext cx="1851120" cy="7034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 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7120" y="91440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543480" y="99072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15320" y="243828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91040" y="1219320"/>
            <a:ext cx="4953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91040" y="213372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94640" y="1752480"/>
            <a:ext cx="5657760" cy="4367160"/>
            <a:chOff x="494640" y="1752480"/>
            <a:chExt cx="5657760" cy="4367160"/>
          </a:xfrm>
        </p:grpSpPr>
        <p:grpSp>
          <p:nvGrpSpPr>
            <p:cNvPr id="352" name=""/>
            <p:cNvGrpSpPr/>
            <p:nvPr/>
          </p:nvGrpSpPr>
          <p:grpSpPr>
            <a:xfrm>
              <a:off x="494640" y="1752480"/>
              <a:ext cx="5657760" cy="4367160"/>
              <a:chOff x="494640" y="1752480"/>
              <a:chExt cx="5657760" cy="4367160"/>
            </a:xfrm>
          </p:grpSpPr>
          <p:sp>
            <p:nvSpPr>
              <p:cNvPr id="353" name=""/>
              <p:cNvSpPr/>
              <p:nvPr/>
            </p:nvSpPr>
            <p:spPr>
              <a:xfrm>
                <a:off x="804600" y="2772360"/>
                <a:ext cx="4024080" cy="31582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527120" y="2246040"/>
                <a:ext cx="2063520" cy="1052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21465000">
                <a:off x="2248560" y="3719880"/>
                <a:ext cx="618840" cy="52560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659320" y="175248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Intercept: b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92520" y="259488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Slope: m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4640" y="1824840"/>
                <a:ext cx="121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hickness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243040" y="50889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23800" y="2772360"/>
                <a:ext cx="0" cy="2948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11600" y="5404680"/>
                <a:ext cx="41270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868840" y="3088080"/>
                <a:ext cx="1341000" cy="7369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8680" y="3825360"/>
                <a:ext cx="5056200" cy="1368360"/>
              </a:xfrm>
              <a:prstGeom prst="line">
                <a:avLst/>
              </a:prstGeom>
              <a:ln w="572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33840" y="5720760"/>
                <a:ext cx="14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Intercept: b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930920" y="3825360"/>
                <a:ext cx="122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1414"/>
                    </a:solidFill>
                    <a:latin typeface="Times New Roman"/>
                  </a:rPr>
                  <a:t>Slope: m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 rot="20162400">
                <a:off x="4208760" y="4534560"/>
                <a:ext cx="618840" cy="526680"/>
              </a:xfrm>
              <a:prstGeom prst="rtTriangle">
                <a:avLst/>
              </a:prstGeom>
              <a:solidFill>
                <a:srgbClr val="618ffd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829040" y="4351320"/>
                <a:ext cx="825480" cy="31572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27120" y="4246200"/>
                <a:ext cx="1134720" cy="1474200"/>
              </a:xfrm>
              <a:prstGeom prst="line">
                <a:avLst/>
              </a:prstGeom>
              <a:ln w="19080">
                <a:solidFill>
                  <a:srgbClr val="fd1414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594440" y="39232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40080" y="4444560"/>
              <a:ext cx="8424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5548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69960" y="444456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16520" y="479160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7200" y="4097160"/>
              <a:ext cx="84600" cy="8676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46400" y="4965480"/>
              <a:ext cx="84600" cy="86400"/>
            </a:xfrm>
            <a:prstGeom prst="ellipse">
              <a:avLst/>
            </a:prstGeom>
            <a:solidFill>
              <a:srgbClr val="fd1414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71800" y="279432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94440" y="357588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86640" y="3402360"/>
              <a:ext cx="84240" cy="86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17080" y="401004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01120" y="42706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9960" y="5139000"/>
              <a:ext cx="8460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62160" y="5660280"/>
              <a:ext cx="84240" cy="86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94640" y="1066680"/>
            <a:ext cx="4497480" cy="3270960"/>
            <a:chOff x="494640" y="1066680"/>
            <a:chExt cx="4497480" cy="3270960"/>
          </a:xfrm>
        </p:grpSpPr>
        <p:sp>
          <p:nvSpPr>
            <p:cNvPr id="385" name=""/>
            <p:cNvSpPr/>
            <p:nvPr/>
          </p:nvSpPr>
          <p:spPr>
            <a:xfrm>
              <a:off x="723600" y="1805040"/>
              <a:ext cx="297144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257120" y="1424160"/>
              <a:ext cx="1523520" cy="7617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21465000">
              <a:off x="1790640" y="248976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93040" y="10666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56240" y="167652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4640" y="111924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1040" y="3481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0800" y="180504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6240" y="3710160"/>
              <a:ext cx="30474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247840" y="2033640"/>
              <a:ext cx="990000" cy="5335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1320" y="2567160"/>
              <a:ext cx="3733560" cy="99036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83560" y="39387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70640" y="256716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 rot="20162400">
              <a:off x="3238200" y="3081240"/>
              <a:ext cx="45684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695400" y="2947680"/>
              <a:ext cx="609480" cy="22860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7120" y="2871720"/>
              <a:ext cx="837720" cy="10670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647640" y="4495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1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2 = 1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x12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b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  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x22*</a:t>
            </a: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43680" y="1219320"/>
            <a:ext cx="4401000" cy="1910520"/>
            <a:chOff x="5143680" y="1219320"/>
            <a:chExt cx="4401000" cy="1910520"/>
          </a:xfrm>
        </p:grpSpPr>
        <p:sp>
          <p:nvSpPr>
            <p:cNvPr id="403" name=""/>
            <p:cNvSpPr/>
            <p:nvPr/>
          </p:nvSpPr>
          <p:spPr>
            <a:xfrm>
              <a:off x="5172840" y="1295280"/>
              <a:ext cx="715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17800" y="1311120"/>
              <a:ext cx="2045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12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 1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 x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73720" y="126972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5143680" y="1371600"/>
              <a:ext cx="74520" cy="1751760"/>
              <a:chOff x="5143680" y="1371600"/>
              <a:chExt cx="74520" cy="1751760"/>
            </a:xfrm>
          </p:grpSpPr>
          <p:sp>
            <p:nvSpPr>
              <p:cNvPr id="407" name=""/>
              <p:cNvSpPr/>
              <p:nvPr/>
            </p:nvSpPr>
            <p:spPr>
              <a:xfrm>
                <a:off x="5160600" y="1371600"/>
                <a:ext cx="0" cy="1751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43680" y="312336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1436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515280" y="1371600"/>
              <a:ext cx="74520" cy="1758240"/>
              <a:chOff x="6515280" y="1371600"/>
              <a:chExt cx="74520" cy="1758240"/>
            </a:xfrm>
          </p:grpSpPr>
          <p:sp>
            <p:nvSpPr>
              <p:cNvPr id="411" name=""/>
              <p:cNvSpPr/>
              <p:nvPr/>
            </p:nvSpPr>
            <p:spPr>
              <a:xfrm>
                <a:off x="6532200" y="137160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15280" y="3129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15280" y="13716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8982360" y="1219320"/>
              <a:ext cx="74520" cy="1599480"/>
              <a:chOff x="8982360" y="1219320"/>
              <a:chExt cx="74520" cy="1599480"/>
            </a:xfrm>
          </p:grpSpPr>
          <p:sp>
            <p:nvSpPr>
              <p:cNvPr id="415" name=""/>
              <p:cNvSpPr/>
              <p:nvPr/>
            </p:nvSpPr>
            <p:spPr>
              <a:xfrm>
                <a:off x="8999280" y="121932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82360" y="28188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82360" y="12193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8572680" y="1295280"/>
              <a:ext cx="76320" cy="1758240"/>
              <a:chOff x="8572680" y="1295280"/>
              <a:chExt cx="76320" cy="1758240"/>
            </a:xfrm>
          </p:grpSpPr>
          <p:sp>
            <p:nvSpPr>
              <p:cNvPr id="419" name=""/>
              <p:cNvSpPr/>
              <p:nvPr/>
            </p:nvSpPr>
            <p:spPr>
              <a:xfrm flipV="1">
                <a:off x="8631360" y="129528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8572680" y="12952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572680" y="30535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829480" y="1365120"/>
              <a:ext cx="76320" cy="1758240"/>
              <a:chOff x="5829480" y="1365120"/>
              <a:chExt cx="76320" cy="175824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5888160" y="1365120"/>
                <a:ext cx="0" cy="1758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5829480" y="13651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829480" y="31233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011280" y="1904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02200" y="1295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9439200" y="1219680"/>
              <a:ext cx="75960" cy="1599480"/>
              <a:chOff x="9439200" y="1219680"/>
              <a:chExt cx="75960" cy="1599480"/>
            </a:xfrm>
          </p:grpSpPr>
          <p:sp>
            <p:nvSpPr>
              <p:cNvPr id="429" name=""/>
              <p:cNvSpPr/>
              <p:nvPr/>
            </p:nvSpPr>
            <p:spPr>
              <a:xfrm flipV="1">
                <a:off x="9497880" y="1219680"/>
                <a:ext cx="0" cy="1599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9439200" y="12196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9439200" y="281916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7665120" y="35053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wo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904720" y="4267080"/>
            <a:ext cx="3664800" cy="2407680"/>
            <a:chOff x="5904720" y="4267080"/>
            <a:chExt cx="3664800" cy="2407680"/>
          </a:xfrm>
        </p:grpSpPr>
        <p:sp>
          <p:nvSpPr>
            <p:cNvPr id="435" name=""/>
            <p:cNvSpPr/>
            <p:nvPr/>
          </p:nvSpPr>
          <p:spPr>
            <a:xfrm>
              <a:off x="6075720" y="4783320"/>
              <a:ext cx="2216520" cy="15987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73880" y="4516920"/>
              <a:ext cx="1136520" cy="532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 rot="21465000">
              <a:off x="6870960" y="5263200"/>
              <a:ext cx="340920" cy="26640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6680" y="42670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Intercept: b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66200" y="469440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Slope: m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4720" y="430380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20840" y="59562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16640" y="4783320"/>
              <a:ext cx="0" cy="1492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89480" y="6116040"/>
              <a:ext cx="22730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7212600" y="4943160"/>
              <a:ext cx="738360" cy="37296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62320" y="5316480"/>
              <a:ext cx="2784960" cy="69264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40560" y="627588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Intercept: b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48040" y="5316480"/>
              <a:ext cx="122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lope: m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 rot="20162400">
              <a:off x="7951320" y="5675760"/>
              <a:ext cx="340920" cy="26676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292600" y="5582880"/>
              <a:ext cx="454680" cy="15984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3880" y="5529600"/>
              <a:ext cx="624960" cy="746280"/>
            </a:xfrm>
            <a:prstGeom prst="line">
              <a:avLst/>
            </a:prstGeom>
            <a:ln w="19080">
              <a:solidFill>
                <a:srgbClr val="fd141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52560" y="12193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Intercept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=b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b1-b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54000" y="4952880"/>
            <a:ext cx="424368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verage slope different than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(m1+m2)/2 = 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53720" y="1066680"/>
            <a:ext cx="71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1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98320" y="1082520"/>
            <a:ext cx="204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1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  0  x12  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  1    0  x22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524560" y="1143000"/>
            <a:ext cx="74520" cy="1752120"/>
            <a:chOff x="5524560" y="1143000"/>
            <a:chExt cx="74520" cy="1752120"/>
          </a:xfrm>
        </p:grpSpPr>
        <p:sp>
          <p:nvSpPr>
            <p:cNvPr id="456" name=""/>
            <p:cNvSpPr/>
            <p:nvPr/>
          </p:nvSpPr>
          <p:spPr>
            <a:xfrm>
              <a:off x="5541480" y="1143000"/>
              <a:ext cx="0" cy="175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289512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245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896160" y="1143000"/>
            <a:ext cx="74520" cy="1758600"/>
            <a:chOff x="6896160" y="1143000"/>
            <a:chExt cx="74520" cy="1758600"/>
          </a:xfrm>
        </p:grpSpPr>
        <p:sp>
          <p:nvSpPr>
            <p:cNvPr id="460" name=""/>
            <p:cNvSpPr/>
            <p:nvPr/>
          </p:nvSpPr>
          <p:spPr>
            <a:xfrm>
              <a:off x="6913080" y="114300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96160" y="29016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96160" y="1143000"/>
              <a:ext cx="74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8953560" y="1067040"/>
            <a:ext cx="76320" cy="1758600"/>
            <a:chOff x="8953560" y="1067040"/>
            <a:chExt cx="76320" cy="1758600"/>
          </a:xfrm>
        </p:grpSpPr>
        <p:sp>
          <p:nvSpPr>
            <p:cNvPr id="464" name=""/>
            <p:cNvSpPr/>
            <p:nvPr/>
          </p:nvSpPr>
          <p:spPr>
            <a:xfrm flipV="1">
              <a:off x="9012240" y="106704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953560" y="10670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953560" y="282564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210360" y="1136880"/>
            <a:ext cx="76320" cy="1758600"/>
            <a:chOff x="6210360" y="1136880"/>
            <a:chExt cx="76320" cy="1758600"/>
          </a:xfrm>
        </p:grpSpPr>
        <p:sp>
          <p:nvSpPr>
            <p:cNvPr id="468" name=""/>
            <p:cNvSpPr/>
            <p:nvPr/>
          </p:nvSpPr>
          <p:spPr>
            <a:xfrm flipV="1">
              <a:off x="6269040" y="1136880"/>
              <a:ext cx="0" cy="175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210360" y="11368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6210360" y="2895480"/>
              <a:ext cx="76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6392160" y="16765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983080" y="1066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9334440" y="990720"/>
            <a:ext cx="591120" cy="1607760"/>
            <a:chOff x="9334440" y="990720"/>
            <a:chExt cx="591120" cy="1607760"/>
          </a:xfrm>
        </p:grpSpPr>
        <p:sp>
          <p:nvSpPr>
            <p:cNvPr id="474" name=""/>
            <p:cNvSpPr/>
            <p:nvPr/>
          </p:nvSpPr>
          <p:spPr>
            <a:xfrm>
              <a:off x="9354600" y="104148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9334440" y="990720"/>
              <a:ext cx="102960" cy="1599840"/>
              <a:chOff x="9334440" y="990720"/>
              <a:chExt cx="102960" cy="1599840"/>
            </a:xfrm>
          </p:grpSpPr>
          <p:sp>
            <p:nvSpPr>
              <p:cNvPr id="476" name=""/>
              <p:cNvSpPr/>
              <p:nvPr/>
            </p:nvSpPr>
            <p:spPr>
              <a:xfrm>
                <a:off x="935820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334440" y="259056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334440" y="990720"/>
                <a:ext cx="102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9791640" y="990720"/>
              <a:ext cx="76320" cy="1599840"/>
              <a:chOff x="9791640" y="990720"/>
              <a:chExt cx="76320" cy="1599840"/>
            </a:xfrm>
          </p:grpSpPr>
          <p:sp>
            <p:nvSpPr>
              <p:cNvPr id="480" name=""/>
              <p:cNvSpPr/>
              <p:nvPr/>
            </p:nvSpPr>
            <p:spPr>
              <a:xfrm flipV="1">
                <a:off x="9850320" y="99072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9791640" y="9907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9791640" y="259056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5836320" y="327672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52560" y="3048120"/>
            <a:ext cx="426708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groups differ in Slope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=m2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m1-m2=0?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[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C*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258480" y="3124080"/>
            <a:ext cx="590400" cy="1607760"/>
            <a:chOff x="9258480" y="3124080"/>
            <a:chExt cx="590400" cy="1607760"/>
          </a:xfrm>
        </p:grpSpPr>
        <p:sp>
          <p:nvSpPr>
            <p:cNvPr id="486" name=""/>
            <p:cNvSpPr/>
            <p:nvPr/>
          </p:nvSpPr>
          <p:spPr>
            <a:xfrm>
              <a:off x="9277920" y="3174840"/>
              <a:ext cx="570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b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b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1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d1414"/>
                  </a:solidFill>
                  <a:latin typeface="Times New Roman"/>
                </a:rPr>
                <a:t>m2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9258480" y="3124080"/>
              <a:ext cx="102600" cy="1599840"/>
              <a:chOff x="9258480" y="3124080"/>
              <a:chExt cx="102600" cy="1599840"/>
            </a:xfrm>
          </p:grpSpPr>
          <p:sp>
            <p:nvSpPr>
              <p:cNvPr id="488" name=""/>
              <p:cNvSpPr/>
              <p:nvPr/>
            </p:nvSpPr>
            <p:spPr>
              <a:xfrm>
                <a:off x="92822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258480" y="472392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58480" y="3124080"/>
                <a:ext cx="102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9714960" y="3124080"/>
              <a:ext cx="75960" cy="1599840"/>
              <a:chOff x="9714960" y="3124080"/>
              <a:chExt cx="75960" cy="1599840"/>
            </a:xfrm>
          </p:grpSpPr>
          <p:sp>
            <p:nvSpPr>
              <p:cNvPr id="492" name=""/>
              <p:cNvSpPr/>
              <p:nvPr/>
            </p:nvSpPr>
            <p:spPr>
              <a:xfrm flipV="1">
                <a:off x="9773640" y="3124080"/>
                <a:ext cx="0" cy="1599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9714960" y="312408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9714960" y="4723920"/>
                <a:ext cx="7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8308440" y="3505320"/>
            <a:ext cx="10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Symbol"/>
                <a:ea typeface="Symbol"/>
              </a:rPr>
              <a:t>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 in FreeSurfe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28160" y="2033640"/>
            <a:ext cx="8148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your own design matrix and contrast matri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eate an FSGD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 creates desig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 still have to specify contra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QDE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discrete variables, 2 levels ma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imited to 2 continuous variab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202760" y="53352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09760" y="137160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 (FSG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202880" y="1521000"/>
            <a:ext cx="2821680" cy="1434600"/>
            <a:chOff x="7202880" y="1521000"/>
            <a:chExt cx="2821680" cy="1434600"/>
          </a:xfrm>
        </p:grpSpPr>
        <p:sp>
          <p:nvSpPr>
            <p:cNvPr id="501" name=""/>
            <p:cNvSpPr/>
            <p:nvPr/>
          </p:nvSpPr>
          <p:spPr>
            <a:xfrm>
              <a:off x="7202880" y="1521000"/>
              <a:ext cx="717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afd00"/>
                  </a:solidFill>
                  <a:latin typeface="Times New Roman"/>
                </a:rPr>
                <a:t>}</a:t>
              </a:r>
              <a:endParaRPr b="0" lang="en-US" sz="8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31720" y="2112840"/>
              <a:ext cx="22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recon-all -qcach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cifying 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99920" y="3581280"/>
            <a:ext cx="1447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09960" y="1676520"/>
            <a:ext cx="46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$SUBJECTS_DI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7906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19440" y="3505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enn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24560" y="3505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rgaret   …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288000" indent="-2880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638000" y="23623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3162240" y="2362320"/>
            <a:ext cx="1828800" cy="106668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4762080" y="2362320"/>
            <a:ext cx="22860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91040" y="2362320"/>
            <a:ext cx="2133720" cy="114300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19040" y="4114800"/>
            <a:ext cx="2219400" cy="990000"/>
            <a:chOff x="419040" y="4114800"/>
            <a:chExt cx="2219400" cy="990000"/>
          </a:xfrm>
        </p:grpSpPr>
        <p:sp>
          <p:nvSpPr>
            <p:cNvPr id="514" name=""/>
            <p:cNvSpPr/>
            <p:nvPr/>
          </p:nvSpPr>
          <p:spPr>
            <a:xfrm>
              <a:off x="1540800" y="4114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9040" y="4609800"/>
              <a:ext cx="22194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388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2089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986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88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376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3932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52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90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38440" y="460980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543480" y="4038480"/>
            <a:ext cx="2219040" cy="990000"/>
            <a:chOff x="3543480" y="4038480"/>
            <a:chExt cx="2219040" cy="990000"/>
          </a:xfrm>
        </p:grpSpPr>
        <p:sp>
          <p:nvSpPr>
            <p:cNvPr id="526" name=""/>
            <p:cNvSpPr/>
            <p:nvPr/>
          </p:nvSpPr>
          <p:spPr>
            <a:xfrm>
              <a:off x="46648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434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7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3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30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2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78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637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29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434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625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286680" y="4038480"/>
            <a:ext cx="2219040" cy="990000"/>
            <a:chOff x="6286680" y="4038480"/>
            <a:chExt cx="2219040" cy="990000"/>
          </a:xfrm>
        </p:grpSpPr>
        <p:sp>
          <p:nvSpPr>
            <p:cNvPr id="538" name=""/>
            <p:cNvSpPr/>
            <p:nvPr/>
          </p:nvSpPr>
          <p:spPr>
            <a:xfrm>
              <a:off x="7408080" y="4038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86680" y="4533480"/>
              <a:ext cx="221904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911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762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662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55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4104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0696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728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8668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505720" y="4533480"/>
              <a:ext cx="0" cy="4950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H="1">
            <a:off x="2836800" y="4038480"/>
            <a:ext cx="20880" cy="13338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14680" y="5372280"/>
            <a:ext cx="2219040" cy="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19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35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939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84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8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353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0016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1468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33720" y="5372280"/>
            <a:ext cx="0" cy="495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360" y="3429000"/>
            <a:ext cx="2057400" cy="8380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0280" y="1752480"/>
            <a:ext cx="457200" cy="1600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6040" y="1147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0036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eeSurfer Directory Tre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42720" y="990720"/>
            <a:ext cx="921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r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m    stats     morp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ri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rgb  scripts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r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tiff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lab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ig    T1    brain     wm     aseg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42840" y="1371600"/>
            <a:ext cx="7972200" cy="914400"/>
            <a:chOff x="942840" y="1371600"/>
            <a:chExt cx="7972200" cy="914400"/>
          </a:xfrm>
        </p:grpSpPr>
        <p:sp>
          <p:nvSpPr>
            <p:cNvPr id="566" name=""/>
            <p:cNvSpPr/>
            <p:nvPr/>
          </p:nvSpPr>
          <p:spPr>
            <a:xfrm>
              <a:off x="4971960" y="13716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42840" y="1828800"/>
              <a:ext cx="797220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435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720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788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332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1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719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136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428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915040" y="1828800"/>
              <a:ext cx="0" cy="4572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 flipV="1">
            <a:off x="857160" y="2666880"/>
            <a:ext cx="342900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400480" y="2666880"/>
            <a:ext cx="19713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514680" y="2666880"/>
            <a:ext cx="8571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7184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71840" y="2666880"/>
            <a:ext cx="111456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14200" y="5602320"/>
            <a:ext cx="5374440" cy="4597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BJECTS_DIR environment variab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4760" y="2666880"/>
            <a:ext cx="0" cy="12193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49480" y="4419720"/>
            <a:ext cx="135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whi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00880" y="447192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12000" y="4495680"/>
            <a:ext cx="203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l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sphere.r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286680" y="3885840"/>
            <a:ext cx="8571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143680" y="3885840"/>
            <a:ext cx="197136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3886200"/>
            <a:ext cx="1114200" cy="6094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801280" y="2666880"/>
            <a:ext cx="0" cy="60984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15520" y="312408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h.aparc_an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14760" y="109692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ubject I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448240" y="1219320"/>
            <a:ext cx="289584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xample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86080" y="1295280"/>
            <a:ext cx="701028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/Contrast (GLM Theory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012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design matrix cre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ou must still specify th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81160" indent="-28116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grated with tksurf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6440" y="65833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d00"/>
                </a:solidFill>
                <a:latin typeface="Times New Roman"/>
              </a:rPr>
              <a:t>Note: Can specify design matrix explicitly with --design</a:t>
            </a:r>
            <a:endParaRPr b="0" lang="en-US" sz="1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77680" y="601992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81160" y="4191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610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612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067000" y="1371600"/>
                <a:ext cx="14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10520" y="914400"/>
                <a:ext cx="119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394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actors, Levels, Groups, Clas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76600" y="1905120"/>
            <a:ext cx="86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0280" y="434340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680" y="1307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 –C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mt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5360" y="43423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69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4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8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689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97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smooth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81200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730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732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752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4991760" y="2286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5" name="" descr="qdec-design1.jpg"/>
          <p:cNvPicPr/>
          <p:nvPr/>
        </p:nvPicPr>
        <p:blipFill>
          <a:blip r:embed="rId1"/>
          <a:srcRect l="0" t="0" r="69341" b="22563"/>
          <a:stretch/>
        </p:blipFill>
        <p:spPr>
          <a:xfrm>
            <a:off x="723960" y="304920"/>
            <a:ext cx="3370320" cy="64008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4381560" y="990720"/>
            <a:ext cx="5638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oad QDEC Table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st of Factors (Discrete and Con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hoose Input (cached)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asure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uilds Contrast Matric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structs Human-Readable Ques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nalyz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isplays Resul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qdec-display.jpg"/>
          <p:cNvPicPr/>
          <p:nvPr/>
        </p:nvPicPr>
        <p:blipFill>
          <a:blip r:embed="rId1"/>
          <a:stretch/>
        </p:blipFill>
        <p:spPr>
          <a:xfrm>
            <a:off x="1104840" y="163440"/>
            <a:ext cx="723924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qdec-results2.jpg"/>
          <p:cNvPicPr/>
          <p:nvPr/>
        </p:nvPicPr>
        <p:blipFill>
          <a:blip r:embed="rId1"/>
          <a:stretch/>
        </p:blipFill>
        <p:spPr>
          <a:xfrm>
            <a:off x="952560" y="228600"/>
            <a:ext cx="85564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768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771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774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81360" y="533520"/>
            <a:ext cx="383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9760" y="137160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Subjects and Surface measu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and Contrasts (GL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990360"/>
            <a:ext cx="8163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The General Linear Model (GLM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0080" y="3581280"/>
            <a:ext cx="15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RF Amplitud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Q, Height, Weight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72680" y="5562720"/>
            <a:ext cx="23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ependent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2320" y="1143000"/>
            <a:ext cx="64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0080" y="2438280"/>
            <a:ext cx="15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iable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10680" y="2362320"/>
            <a:ext cx="4265640" cy="2967840"/>
            <a:chOff x="3010680" y="2362320"/>
            <a:chExt cx="4265640" cy="2967840"/>
          </a:xfrm>
        </p:grpSpPr>
        <p:sp>
          <p:nvSpPr>
            <p:cNvPr id="109" name=""/>
            <p:cNvSpPr/>
            <p:nvPr/>
          </p:nvSpPr>
          <p:spPr>
            <a:xfrm>
              <a:off x="3863160" y="2362320"/>
              <a:ext cx="0" cy="256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84080" y="4656240"/>
              <a:ext cx="3792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31960" y="2912760"/>
              <a:ext cx="0" cy="198036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73800" y="4145760"/>
              <a:ext cx="265500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73800" y="3187800"/>
              <a:ext cx="1042560" cy="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0000" y="3830400"/>
              <a:ext cx="0" cy="1100880"/>
            </a:xfrm>
            <a:prstGeom prst="line">
              <a:avLst/>
            </a:prstGeom>
            <a:ln w="284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4828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76320" y="49312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10680" y="3922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0680" y="29127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37640" y="30963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64960" y="4053960"/>
              <a:ext cx="189360" cy="183240"/>
            </a:xfrm>
            <a:prstGeom prst="ellipse">
              <a:avLst/>
            </a:prstGeom>
            <a:solidFill>
              <a:srgbClr val="da68ff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79760" y="24526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10000" y="3124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bject 2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686120" y="2743200"/>
            <a:ext cx="609480" cy="30492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905440" y="3505320"/>
            <a:ext cx="533520" cy="45720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14520" y="19051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ckne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54440" y="4419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19800" y="5486400"/>
            <a:ext cx="138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course, you’d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more then tw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s …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ear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95000" y="762120"/>
            <a:ext cx="4199400" cy="3218400"/>
            <a:chOff x="495000" y="762120"/>
            <a:chExt cx="4199400" cy="3218400"/>
          </a:xfrm>
        </p:grpSpPr>
        <p:sp>
          <p:nvSpPr>
            <p:cNvPr id="130" name=""/>
            <p:cNvSpPr/>
            <p:nvPr/>
          </p:nvSpPr>
          <p:spPr>
            <a:xfrm>
              <a:off x="723960" y="14479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57480" y="13716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465000">
              <a:off x="2018880" y="23612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3480" y="9144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39640" y="17528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000" y="7621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1760" y="31244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96080" y="1447920"/>
              <a:ext cx="3428280" cy="2532600"/>
              <a:chOff x="496080" y="1447920"/>
              <a:chExt cx="3428280" cy="253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1181160" y="14479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6600" y="33530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38360" y="19051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28880" y="29293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28880" y="21337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05400" y="26672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1048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77520" y="35816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6080" y="27435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6080" y="19051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62400" y="20577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29080" y="28530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V="1">
              <a:off x="2552760" y="22100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986000" y="990720"/>
            <a:ext cx="472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of Linear Equ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1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2 =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0000" y="4826160"/>
            <a:ext cx="180864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522040" y="2649600"/>
            <a:ext cx="3405600" cy="1572480"/>
            <a:chOff x="5522040" y="2649600"/>
            <a:chExt cx="3405600" cy="1572480"/>
          </a:xfrm>
        </p:grpSpPr>
        <p:grpSp>
          <p:nvGrpSpPr>
            <p:cNvPr id="154" name=""/>
            <p:cNvGrpSpPr/>
            <p:nvPr/>
          </p:nvGrpSpPr>
          <p:grpSpPr>
            <a:xfrm>
              <a:off x="5753160" y="3259080"/>
              <a:ext cx="3048840" cy="963000"/>
              <a:chOff x="5753160" y="3259080"/>
              <a:chExt cx="3048840" cy="96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5830200" y="3274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973560" y="3274920"/>
                <a:ext cx="892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afd00"/>
                    </a:solidFill>
                    <a:latin typeface="Times New Roman"/>
                  </a:rPr>
                  <a:t>1  x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753160" y="3328920"/>
                <a:ext cx="74520" cy="838080"/>
                <a:chOff x="5753160" y="3328920"/>
                <a:chExt cx="74520" cy="8380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7008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5316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5316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972120" y="3328920"/>
                <a:ext cx="74520" cy="838080"/>
                <a:chOff x="6972120" y="3328920"/>
                <a:chExt cx="74520" cy="838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98904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97212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7212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343720" y="3259080"/>
                <a:ext cx="458280" cy="947160"/>
                <a:chOff x="8343720" y="3259080"/>
                <a:chExt cx="458280" cy="947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345520" y="3259080"/>
                  <a:ext cx="4564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ff00"/>
                      </a:solidFill>
                      <a:latin typeface="Times New Roman"/>
                    </a:rPr>
                    <a:t>m</a:t>
                  </a:r>
                  <a:endParaRPr b="0" lang="en-US" sz="28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8343720" y="3313080"/>
                  <a:ext cx="74520" cy="838080"/>
                  <a:chOff x="8343720" y="3313080"/>
                  <a:chExt cx="74520" cy="8380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836064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34372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34372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8724600" y="3313080"/>
                  <a:ext cx="74520" cy="838080"/>
                  <a:chOff x="8724600" y="3313080"/>
                  <a:chExt cx="74520" cy="8380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V="1">
                    <a:off x="8782200" y="3313080"/>
                    <a:ext cx="0" cy="8380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>
                    <a:off x="8724600" y="331308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>
                    <a:off x="8724600" y="4151160"/>
                    <a:ext cx="745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7810200" y="3328920"/>
                <a:ext cx="74520" cy="838080"/>
                <a:chOff x="7810200" y="3328920"/>
                <a:chExt cx="74520" cy="83808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78678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810200" y="3328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7810200" y="416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86320" y="3328920"/>
                <a:ext cx="76320" cy="838080"/>
                <a:chOff x="6286320" y="3328920"/>
                <a:chExt cx="76320" cy="838080"/>
              </a:xfrm>
            </p:grpSpPr>
            <p:sp>
              <p:nvSpPr>
                <p:cNvPr id="180" name=""/>
                <p:cNvSpPr/>
                <p:nvPr/>
              </p:nvSpPr>
              <p:spPr>
                <a:xfrm flipV="1">
                  <a:off x="6345000" y="33289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6286320" y="33289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6286320" y="416700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439680" y="3465360"/>
                <a:ext cx="41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87600" y="3465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</a:rPr>
                  <a:t>*</a:t>
                </a:r>
                <a:endParaRPr b="0" lang="en-US" sz="32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522040" y="2649600"/>
              <a:ext cx="34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atrix Formulation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63520" y="4343400"/>
            <a:ext cx="359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Design Matri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Regression Coeffici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“betas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Intercepts and Slop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beta.mgh (mri_glmfit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8480" y="4749840"/>
            <a:ext cx="1274760" cy="947160"/>
            <a:chOff x="7908480" y="4749840"/>
            <a:chExt cx="1274760" cy="947160"/>
          </a:xfrm>
        </p:grpSpPr>
        <p:grpSp>
          <p:nvGrpSpPr>
            <p:cNvPr id="188" name=""/>
            <p:cNvGrpSpPr/>
            <p:nvPr/>
          </p:nvGrpSpPr>
          <p:grpSpPr>
            <a:xfrm>
              <a:off x="8724960" y="4749840"/>
              <a:ext cx="458280" cy="947160"/>
              <a:chOff x="8724960" y="4749840"/>
              <a:chExt cx="458280" cy="94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8726760" y="474984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8724960" y="4803840"/>
                <a:ext cx="74520" cy="838080"/>
                <a:chOff x="8724960" y="4803840"/>
                <a:chExt cx="74520" cy="8380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74188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72496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72496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9105840" y="4803840"/>
                <a:ext cx="74520" cy="838080"/>
                <a:chOff x="9105840" y="4803840"/>
                <a:chExt cx="74520" cy="838080"/>
              </a:xfrm>
            </p:grpSpPr>
            <p:sp>
              <p:nvSpPr>
                <p:cNvPr id="195" name=""/>
                <p:cNvSpPr/>
                <p:nvPr/>
              </p:nvSpPr>
              <p:spPr>
                <a:xfrm flipV="1">
                  <a:off x="9163440" y="480384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9105840" y="4803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9105840" y="56419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7908480" y="482580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87200" y="388620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tercept = Offs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02800" y="59436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bet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ypotheses and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720" y="106668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ckness correlated with Age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m = 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ll Hypothesis: H0: m=0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320" y="3276720"/>
            <a:ext cx="4199400" cy="3218400"/>
            <a:chOff x="571320" y="3276720"/>
            <a:chExt cx="4199400" cy="3218400"/>
          </a:xfrm>
        </p:grpSpPr>
        <p:sp>
          <p:nvSpPr>
            <p:cNvPr id="204" name=""/>
            <p:cNvSpPr/>
            <p:nvPr/>
          </p:nvSpPr>
          <p:spPr>
            <a:xfrm>
              <a:off x="800280" y="3962520"/>
              <a:ext cx="2971800" cy="228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333800" y="3886200"/>
              <a:ext cx="167652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 rot="21465000">
              <a:off x="2095200" y="4875840"/>
              <a:ext cx="457200" cy="380880"/>
            </a:xfrm>
            <a:prstGeom prst="rtTriangl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9800" y="3429000"/>
              <a:ext cx="180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Intercept: b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15960" y="4267440"/>
              <a:ext cx="14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00"/>
                  </a:solidFill>
                  <a:latin typeface="Times New Roman"/>
                </a:rPr>
                <a:t>Slope: m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320" y="3276720"/>
              <a:ext cx="12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icknes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78080" y="5639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72400" y="3962520"/>
              <a:ext cx="3428280" cy="2532600"/>
              <a:chOff x="572400" y="3962520"/>
              <a:chExt cx="3428280" cy="2532600"/>
            </a:xfrm>
          </p:grpSpPr>
          <p:sp>
            <p:nvSpPr>
              <p:cNvPr id="212" name=""/>
              <p:cNvSpPr/>
              <p:nvPr/>
            </p:nvSpPr>
            <p:spPr>
              <a:xfrm>
                <a:off x="1257480" y="3962520"/>
                <a:ext cx="0" cy="21337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2920" y="5867640"/>
                <a:ext cx="30477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14680" y="4419720"/>
                <a:ext cx="0" cy="164484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05200" y="5443920"/>
                <a:ext cx="213372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05200" y="4648320"/>
                <a:ext cx="838080" cy="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81720" y="5181840"/>
                <a:ext cx="0" cy="914400"/>
              </a:xfrm>
              <a:prstGeom prst="line">
                <a:avLst/>
              </a:prstGeom>
              <a:ln w="28440">
                <a:solidFill>
                  <a:srgbClr val="fd14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680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3840" y="6096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x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2400" y="525816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2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72400" y="44197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y1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38720" y="457236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5400" y="5367600"/>
                <a:ext cx="152280" cy="152280"/>
              </a:xfrm>
              <a:prstGeom prst="ellipse">
                <a:avLst/>
              </a:prstGeom>
              <a:solidFill>
                <a:srgbClr val="da68ff"/>
              </a:solidFill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2629080" y="4724640"/>
              <a:ext cx="91440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358400" y="2666880"/>
            <a:ext cx="2516760" cy="1343520"/>
            <a:chOff x="7358400" y="2666880"/>
            <a:chExt cx="2516760" cy="1343520"/>
          </a:xfrm>
        </p:grpSpPr>
        <p:sp>
          <p:nvSpPr>
            <p:cNvPr id="226" name=""/>
            <p:cNvSpPr/>
            <p:nvPr/>
          </p:nvSpPr>
          <p:spPr>
            <a:xfrm>
              <a:off x="7358400" y="2666880"/>
              <a:ext cx="201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m= [0 1]*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9337680" y="2819160"/>
              <a:ext cx="537480" cy="1191240"/>
              <a:chOff x="9337680" y="2819160"/>
              <a:chExt cx="537480" cy="1191240"/>
            </a:xfrm>
          </p:grpSpPr>
          <p:sp>
            <p:nvSpPr>
              <p:cNvPr id="228" name=""/>
              <p:cNvSpPr/>
              <p:nvPr/>
            </p:nvSpPr>
            <p:spPr>
              <a:xfrm>
                <a:off x="9339480" y="2819160"/>
                <a:ext cx="53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36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9337680" y="2895120"/>
                <a:ext cx="74520" cy="990720"/>
                <a:chOff x="9337680" y="2895120"/>
                <a:chExt cx="74520" cy="990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935460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9337680" y="3885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337680" y="28951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9794880" y="2895120"/>
                <a:ext cx="76320" cy="990720"/>
                <a:chOff x="9794880" y="2895120"/>
                <a:chExt cx="76320" cy="99072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9853560" y="2895120"/>
                  <a:ext cx="0" cy="990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9794880" y="289512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9794880" y="3885840"/>
                  <a:ext cx="763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7" name=""/>
          <p:cNvGrpSpPr/>
          <p:nvPr/>
        </p:nvGrpSpPr>
        <p:grpSpPr>
          <a:xfrm>
            <a:off x="7056720" y="4038480"/>
            <a:ext cx="3045600" cy="808200"/>
            <a:chOff x="7056720" y="4038480"/>
            <a:chExt cx="3045600" cy="808200"/>
          </a:xfrm>
        </p:grpSpPr>
        <p:sp>
          <p:nvSpPr>
            <p:cNvPr id="238" name=""/>
            <p:cNvSpPr/>
            <p:nvPr/>
          </p:nvSpPr>
          <p:spPr>
            <a:xfrm>
              <a:off x="7056720" y="4143240"/>
              <a:ext cx="3045600" cy="7034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 C*</a:t>
              </a:r>
              <a:r>
                <a:rPr b="0" lang="en-US" sz="4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</a:t>
              </a:r>
              <a:endParaRPr b="0" lang="en-US" sz="4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07280" y="40384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673240" y="502920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=[0 1]: Contrast Matri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698440" y="3962520"/>
            <a:ext cx="1274760" cy="947160"/>
            <a:chOff x="5698440" y="3962520"/>
            <a:chExt cx="1274760" cy="947160"/>
          </a:xfrm>
        </p:grpSpPr>
        <p:grpSp>
          <p:nvGrpSpPr>
            <p:cNvPr id="242" name=""/>
            <p:cNvGrpSpPr/>
            <p:nvPr/>
          </p:nvGrpSpPr>
          <p:grpSpPr>
            <a:xfrm>
              <a:off x="6514920" y="3962520"/>
              <a:ext cx="458280" cy="947160"/>
              <a:chOff x="6514920" y="3962520"/>
              <a:chExt cx="458280" cy="947160"/>
            </a:xfrm>
          </p:grpSpPr>
          <p:sp>
            <p:nvSpPr>
              <p:cNvPr id="243" name=""/>
              <p:cNvSpPr/>
              <p:nvPr/>
            </p:nvSpPr>
            <p:spPr>
              <a:xfrm>
                <a:off x="6516720" y="396252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514920" y="4016520"/>
                <a:ext cx="74160" cy="838080"/>
                <a:chOff x="6514920" y="4016520"/>
                <a:chExt cx="74160" cy="8380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5318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51492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51492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895800" y="4016520"/>
                <a:ext cx="74160" cy="838080"/>
                <a:chOff x="6895800" y="4016520"/>
                <a:chExt cx="74160" cy="83808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6953040" y="401652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6895800" y="401652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895800" y="4854600"/>
                  <a:ext cx="74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5698440" y="403848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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72480" y="1143000"/>
            <a:ext cx="3048840" cy="963000"/>
            <a:chOff x="6972480" y="1143000"/>
            <a:chExt cx="3048840" cy="963000"/>
          </a:xfrm>
        </p:grpSpPr>
        <p:sp>
          <p:nvSpPr>
            <p:cNvPr id="254" name=""/>
            <p:cNvSpPr/>
            <p:nvPr/>
          </p:nvSpPr>
          <p:spPr>
            <a:xfrm>
              <a:off x="7049520" y="1158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92880" y="1158840"/>
              <a:ext cx="89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1  x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972480" y="1212840"/>
              <a:ext cx="74520" cy="838080"/>
              <a:chOff x="6972480" y="1212840"/>
              <a:chExt cx="74520" cy="838080"/>
            </a:xfrm>
          </p:grpSpPr>
          <p:sp>
            <p:nvSpPr>
              <p:cNvPr id="257" name=""/>
              <p:cNvSpPr/>
              <p:nvPr/>
            </p:nvSpPr>
            <p:spPr>
              <a:xfrm>
                <a:off x="698940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7248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7248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8191440" y="1212840"/>
              <a:ext cx="74520" cy="838080"/>
              <a:chOff x="8191440" y="1212840"/>
              <a:chExt cx="74520" cy="838080"/>
            </a:xfrm>
          </p:grpSpPr>
          <p:sp>
            <p:nvSpPr>
              <p:cNvPr id="261" name=""/>
              <p:cNvSpPr/>
              <p:nvPr/>
            </p:nvSpPr>
            <p:spPr>
              <a:xfrm>
                <a:off x="820836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19144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9144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9563040" y="1143000"/>
              <a:ext cx="458280" cy="947160"/>
              <a:chOff x="9563040" y="1143000"/>
              <a:chExt cx="458280" cy="947160"/>
            </a:xfrm>
          </p:grpSpPr>
          <p:sp>
            <p:nvSpPr>
              <p:cNvPr id="265" name=""/>
              <p:cNvSpPr/>
              <p:nvPr/>
            </p:nvSpPr>
            <p:spPr>
              <a:xfrm>
                <a:off x="9564840" y="1143000"/>
                <a:ext cx="456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9563040" y="1197000"/>
                <a:ext cx="74520" cy="838080"/>
                <a:chOff x="9563040" y="1197000"/>
                <a:chExt cx="74520" cy="8380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957996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56304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56304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9943920" y="1197000"/>
                <a:ext cx="74520" cy="838080"/>
                <a:chOff x="9943920" y="1197000"/>
                <a:chExt cx="74520" cy="838080"/>
              </a:xfrm>
            </p:grpSpPr>
            <p:sp>
              <p:nvSpPr>
                <p:cNvPr id="271" name=""/>
                <p:cNvSpPr/>
                <p:nvPr/>
              </p:nvSpPr>
              <p:spPr>
                <a:xfrm flipV="1">
                  <a:off x="10001520" y="1197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>
                  <a:off x="9943920" y="119700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9943920" y="20350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9029520" y="1212840"/>
              <a:ext cx="74520" cy="838080"/>
              <a:chOff x="9029520" y="1212840"/>
              <a:chExt cx="74520" cy="83808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90871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9029520" y="12128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9029520" y="20509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505640" y="1212840"/>
              <a:ext cx="76320" cy="838080"/>
              <a:chOff x="7505640" y="1212840"/>
              <a:chExt cx="76320" cy="83808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7564320" y="1212840"/>
                <a:ext cx="0" cy="838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7505640" y="12128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505640" y="205092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7659000" y="1349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06920" y="134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*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41536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01280" y="2133720"/>
            <a:ext cx="0" cy="6094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01360" y="59436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i_glmfit output: gamma.mgh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10-01-21T20:40:32Z</dcterms:modified>
  <cp:revision>921</cp:revision>
  <dc:subject/>
  <dc:title>Understanding Differential Responses in fMRI Through Linear Simulation</dc:title>
</cp:coreProperties>
</file>