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75863" cy="756285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912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196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800" y="282240"/>
            <a:ext cx="86025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800" y="1963800"/>
            <a:ext cx="87660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800" y="4541760"/>
            <a:ext cx="87660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800" y="282240"/>
            <a:ext cx="86025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800" y="1963800"/>
            <a:ext cx="4277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1520" y="1963800"/>
            <a:ext cx="4277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800" y="4541760"/>
            <a:ext cx="4277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1520" y="4541760"/>
            <a:ext cx="4277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800" y="282240"/>
            <a:ext cx="86025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800" y="1963800"/>
            <a:ext cx="28224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3680" y="1963800"/>
            <a:ext cx="28224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67560" y="1963800"/>
            <a:ext cx="28224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800" y="4541760"/>
            <a:ext cx="28224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3680" y="4541760"/>
            <a:ext cx="28224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67560" y="4541760"/>
            <a:ext cx="28224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800" y="282240"/>
            <a:ext cx="86025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800" y="1963800"/>
            <a:ext cx="8766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800" y="282240"/>
            <a:ext cx="86025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800" y="1963800"/>
            <a:ext cx="8766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800" y="282240"/>
            <a:ext cx="86025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800" y="1963800"/>
            <a:ext cx="427752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1520" y="1963800"/>
            <a:ext cx="427752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800" y="282240"/>
            <a:ext cx="86025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800" y="282240"/>
            <a:ext cx="860256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800" y="282240"/>
            <a:ext cx="86025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800" y="1963800"/>
            <a:ext cx="4277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1520" y="1963800"/>
            <a:ext cx="427752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800" y="4541760"/>
            <a:ext cx="4277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800" y="282240"/>
            <a:ext cx="86025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800" y="1963800"/>
            <a:ext cx="427752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1520" y="1963800"/>
            <a:ext cx="4277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1520" y="4541760"/>
            <a:ext cx="4277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800" y="282240"/>
            <a:ext cx="86025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800" y="1963800"/>
            <a:ext cx="4277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1520" y="1963800"/>
            <a:ext cx="42775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800" y="4541760"/>
            <a:ext cx="87660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88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800" y="282240"/>
            <a:ext cx="86025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1963800"/>
            <a:ext cx="87660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1280" indent="-341280">
              <a:lnSpc>
                <a:spcPct val="8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741240" indent="-284040">
              <a:lnSpc>
                <a:spcPct val="88000"/>
              </a:lnSpc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1143000" indent="-228600">
              <a:lnSpc>
                <a:spcPct val="88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1600200" indent="-228600">
              <a:lnSpc>
                <a:spcPct val="88000"/>
              </a:lnSpc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2057400" indent="-228600">
              <a:lnSpc>
                <a:spcPct val="88000"/>
              </a:lnSpc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2057400" indent="-228600">
              <a:lnSpc>
                <a:spcPct val="88000"/>
              </a:lnSpc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2057400" indent="-228600">
              <a:lnSpc>
                <a:spcPct val="88000"/>
              </a:lnSpc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723960" y="7078680"/>
            <a:ext cx="935208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1986120" y="7291440"/>
            <a:ext cx="80899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754200" y="2557440"/>
            <a:ext cx="86040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5400" spc="-1" strike="noStrike">
                <a:solidFill>
                  <a:srgbClr val="000000"/>
                </a:solidFill>
                <a:latin typeface="Arial"/>
              </a:rPr>
              <a:t>Longitudinal FreeSurf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685800" y="4572000"/>
            <a:ext cx="4259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tin Re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685800" y="5257800"/>
            <a:ext cx="58975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MS/MGH/MIT Athinoula A. Martinos 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Biomedical Ima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73980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Accuracy of </a:t>
            </a:r>
            <a:r>
              <a:rPr b="1" i="1" lang="en-GB" sz="4400" spc="-1" strike="noStrike">
                <a:solidFill>
                  <a:srgbClr val="ff9966"/>
                </a:solidFill>
                <a:latin typeface="Arial"/>
              </a:rPr>
              <a:t>mri_robust_regis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normcomp_mprage_sonata.png"/>
          <p:cNvPicPr/>
          <p:nvPr/>
        </p:nvPicPr>
        <p:blipFill>
          <a:blip r:embed="rId1"/>
          <a:stretch/>
        </p:blipFill>
        <p:spPr>
          <a:xfrm>
            <a:off x="1379520" y="1343160"/>
            <a:ext cx="7318440" cy="54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73980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obust Templ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685800" y="1574640"/>
            <a:ext cx="876924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or N images we would like to ha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 common space (to be able to compare across time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 template image (mean/median) of all im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88000"/>
              </a:lnSpc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mon spa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or 2 this is the halfway space (sqrt of transform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or more image we need an iterative co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mpl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Fréchet Mean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each iteration we create a mean or median i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n register all images with this temp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ntil convergence is reac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or better performance: compute an approx. of th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inal location and use as initia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73980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obust Templ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3886200" y="137160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6840360" y="1371600"/>
            <a:ext cx="2075040" cy="2514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4"/>
          <a:stretch/>
        </p:blipFill>
        <p:spPr>
          <a:xfrm>
            <a:off x="3886200" y="4343400"/>
            <a:ext cx="2057400" cy="2514600"/>
          </a:xfrm>
          <a:prstGeom prst="rect">
            <a:avLst/>
          </a:prstGeom>
          <a:ln w="0">
            <a:noFill/>
          </a:ln>
        </p:spPr>
      </p:pic>
      <p:sp>
        <p:nvSpPr>
          <p:cNvPr id="88" name="Line 6"/>
          <p:cNvSpPr/>
          <p:nvPr/>
        </p:nvSpPr>
        <p:spPr>
          <a:xfrm>
            <a:off x="2057400" y="4343400"/>
            <a:ext cx="1600200" cy="914400"/>
          </a:xfrm>
          <a:prstGeom prst="line">
            <a:avLst/>
          </a:prstGeom>
          <a:ln w="3672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6397200" y="4343400"/>
            <a:ext cx="1606680" cy="914400"/>
          </a:xfrm>
          <a:prstGeom prst="line">
            <a:avLst/>
          </a:prstGeom>
          <a:ln w="3672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800600" y="3886200"/>
            <a:ext cx="1440" cy="457200"/>
          </a:xfrm>
          <a:prstGeom prst="line">
            <a:avLst/>
          </a:prstGeom>
          <a:ln w="3672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-336600" y="3859200"/>
            <a:ext cx="4451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1280" indent="-341280" algn="ctr">
              <a:lnSpc>
                <a:spcPct val="93000"/>
              </a:lnSpc>
              <a:spcAft>
                <a:spcPts val="7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igned Im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5149800" y="6400800"/>
            <a:ext cx="4451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1280" indent="-341280" algn="ctr">
              <a:lnSpc>
                <a:spcPct val="93000"/>
              </a:lnSpc>
              <a:spcAft>
                <a:spcPts val="7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I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73980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Advantages of Robust Templ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85800" y="1690560"/>
            <a:ext cx="87692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3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bias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space for comput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99960"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IV (ICV) estimation (as changes over time a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lurred out) and TIV should stay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99960"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kull stripping across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99960"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alairach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99960"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sis for non-uniformity corr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99960"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on component of the nonlinear regis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and: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ri_robust_temp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73980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Initializing Longitudinal Process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685800" y="1690560"/>
            <a:ext cx="87692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3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 all time points equivalently to avoid b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uld like to include some information that much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the anatomy is the same over time, but don’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nt to lose sensitivity to disease eff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orporate a Parzen window to use image intensit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ross time as a similarity measure (this amount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babilistic voting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ndow size of Parzen can be estimated directl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robust cross-time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73980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FreeSurfer Commands (recon-all)</a:t>
            </a:r>
            <a:r>
              <a:rPr b="1" i="1" lang="ar-SA" sz="4000" spc="-1" strike="noStrike">
                <a:solidFill>
                  <a:srgbClr val="ff9966"/>
                </a:solidFill>
                <a:latin typeface="Arial"/>
              </a:rPr>
              <a:t>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831960" y="1371600"/>
            <a:ext cx="8769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3000"/>
              </a:lnSpc>
              <a:spcAft>
                <a:spcPts val="726"/>
              </a:spcAft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Run everything cross sectionally (independently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ba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lag creates the robust temp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uns it through FreeSurf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1600200" y="2971800"/>
            <a:ext cx="7086600" cy="914400"/>
          </a:xfrm>
          <a:prstGeom prst="roundRect">
            <a:avLst>
              <a:gd name="adj" fmla="val 17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828800" y="2971800"/>
            <a:ext cx="68580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xi Sans"/>
              </a:rPr>
              <a:t>recon-all -base baseid -tp tp1id \ </a:t>
            </a:r>
            <a:r>
              <a:rPr b="1" lang="en-GB" sz="2800" spc="-1" strike="noStrike">
                <a:solidFill>
                  <a:srgbClr val="000000"/>
                </a:solidFill>
                <a:latin typeface="Luxi San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Luxi San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Luxi San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Luxi San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Luxi Sans"/>
              </a:rPr>
              <a:t> -tp tp2id ... -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31960" y="4010040"/>
            <a:ext cx="87692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Use base to initialize the 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udinal ru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1614600" y="4548240"/>
            <a:ext cx="7086600" cy="914400"/>
          </a:xfrm>
          <a:prstGeom prst="roundRect">
            <a:avLst>
              <a:gd name="adj" fmla="val 17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417680" y="4800600"/>
            <a:ext cx="72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1280" indent="-341280" algn="ctr">
              <a:lnSpc>
                <a:spcPct val="95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xi Sans"/>
              </a:rPr>
              <a:t>recon-all -</a:t>
            </a:r>
            <a:r>
              <a:rPr b="1" lang="en-GB" sz="2800" spc="-1" strike="noStrike">
                <a:solidFill>
                  <a:srgbClr val="000000"/>
                </a:solidFill>
                <a:latin typeface="Luxi Sans"/>
              </a:rPr>
              <a:t>long</a:t>
            </a:r>
            <a:r>
              <a:rPr b="1" lang="en-GB" sz="2800" spc="-1" strike="noStrike">
                <a:solidFill>
                  <a:srgbClr val="000000"/>
                </a:solidFill>
                <a:latin typeface="Luxi Sans"/>
              </a:rPr>
              <a:t> tpNid baseid -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831960" y="5591160"/>
            <a:ext cx="87692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3000"/>
              </a:lnSpc>
              <a:spcAft>
                <a:spcPts val="726"/>
              </a:spcAft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reates the directorie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pNid.long.base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 The stats of these runs can now be comp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73980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est-Rete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73166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73980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est-Retest (Bias)</a:t>
            </a:r>
            <a:r>
              <a:rPr b="1" i="1" lang="ar-SA" sz="4000" spc="-1" strike="noStrike">
                <a:solidFill>
                  <a:srgbClr val="ff9966"/>
                </a:solidFill>
                <a:latin typeface="Arial"/>
              </a:rPr>
              <a:t>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598760" y="1371600"/>
            <a:ext cx="73166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73980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imulated Atroph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4572000" cy="3438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349200" y="5943600"/>
            <a:ext cx="94806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1280" indent="-341280" algn="ctr">
              <a:lnSpc>
                <a:spcPct val="93000"/>
              </a:lnSpc>
              <a:spcAft>
                <a:spcPts val="7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oss sectional RED, longitudinal G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88000"/>
              </a:lnSpc>
              <a:spcAft>
                <a:spcPts val="7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ed atrophy was applied to the left hippocampus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49200" y="1631880"/>
            <a:ext cx="44514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1280" indent="-341280" algn="ctr">
              <a:lnSpc>
                <a:spcPct val="93000"/>
              </a:lnSpc>
              <a:spcAft>
                <a:spcPts val="7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ft Hippocamp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257800" y="1631880"/>
            <a:ext cx="44514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1280" indent="-341280" algn="ctr">
              <a:lnSpc>
                <a:spcPct val="93000"/>
              </a:lnSpc>
              <a:spcAft>
                <a:spcPts val="7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ht Hippocamp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73980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till to come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831960" y="1919160"/>
            <a:ext cx="876924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1371600"/>
            <a:ext cx="876924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3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Tests (especially with real atrophy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rove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99960"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on warps (non-line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99960"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tracranial Volum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99960"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tensity Norma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99960"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itial Surface Pla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99960"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pherical Regis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36520" y="4924440"/>
            <a:ext cx="9601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1280" indent="-341280" algn="ctr">
              <a:lnSpc>
                <a:spcPct val="93000"/>
              </a:lnSpc>
              <a:spcAft>
                <a:spcPts val="726"/>
              </a:spcAft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surfer.nmr.mgh.harvard.edu/fswiki/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ongitudinalProc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85800" y="5715000"/>
            <a:ext cx="876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3000"/>
              </a:lnSpc>
              <a:spcAft>
                <a:spcPts val="726"/>
              </a:spcAft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s to: the FreeSurfer Team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ally Bruce Fischl and Nick Schmans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73980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What can we do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685800" y="1143000"/>
            <a:ext cx="90900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e volume of cortical or subcortical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e thickness (locally) of the cortical she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dy differences of populations (diseased, control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3200400"/>
            <a:ext cx="8605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We'd like to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39800" y="3976560"/>
            <a:ext cx="90900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oit longitudinal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same subject, different time points)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73980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Why longitudinal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685800" y="1371600"/>
            <a:ext cx="909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duce intra-individual morphological vari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tect small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follow disease progression (atrophy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better estimate time to onse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.g. Huntington's disease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study effects of drug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73980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How can it be don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685800" y="1544760"/>
            <a:ext cx="8769240" cy="52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3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oid the problem of massive inter-subject anatomic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ri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each subject as their own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y unbiased w.r.t. any specific time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ngitudinal Desig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reate a template (base) as an initial guess fo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egmentation and reco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itialize each time point with the base to reduc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ariability in the optimization proces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or this we need a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bust registr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rigid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88000"/>
              </a:lnSpc>
              <a:spcAft>
                <a:spcPts val="726"/>
              </a:spcAft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mplat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73980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obust Regist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739800" y="1600200"/>
            <a:ext cx="8769240" cy="54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3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robust statisti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99960">
              <a:lnSpc>
                <a:spcPct val="88000"/>
              </a:lnSpc>
              <a:spcAft>
                <a:spcPts val="726"/>
              </a:spcAft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-estimato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99960">
              <a:lnSpc>
                <a:spcPct val="88000"/>
              </a:lnSpc>
              <a:spcAft>
                <a:spcPts val="726"/>
              </a:spcAft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ukey-Biweight to reduce influence of outl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99960">
              <a:lnSpc>
                <a:spcPct val="88000"/>
              </a:lnSpc>
              <a:spcAft>
                <a:spcPts val="726"/>
              </a:spcAft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olved with iterative re-weighted least squ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mmetric alignment in 'half way space'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(Gaussian Pyramid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initialization (moments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ly accurate registration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n with noise or outliers (B0 distortion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726"/>
              </a:spcAft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dient non-linearities, jaw movement, ...)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766800" y="457200"/>
            <a:ext cx="8605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obust Registration</a:t>
            </a:r>
            <a:br>
              <a:rPr sz="4000"/>
            </a:br>
            <a:r>
              <a:rPr b="1" i="1" lang="en-GB" sz="2800" spc="-1" strike="noStrike">
                <a:solidFill>
                  <a:srgbClr val="ff9966"/>
                </a:solidFill>
                <a:latin typeface="Arial"/>
              </a:rPr>
              <a:t>(c.f. Nestares and Heeger, 2000)</a:t>
            </a:r>
            <a:r>
              <a:rPr b="1" i="1" lang="ar-SA" sz="2800" spc="-1" strike="noStrike">
                <a:solidFill>
                  <a:srgbClr val="ff9966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208480" y="2743200"/>
            <a:ext cx="4518000" cy="338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4508640" cy="3382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228600" y="1828800"/>
            <a:ext cx="4572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741240" y="5943600"/>
            <a:ext cx="383076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770440" y="6172200"/>
            <a:ext cx="33735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key's Bi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741240" y="1963800"/>
            <a:ext cx="8769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85800" y="2030400"/>
            <a:ext cx="8915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341280" indent="-341280">
              <a:lnSpc>
                <a:spcPct val="93000"/>
              </a:lnSpc>
              <a:tabLst>
                <a:tab algn="l" pos="0"/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ontribution of error is limited for outli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73980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obust Regist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03320" y="1353960"/>
            <a:ext cx="3568680" cy="4361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5380200" y="1371600"/>
            <a:ext cx="3535200" cy="4343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741240" y="5943600"/>
            <a:ext cx="8769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ft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igned image with weights (red outlier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ight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ifferences of source and targ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73980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obust Regist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79520" y="1700280"/>
            <a:ext cx="4271760" cy="4370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5280120" y="1700280"/>
            <a:ext cx="4271760" cy="4370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741240" y="5943600"/>
            <a:ext cx="383076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486400" y="5943600"/>
            <a:ext cx="383076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739800" y="282600"/>
            <a:ext cx="8605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obust Regist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79520" y="1700280"/>
            <a:ext cx="4271760" cy="4370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280120" y="1700280"/>
            <a:ext cx="4271760" cy="4370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457200" y="5943600"/>
            <a:ext cx="45720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ered Src FSL FLI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486400" y="5943600"/>
            <a:ext cx="383076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01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ered Src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Reuter</dc:creator>
  <dc:description/>
  <dc:language>en-US</dc:language>
  <cp:lastModifiedBy>Guest-Admin</cp:lastModifiedBy>
  <dcterms:modified xsi:type="dcterms:W3CDTF">2010-01-22T00:49:30Z</dcterms:modified>
  <cp:revision>18</cp:revision>
  <dc:subject/>
  <dc:title>Longitudinal FS</dc:title>
</cp:coreProperties>
</file>