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829-273C-4653-8F23-00ED2518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AFA1-E9F3-4609-A306-423DC9E2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1DC-93EC-488F-A7BE-576F2EFE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50B-40EF-402A-A2A1-81E356A8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1C18-F3B7-422E-A00D-315408D2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D5F2-29A0-481D-8858-C2B5D95E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F703-FF44-48EF-86A3-E49D5DFE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FFAD-C626-4AD0-82CE-F0EAACAE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E21-6CAA-4561-939C-CF9189D6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67A-C5D3-4CE3-B63B-AA26A592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5C6-D10C-4F14-B52B-77B23208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873-DE17-482D-B60A-2EE4E7FA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0596-9D63-4931-8FCA-80B324C3A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upload.wikimedia.org/wikipedia/commons/8/82/Gyroscope_precession.gif" TargetMode="Externa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6360" y="71280"/>
            <a:ext cx="9159480" cy="6382080"/>
            <a:chOff x="-36360" y="71280"/>
            <a:chExt cx="9159480" cy="63820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rcRect l="0" t="0" r="0" b="11344"/>
            <a:stretch/>
          </p:blipFill>
          <p:spPr>
            <a:xfrm>
              <a:off x="-36360" y="71280"/>
              <a:ext cx="8970840" cy="638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8747280" y="5978520"/>
              <a:ext cx="375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5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91400" y="3014640"/>
            <a:ext cx="688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Group exerc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</a:rPr>
              <a:t>http://www.drcmr.dk/JavaCompass/BasicMRgroupwork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-27000"/>
            <a:ext cx="9180360" cy="6825960"/>
            <a:chOff x="0" y="-27000"/>
            <a:chExt cx="9180360" cy="68259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rcRect l="0" t="0" r="0" b="3134"/>
            <a:stretch/>
          </p:blipFill>
          <p:spPr>
            <a:xfrm>
              <a:off x="0" y="-27000"/>
              <a:ext cx="9180360" cy="645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Datei:Gyroscope precession.gif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500880" y="3906720"/>
              <a:ext cx="250344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47560" y="6354720"/>
              <a:ext cx="79898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300" spc="-1" strike="noStrike">
                  <a:solidFill>
                    <a:srgbClr val="ffffff"/>
                  </a:solidFill>
                  <a:latin typeface="Comic Sans MS"/>
                </a:rPr>
                <a:t>The difference is due to the rotation of the protons (spin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1:18:02Z</dcterms:created>
  <dc:creator>Lars G. Hanson</dc:creator>
  <dc:description/>
  <dc:language>en-US</dc:language>
  <cp:lastModifiedBy>Lars G. Hanson</cp:lastModifiedBy>
  <dcterms:modified xsi:type="dcterms:W3CDTF">2011-04-05T11:41:33Z</dcterms:modified>
  <cp:revision>5</cp:revision>
  <dc:subject/>
  <dc:title>Dias nummer 1</dc:title>
</cp:coreProperties>
</file>